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42.jpeg" ContentType="image/jpeg"/>
  <Override PartName="/ppt/media/image58.jpeg" ContentType="image/jpeg"/>
  <Override PartName="/ppt/media/image73.png" ContentType="image/pn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68.png" ContentType="image/pn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7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41.jpeg" ContentType="image/jpeg"/>
  <Override PartName="/ppt/media/image14.jpeg" ContentType="image/jpeg"/>
  <Override PartName="/ppt/media/image20.jpeg" ContentType="image/jpeg"/>
  <Override PartName="/ppt/media/image24.jpeg" ContentType="image/jpeg"/>
  <Override PartName="/ppt/media/image4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76.jpeg" ContentType="image/jpeg"/>
  <Override PartName="/ppt/media/image50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2.jpeg" ContentType="image/jpeg"/>
  <Override PartName="/ppt/media/image67.jpeg" ContentType="image/jpeg"/>
  <Override PartName="/ppt/media/image65.wmf" ContentType="image/x-wmf"/>
  <Override PartName="/ppt/media/image19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63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62.jpeg" ContentType="image/jpeg"/>
  <Override PartName="/ppt/media/image79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56.jpeg" ContentType="image/jpeg"/>
  <Override PartName="/ppt/media/image25.jpeg" ContentType="image/jpeg"/>
  <Override PartName="/ppt/media/image26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0B14-70F3-418A-AF02-1E07B250B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B45B-FD6D-42AC-A1E2-ACCD563B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CF8D-D284-47A3-8C7D-B31448202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AFF0-838D-4B9A-8C65-40EE60726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C6E3-410A-4847-B4BA-B941E834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DC9B-9EA6-462E-B653-5B3D52E1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D724-9451-44F2-A704-0E2E1F10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ABCF-B53A-4A5A-BA44-78BF917A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EC6E-5336-406E-AE89-4F6B2A69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008E-E3B4-40CC-A3A4-335C24C3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B696-26E4-47E9-B149-9230E56F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943B-8DD1-417C-BE33-6685B79D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CA25-28EF-49E4-875F-B58BF3AD34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5.wmf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image" Target="../media/image68.png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image" Target="../media/image72.jpeg"/><Relationship Id="rId6" Type="http://schemas.openxmlformats.org/officeDocument/2006/relationships/image" Target="../media/image73.png"/><Relationship Id="rId7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74.jpe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77.jpeg"/><Relationship Id="rId5" Type="http://schemas.openxmlformats.org/officeDocument/2006/relationships/image" Target="../media/image78.jpeg"/><Relationship Id="rId6" Type="http://schemas.openxmlformats.org/officeDocument/2006/relationships/image" Target="../media/image79.jpeg"/><Relationship Id="rId7" Type="http://schemas.openxmlformats.org/officeDocument/2006/relationships/image" Target="../media/image80.jpeg"/><Relationship Id="rId8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1332000" y="0"/>
            <a:ext cx="6191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57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反右派斗争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2195640" y="0"/>
            <a:ext cx="46479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58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大跃进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971640" y="0"/>
            <a:ext cx="7734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59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翻身农奴把歌唱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116000" y="0"/>
            <a:ext cx="6962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楷体_GB2312"/>
              </a:rPr>
              <a:t>1960</a:t>
            </a:r>
            <a:r>
              <a:rPr b="1" lang="zh-CN" sz="6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楷体_GB2312"/>
              </a:rPr>
              <a:t>年勇攀世界高峰</a:t>
            </a:r>
            <a:endParaRPr b="1" lang="en-US" sz="6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324000" y="333360"/>
            <a:ext cx="8505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61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搞一个实事求是年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0" y="404640"/>
            <a:ext cx="927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楷体_GB2312"/>
              </a:rPr>
              <a:t>1962</a:t>
            </a:r>
            <a:r>
              <a:rPr b="1" lang="zh-CN" sz="6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楷体_GB2312"/>
              </a:rPr>
              <a:t>年非常时期的非常办法</a:t>
            </a:r>
            <a:endParaRPr b="1" lang="en-US" sz="6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1258920" y="0"/>
            <a:ext cx="6962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63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石油基本自给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755640" y="0"/>
            <a:ext cx="7734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64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两弹一星建功勋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638280" y="6095880"/>
            <a:ext cx="8505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65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愚公移山改造中国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826920" y="0"/>
            <a:ext cx="7734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1966</a:t>
            </a: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年文化大革命开始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0" y="404640"/>
            <a:ext cx="9144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49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中国人民站起来了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684360" y="0"/>
            <a:ext cx="7734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1968</a:t>
            </a: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年扬子江上架钢虹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755640" y="0"/>
            <a:ext cx="7734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1969</a:t>
            </a: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年崇山深处汽车城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684360" y="0"/>
            <a:ext cx="7734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70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万里长江第一坝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0" y="0"/>
            <a:ext cx="8915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71</a:t>
            </a:r>
            <a:r>
              <a:rPr b="1" lang="zh-CN" sz="5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五星红旗在联合国升起</a:t>
            </a:r>
            <a:endParaRPr b="1" lang="en-US" sz="5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1908000" y="0"/>
            <a:ext cx="5419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72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破冰之旅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324000" y="0"/>
            <a:ext cx="8505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73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攻克杂交水稻难关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0" y="0"/>
            <a:ext cx="927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74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震惊世人的考古发现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684360" y="0"/>
            <a:ext cx="7734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75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大刀阔斧的整顿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1403280" y="0"/>
            <a:ext cx="6191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1976</a:t>
            </a: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年十月的胜利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1332000" y="0"/>
            <a:ext cx="6962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77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重启高考之门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50920" y="6095880"/>
            <a:ext cx="8505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50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抗美援朝保家卫国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1258920" y="0"/>
            <a:ext cx="6191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78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伟大的转折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1187280" y="333360"/>
            <a:ext cx="6963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1979</a:t>
            </a: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年创办经济特区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1547640" y="333360"/>
            <a:ext cx="6191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80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计划生育好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250920" y="404640"/>
            <a:ext cx="91440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81</a:t>
            </a:r>
            <a:r>
              <a:rPr b="1" lang="zh-CN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指导思想拨乱反正胜利完成</a:t>
            </a:r>
            <a:endParaRPr b="1" lang="en-US" sz="4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0" y="0"/>
            <a:ext cx="927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82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家庭联产承包责任制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250920" y="333360"/>
            <a:ext cx="8229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83</a:t>
            </a:r>
            <a:r>
              <a:rPr b="1" lang="zh-CN" sz="5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中央台首届春节晚会</a:t>
            </a:r>
            <a:endParaRPr b="1" lang="en-US" sz="5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468360" y="260280"/>
            <a:ext cx="800100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84</a:t>
            </a:r>
            <a:r>
              <a:rPr b="1" lang="zh-CN" sz="4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新中国参加洛杉矶奥运会</a:t>
            </a:r>
            <a:endParaRPr b="1" lang="en-US" sz="4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395280" y="189000"/>
            <a:ext cx="87487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85</a:t>
            </a:r>
            <a:r>
              <a:rPr b="1" lang="zh-CN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邓小平宣布裁军</a:t>
            </a:r>
            <a:r>
              <a:rPr b="1" lang="en-US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00</a:t>
            </a:r>
            <a:r>
              <a:rPr b="1" lang="zh-CN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万</a:t>
            </a:r>
            <a:endParaRPr b="1" lang="en-US" sz="4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611280" y="0"/>
            <a:ext cx="853272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1986</a:t>
            </a: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年</a:t>
            </a: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863</a:t>
            </a: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高科技发展计划开始实施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324000" y="260280"/>
            <a:ext cx="8505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楷体_GB2312"/>
              </a:rPr>
              <a:t>1987</a:t>
            </a: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楷体_GB2312"/>
              </a:rPr>
              <a:t>年大兴安岭特大火灾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68360" y="260280"/>
            <a:ext cx="8505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楷体_GB2312"/>
              </a:rPr>
              <a:t>1951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楷体_GB2312"/>
              </a:rPr>
              <a:t>年一定要把淮河修好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0" y="0"/>
            <a:ext cx="91440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88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价格闯关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30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中最大的一次经济失控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1692360" y="0"/>
            <a:ext cx="5419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楷体_GB2312"/>
              </a:rPr>
              <a:t>1989</a:t>
            </a: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楷体_GB2312"/>
              </a:rPr>
              <a:t>年希望工程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755640" y="260280"/>
            <a:ext cx="7734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90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上海证交所成立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0" y="0"/>
            <a:ext cx="927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1991</a:t>
            </a: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年秦山核电站并网发电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250920" y="0"/>
            <a:ext cx="867564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92</a:t>
            </a:r>
            <a:r>
              <a:rPr b="1" lang="zh-CN" sz="5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邓小平南巡并发表重要讲话</a:t>
            </a:r>
            <a:endParaRPr b="1" lang="en-US" sz="5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0" y="260280"/>
            <a:ext cx="9144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93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“汪辜会谈”两岸关系迈出历史性一步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0" y="260280"/>
            <a:ext cx="9155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94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全国足球甲</a:t>
            </a: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A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联赛开始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971640" y="0"/>
            <a:ext cx="773424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95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双休日成购物日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0" y="0"/>
            <a:ext cx="9144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96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我军在台湾海峡进行陆海空联合演习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0" y="0"/>
            <a:ext cx="914400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97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中国政府对香港恢复行使主权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755640" y="189000"/>
            <a:ext cx="77342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1952</a:t>
            </a: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年蜀道之难大改观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1403280" y="0"/>
            <a:ext cx="6962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98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全国抗洪救灾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0" y="0"/>
            <a:ext cx="9144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99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全国高校开始扩大招生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0" y="0"/>
            <a:ext cx="927720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楷体_GB2312"/>
              </a:rPr>
              <a:t>2000</a:t>
            </a: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楷体_GB2312"/>
              </a:rPr>
              <a:t>年反腐败斗争力度加大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395280" y="0"/>
            <a:ext cx="8748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2001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中国加入世界贸易组织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468360" y="5877000"/>
            <a:ext cx="88963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2003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众志成城 抗击非典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324000" y="189000"/>
            <a:ext cx="85057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楷体_GB2312"/>
              </a:rPr>
              <a:t>2004</a:t>
            </a: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楷体_GB2312"/>
              </a:rPr>
              <a:t>年三个代表写入宪法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324000" y="260280"/>
            <a:ext cx="8388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2005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神舟六号载人飞行圆满成功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0" y="0"/>
            <a:ext cx="9144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2006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农业税退出历史舞台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0" y="0"/>
            <a:ext cx="88916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2007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十届人大五次会议表决通过《物权法》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0" y="333360"/>
            <a:ext cx="927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53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向工业国的目标迈进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 txBox="1"/>
          <p:nvPr/>
        </p:nvSpPr>
        <p:spPr>
          <a:xfrm>
            <a:off x="1547640" y="0"/>
            <a:ext cx="6191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2008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北京奥运会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360360" y="2143800"/>
            <a:ext cx="802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建国六十年，祖国取得辉煌成就和巨大变化 </a:t>
            </a: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4878360" y="0"/>
            <a:ext cx="426564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-500040" y="260280"/>
            <a:ext cx="456732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ＧＤＰ年均增长８．１％，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位次跃升至世界第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３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位。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由低收入国家跃升至中等偏下收入国家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324000" y="189000"/>
            <a:ext cx="590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城乡居民储蓄增加２．５万倍，人民生活由贫困迈上总体小康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0" y="2205000"/>
            <a:ext cx="4140360" cy="41036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4154400" y="2205000"/>
            <a:ext cx="4932360" cy="346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324000" y="26028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财政收入增长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９８５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倍，有效提高了政府宏观调控能力</a:t>
            </a: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 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24000" y="1700280"/>
          <a:ext cx="8604000" cy="4665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700280"/>
                    <a:ext cx="8604000" cy="46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0" y="2602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粮食产量增长３．７倍，不仅解决了吃饭问题而且支撑工业化进程</a:t>
            </a: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 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1042920" y="1916280"/>
            <a:ext cx="6264360" cy="41655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684360" y="1628640"/>
            <a:ext cx="7775280" cy="51879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324000" y="260280"/>
            <a:ext cx="813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粗钢年产从１６万吨到５亿吨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成为世界制造业大国 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0" y="4446720"/>
            <a:ext cx="3376440" cy="24112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3564000" y="4203720"/>
            <a:ext cx="51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这种钢集刚强、柔韧特点于一体，保证了“鸟巢”在承受最大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46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兆帕的外力时不变形。这意味着如果北京遭遇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976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年唐山大地震一样的地震，“鸟巢”依然能保持原状。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>
            <a:off x="0" y="4362480"/>
            <a:ext cx="3456000" cy="249552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>
            <a:off x="0" y="1844640"/>
            <a:ext cx="3527280" cy="23986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5"/>
          <a:stretch/>
        </p:blipFill>
        <p:spPr>
          <a:xfrm>
            <a:off x="3635280" y="1844640"/>
            <a:ext cx="3311640" cy="24829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79280" y="189000"/>
            <a:ext cx="842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对外贸易增长２２６６倍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从封闭半封闭走向全方位开放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1700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１９５２年，我国外汇储备只有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１．３９亿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美元，２００８年为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１９４６０亿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美元。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0" y="3068640"/>
            <a:ext cx="4962600" cy="34495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076720" y="3429000"/>
            <a:ext cx="37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来自印度的客商在“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00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中国澄海国际玩具及工艺品博览会”上洽谈玩具生意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250920" y="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研发经费已占ＧＤＰ１．５２％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重大科技成果不断涌现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50920" y="1773360"/>
            <a:ext cx="8711640" cy="3959280"/>
            <a:chOff x="250920" y="1773360"/>
            <a:chExt cx="8711640" cy="3959280"/>
          </a:xfrm>
        </p:grpSpPr>
        <p:grpSp>
          <p:nvGrpSpPr>
            <p:cNvPr id="311" name=""/>
            <p:cNvGrpSpPr/>
            <p:nvPr/>
          </p:nvGrpSpPr>
          <p:grpSpPr>
            <a:xfrm>
              <a:off x="3059280" y="1773360"/>
              <a:ext cx="5903280" cy="3958920"/>
              <a:chOff x="3059280" y="1773360"/>
              <a:chExt cx="5903280" cy="3958920"/>
            </a:xfrm>
          </p:grpSpPr>
          <p:pic>
            <p:nvPicPr>
              <p:cNvPr id="31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059280" y="1773360"/>
                <a:ext cx="2867760" cy="395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094800" y="1773360"/>
                <a:ext cx="2867760" cy="3827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14" name="" descr=""/>
            <p:cNvPicPr/>
            <p:nvPr/>
          </p:nvPicPr>
          <p:blipFill>
            <a:blip r:embed="rId4"/>
            <a:stretch/>
          </p:blipFill>
          <p:spPr>
            <a:xfrm>
              <a:off x="250920" y="1773360"/>
              <a:ext cx="2744640" cy="3959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1042920" y="0"/>
            <a:ext cx="6962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54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登上国际舞台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826920" y="6095880"/>
            <a:ext cx="7734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55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社会主义大家庭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228600" y="333360"/>
            <a:ext cx="8915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1956</a:t>
            </a:r>
            <a:r>
              <a:rPr b="1" lang="zh-C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年庆祝社会主义改造完成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02:46:18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37:08Z</dcterms:modified>
  <cp:revision>1</cp:revision>
  <dc:subject>主题班会课件(分28大类): http://shop62905894.taobao.com</dc:subject>
  <dc:title>主题班会课件(分28大类): http://shop62905894.taobao.com</dc:title>
</cp:coreProperties>
</file>