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chimes.wav" ContentType="audio/x-wav"/>
  <Override PartName="/ppt/media/image4.jpeg" ContentType="image/jpeg"/>
  <Override PartName="/ppt/media/image23.jpeg" ContentType="image/jpeg"/>
  <Override PartName="/ppt/media/image20.gif" ContentType="image/gif"/>
  <Override PartName="/ppt/media/image21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890-AE50-45B0-A18A-8AE7F48D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91D-0934-453F-BECC-0647E1E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A01-CFE8-4630-9F80-5F38614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4C3-69B7-4AAC-B6DD-FA58694D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A47-D16C-41DA-BD23-1D6721FC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C64-F29C-4202-A481-D055F1D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4DB-7E01-4569-B004-067031E7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5A3-BDF3-4AB1-ACF6-87C6503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81B-6596-462B-80B2-EB605A79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A14-D19B-488B-9B10-8CC1EA0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9A4-37D0-40CF-9D98-710FE30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F3C-7F9D-4A8D-9CCD-55D2A8C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19DC-230C-49EA-97A0-F79272C816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sogou.com/sogoupedia?query=&#1010;%D1%F3%D1%F3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462000">
            <a:off x="1294920" y="2057040"/>
            <a:ext cx="7010640" cy="525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20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老师，您好！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76320" y="4836960"/>
            <a:ext cx="9220320" cy="202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33720" y="1371600"/>
            <a:ext cx="4572000" cy="3581280"/>
          </a:xfrm>
          <a:custGeom>
            <a:avLst/>
            <a:gdLst>
              <a:gd name="textAreaLeft" fmla="*/ 1074600 w 4572000"/>
              <a:gd name="textAreaRight" fmla="*/ 3494520 w 4572000"/>
              <a:gd name="textAreaTop" fmla="*/ 420840 h 3581280"/>
              <a:gd name="textAreaBottom" fmla="*/ 2246400 h 358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202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16360" y="1484280"/>
            <a:ext cx="3311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诗朗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914400"/>
            <a:ext cx="58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0"/>
                </a:solidFill>
                <a:latin typeface="楷体_GB2312"/>
                <a:ea typeface="楷体_GB2312"/>
              </a:rPr>
              <a:t>古今中外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0"/>
                </a:solidFill>
                <a:latin typeface="楷体_GB2312"/>
                <a:ea typeface="楷体_GB2312"/>
              </a:rPr>
              <a:t>哪个人的成长不浸透着教师的心血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0"/>
                </a:solidFill>
                <a:latin typeface="楷体_GB2312"/>
                <a:ea typeface="楷体_GB2312"/>
              </a:rPr>
              <a:t>地北天南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0"/>
                </a:solidFill>
                <a:latin typeface="楷体_GB2312"/>
                <a:ea typeface="楷体_GB2312"/>
              </a:rPr>
              <a:t>哪一项创造不蕴含着教师的辛劳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4160" y="907920"/>
            <a:ext cx="274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谁－－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无知的我们领进宽敞的教室，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给我们丰富的知识？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您！老师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您用辛勤的汗水，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哺育了春日刚破土的嫩苗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谁－－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调皮的我们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育成能体贴帮助别人的人？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您！老师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您的关怀就好似和煦的春风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温暖了我们的心灵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97640" y="981000"/>
            <a:ext cx="26190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谁－－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幼小的我们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培育成成熟懂事的少年？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您！老师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您的保护让我们健康成长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金秋时节结下硕果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您辛苦了！老师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酷暑严寒中辛勤工作的人们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您辛苦了！老师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青春无么奉献的人们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向您致以崇高的敬意！</a:t>
            </a:r>
            <a:br>
              <a:rPr sz="24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－您辛苦了，老师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1844640"/>
            <a:ext cx="82296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一份工整的作业就是给老师最好的礼物。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25360" y="395640"/>
            <a:ext cx="184824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秋高气爽节日到，落叶翩翩来祝贺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校园处处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喜洋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辛勤园丁好快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9600" y="2565360"/>
            <a:ext cx="2009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教师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156360"/>
            <a:ext cx="914400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219320" y="0"/>
            <a:ext cx="838188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838188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260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我也不知道为什么，那天早上一起床就忽然想到老师应该有自己的节日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教师节的最早创意人、中科院院士王梓坤教授这样说。 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　那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984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日，王教授当天就把这个想法告诉了《北京晚报》。第二天，《北京晚报》就刊出文章 《王梓坤校长建议开展尊师重教月活动》，引起了读者强烈反响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日，北师大钟敬文、启功、王梓坤、陶大镛、朱智贤、黄济、赵擎寰联名，正式提议设立教师节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98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日，第六届全国人大常委会第九次会议作出决议，将每年的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日定为教师节。 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　其实早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93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年，国民党政府曾规定６月６日为教师节，解放后废除了６月６日的教师节，改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五一国际劳动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同时为教师节，但教师没有单独活动，没有特点。而将教师节定在９月１０日是考虑到全国大、中、小学新学年开始，学校要有新的气象。新生入学伊始，即开始尊师重教，可以给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教师教好、学生学好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创造良好的气氛。１９８５年９月１０日，是中国恢复建立第一个教师节，而从此以年，老师便有了自己的节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0"/>
            <a:ext cx="4788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教师节的由来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006640" y="2946240"/>
            <a:ext cx="6324480" cy="10285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说说你心目中的老师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写给我们尊敬的老师：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7680"/>
            <a:ext cx="9144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教师节即将到来，在这特殊的日子里 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--------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向敬爱的老师说说心里话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师，我们对您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懂您。教师的心博大深遂，它包容着环卫工人的心；容着不得半点污秽和垃圾；它包容着航船舵手的心，无时无刻不关注着风向和航道；它包容着母亲的挚爱，园丁的职责，老顽童的天真、、、、、一切一切都是为学生奉献的心。我们的成绩中凝结着您的辛勤汗水，在成长的过程中也是您在为我们导航，严厉的责备是“恨铁不成钢”的关切，诲诲教导又是“望生成龙”的心愿，我们怎能否懂您呢？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师，我们对您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能由于我们的青春冲动总犯一些这样或那样的错误，现在请您原谅。课堂上开小差的我们，操场上乱跑乱撞的我们，有些坏毛病的我们在一天天长大，我们不再只会保证，而是要用行动证明自己将是您的好学生！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师，我们对您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希望与您建立和谐的师生关系，请您也对我们多些理解。课目的繁多，各科老师都会对我们加加压，有时真会力不从心的！偶而您也会凭主观来审视我们，让人“百话难言，百口难辩”。现代的中学生有着新的思想观念，对周边事物的看法也带着青春气息，我们需要的是您的理解和信任，渴望和您成为朋友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真挚的朋友。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师，我们对您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----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您在我们心中是永远燃不尽的蜡光。担负神圣职责的您在我们心中有着举足重轻的地位，我们感激您！在教师节，祝您身体健康，事业有成，万事如意，天天都有好心情！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66880" y="22860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教师节献礼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38880" y="48006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5400000">
            <a:off x="-1910520" y="2467440"/>
            <a:ext cx="4929480" cy="80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7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5000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华文中宋"/>
              </a:rPr>
              <a:t>送上精美地礼物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5000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3:37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5:57Z</dcterms:modified>
  <cp:revision>5</cp:revision>
  <dc:subject>主题班会课件(分28大类): http://shop62905894.taobao.com</dc:subject>
  <dc:title>主题班会课件(分28大类): http://shop62905894.taobao.com</dc:title>
</cp:coreProperties>
</file>