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gif" ContentType="image/gif"/>
  <Override PartName="/ppt/media/image11.gif" ContentType="image/gif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8.gif" ContentType="image/gif"/>
  <Override PartName="/ppt/media/image6.gif" ContentType="image/gif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2EE-4C6C-47BF-80EA-7BFF3DB9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A20-0A94-4770-9014-95EE346C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8F19-8817-435B-B760-3A9C7BDB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9FC-76F8-45B4-822C-42548AA0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EAD-2884-4C7A-AC80-27551D9A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BC9-2F1E-47E4-A586-25DA31D4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7EB-EB22-47EF-85EC-932259B6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6368-4261-41B9-B953-A2B32AD7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90C2-4974-4C82-BDF9-027792D8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2D1-47E5-4718-9D3D-E4F68BF2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56E-93ED-4327-949F-30ED2A65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65CC-C123-484B-9D5D-5EBD3DBD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5AC4-3D34-4C74-8253-03EB8E9BF0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600200" y="2714760"/>
            <a:ext cx="5562720" cy="33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6545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60520" y="3733920"/>
            <a:ext cx="1525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-76320"/>
            <a:ext cx="9144000" cy="6840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1322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772400" y="0"/>
            <a:ext cx="1371600" cy="1322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0" y="5343480"/>
            <a:ext cx="1828800" cy="151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1143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96080" y="1066680"/>
            <a:ext cx="1403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1360" y="5105520"/>
            <a:ext cx="7391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120" y="533520"/>
            <a:ext cx="7848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00000" y="2622600"/>
            <a:ext cx="84250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2:31:4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7:19Z</dcterms:modified>
  <cp:revision>1</cp:revision>
  <dc:subject>主题班会课件(分28大类): http://shop62905894.taobao.com</dc:subject>
  <dc:title>主题班会课件(分28大类): http://shop62905894.taobao.com</dc:title>
</cp:coreProperties>
</file>