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5B55-03EB-407E-B4F3-AE4CA3A1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375B-EF02-4B52-B76B-446AFDEE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6F3F-1A97-4622-A814-5CDAF208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1FE5-9680-49F2-ACCF-D93C3459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C67C-A022-485E-A901-755784BD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594C-F1AC-4DE5-A2B8-5272AA88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909D-6121-4E2A-99B8-99FB68A5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BACE-36DD-427F-A0A7-213BAC27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4D83-8DD5-4115-9D4C-80C93D26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3293-0F5C-48D2-AC29-9FE45C22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BD9A-D0DC-4C79-BD75-17205477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F5D3-5CF8-459A-93D4-765B948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3D73-F1BB-4D85-8731-6102C628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7F55-0E0E-47E7-8A40-0876D89A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D5BF-D297-494A-9F5B-DFA9CE8E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DBBA-8958-4B09-8C69-C69D7F75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0805-2DE2-4A01-B7E8-996C02B5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463FF-DDDC-457B-A981-1FE75B91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022AD-6FB7-420C-8D49-916A56E2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207F5-C7AC-4747-BBE7-DE07C436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7D1A6-7D5B-4012-B390-E11714C9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EB4AD-6F1D-4A17-9C6B-5A1046D4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1BDB-39E4-4C02-A1A4-42647AA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616CF-1506-466C-9E01-4D0CF85D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8A21D-69A3-49F8-82B8-DC8A93C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27762-7820-4893-94D2-7C77571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DD913-BAE9-47F3-A762-75CA3A0E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FA9BC-BDDF-48EC-B2B5-58696CE0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FF266-2B39-409C-9F44-D79E1D56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924E1-8B09-4DAE-8D3A-AA554703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7DD11-E8EE-402F-8BD4-15F47908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C8AE-8B52-4F37-A1A6-613F4F1B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BAE8-5E49-4CB2-A9BE-234D8F5D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9D3F-525A-499C-BEC8-27EF5C6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2506-17C2-4B24-BF33-EC9959AF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4262-2F4A-4115-A691-13BD0FDD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057C9-9081-4B3A-9B89-7D034C01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B6F30-5822-4876-B127-54D869B4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5394-22E2-402B-BFDA-8600BF58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FEC56-10A6-4C85-A8CC-9DAF1874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91E83-53FD-45FD-BA59-CB28F7D9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CAB8D-F397-4C17-95AC-C48640B8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FB07-7758-43B7-AFBB-728D3AE1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5660-E3E8-4DF7-847D-EFAEAFF4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2641-EF9F-4145-BDD1-F54105DC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F6A1-95E0-4CA6-AD9A-BC739FBF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8BD8F-E303-424E-BB72-E6AB9819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E0EA-2AFE-45EB-98C7-D71B1F6F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8B9D-7921-41B7-AD8D-F7CAEB9F15E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B81A-1789-429F-AADD-0B94D0A6C735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670-BD20-408A-9AFF-733312DA7E73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1D6C-314F-4EA8-AAE4-58FF5865CB80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92360" y="2421000"/>
            <a:ext cx="7200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2008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新年寄语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21844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改变心态，改变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796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年，在德国哥廷根大学，有一个很有数学天赋的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岁学生叫高斯。每天，高斯要做出老师布置的三道数学作业。这天，他顺利做完了前面的两道题，可是，第三道题，他做得非常吃力。这道题的要求是：只用圆规和一把没有刻度的直尺，画出一个正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边形，他用尽所学知识而毫无进展。于是，他尝试着用超常规的方法去解开这道数学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9152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二天，他把答案交给了导师。导师看过后，非常惊奇，问道：“这是你做出来的吗？”高斯回答：“是我用一个通宵做出来的。”导师激动地喊道：“你解开了一个有两千多年历史的数学悬案！”原来，多年来，这位导师一直试图解开这道题，而他把这道题误交给了高斯。高斯后来回忆说：“如果知道这道题两千年来无人能解，我可能永远也没有信心解开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这就是心态奇妙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814716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所以我想说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人的潜力是非常大的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你觉得自己能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你就一定能创造出奇迹来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咱班同学们的进步就能说明这一点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看跨跃式进步的赵鹏飞、闫浩杰、郭认认、孔英杰、董睿哲、杨森涛、鲁璐瑶、郑亚楠等。看稳步攀升的魏素芳、延广铭、周极颖、王康宁、王雪健、宋凯程、王震磊、张璨璨、刘怡航等等，在这儿我就不再一一说了。你们的进步是老师的最大欣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496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1125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其实人的一生没有多少机会是能够完全把握自己的命运的，高中是没有任何外界干扰的单纯时刻，所以我们应该拿我们的努力为自己打拼。我们应该心无杂念，任何事情在这个时候都远远不如学习重要，我们心里要是明白且坚守这个信念，我们就能自觉地努力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6192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隶书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、希望就在前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404640"/>
            <a:ext cx="8675640" cy="64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高中是非常变幻莫测的三年，三年中什么事情都有可能发生，你会发现很多人的名次、成绩都很不稳定地变化着。所以，成绩差一些的同学，只要你在这三年里把握住所有学习的时间和机会，你很有可能上升到前列；而成绩好的同学，如果你掉以轻心，也有落马的可能。放假前同学们的浮躁反映过来的问题也说明了这一点，有同学玩笑开得过了头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所以希望大家能够做一个文明的高一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班人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心静如水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保持高效率的学习状态，不断超越自己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3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我们的优势在哪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74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我们都有一颗强烈渴望升学的心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我们有团结向上不甘落后的群体意识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我们有较好的学习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我们有一群聪明伶利的生动活泼的高一（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）班的学生群体。因为外界都认为我们是活跃的班、聪明的班。我们同学们也不负众望，我们的成绩在稳步提高说明了这一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我们有一支负责的班干部队伍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我们还有一个坚强有力的教师队伍作后盾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147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一个学生，怎么提高学习效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关键要找到适合你自己的学习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什么样的学习方法才最有效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我说：适合你的方法，就是最有效率的方法。就是说，你需要了解别人的学习方法，但不是照搬，而是在别人方法的启发下，量身定制成适合自己的方法，才会产生最大的效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304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、要提高学习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一个高中学生，遇到不会做的题，原因可能不是出在高中，而是在初中某一个时刻欠了账。也许是某个概念没掌握好，也许是某个方法没运用熟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　有些学生一些概念不明白，没有学好，所以做题一遇到这个概念，老出错，而你再多做题也没有用。只有你把这个概念问题解决了，就没有问题了，就轻松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04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、要狠抓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280" y="1125360"/>
            <a:ext cx="7931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基本概念，要认真剖析，如果概念理解不深刻，不到位，会对后续的学习造成很多的困惑。学生不知道错在哪儿，根本也在概念理解不到位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好多同学就是在这些基本概念、基本技能和基本方法方面出了问题，又不明白为什么上不去。才导致了学习成绩的不提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4000" y="549360"/>
            <a:ext cx="8135640" cy="2165760"/>
          </a:xfrm>
          <a:prstGeom prst="rect">
            <a:avLst/>
          </a:prstGeom>
          <a:solidFill>
            <a:srgbClr val="ffff99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我们憧憬成功，因为我们拥有青春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所以我们敢想敢干。如果人生是海，青春就是浪花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一浪要高过一浪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 如今，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2008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年已向我们走来。新的一年，必将又是一个新的开端。我期待着你们在和谐的校园里快乐成长，期待着你们在更加广阔的天地中自由翱翔，更期待着你们早日成为国家的栋梁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252360" y="530064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31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年就这样悄悄的离开了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一年的结束标志人又长大一岁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对于我这个年龄的人来说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叫做向成熟又靠近了一步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在这样的一年中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我们在高一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班共同生活了半年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在这风风雨雨的半年中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我们有收获有失落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有开怀有痛苦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有成功的喜悦有失败的悲伤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即是平凡的半年又是有特别意义的半年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252360" y="530064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9640" y="436680"/>
            <a:ext cx="7993080" cy="44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00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，是过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，是现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010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，是将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于是，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00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成为起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种值得期待的历史转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今天你以学校为荣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明天学校以你为傲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ShockwaveFlash1"/>
          <p:cNvGraphicFramePr/>
          <p:nvPr/>
        </p:nvGraphicFramePr>
        <p:xfrm>
          <a:off x="250920" y="404640"/>
          <a:ext cx="7140600" cy="622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7140600" cy="622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940800" y="765000"/>
            <a:ext cx="16426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华文行楷"/>
                <a:ea typeface="华文行楷"/>
              </a:rPr>
              <a:t>&lt;&lt;</a:t>
            </a:r>
            <a:r>
              <a:rPr b="1" lang="zh-CN" sz="4800" spc="-1" strike="noStrike">
                <a:solidFill>
                  <a:srgbClr val="ff9900"/>
                </a:solidFill>
                <a:latin typeface="华文行楷"/>
                <a:ea typeface="华文行楷"/>
              </a:rPr>
              <a:t>真心英雄</a:t>
            </a:r>
            <a:r>
              <a:rPr b="1" lang="en-US" sz="4800" spc="-1" strike="noStrike">
                <a:solidFill>
                  <a:srgbClr val="ff9900"/>
                </a:solidFill>
                <a:latin typeface="华文行楷"/>
                <a:ea typeface="华文行楷"/>
              </a:rPr>
              <a:t>&gt;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740720" y="907920"/>
          <a:ext cx="874800" cy="4321440"/>
        </p:xfrm>
        <a:graphic>
          <a:graphicData uri="http://schemas.openxmlformats.org/drawingml/2006/table">
            <a:tbl>
              <a:tblPr/>
              <a:tblGrid>
                <a:gridCol w="874800"/>
              </a:tblGrid>
              <a:tr h="43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 rot="404400">
            <a:off x="899640" y="1628640"/>
            <a:ext cx="7488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班主任寄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200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已经到来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,200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年的希望就在眼前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当机会出现时要好好的把握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当挫折再次降临时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要勇敢的面对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当生命之花真的开放时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一定要好好的欣赏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希望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200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年高一（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）班是一个团结奋进的班集体，人才倍出的班集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147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在新的一年，我们有许许多多的事情要做，有许许多多的任务要去完成，我们将面临新的挑战和新的机遇。我以最诚挚的心意、用最吉祥的语言祝福你们，也祝福每一位同学，祝同学们美梦成真，学习进步，身体健康！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915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同学们，新年的阳光将洒在你们的身上，新年的春风将吹在你们的脸上，请坚信，老师都是爱自已的学生的，我将和你们同行，因为我对你们的爱是那么深沉和执着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相信在并不遥远的将来，你们的素养学识，你们的工作环境，你们的生活方式一定会远远超过你们的老师，这一点我始终坚信，我始终期待。因为，从给你们上第一堂课起，我就坚信不疑地认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你们都是好样的！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360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日子一天天流过，留下的只是我和你们一起成长的足迹。你们那善良的心灵、活泼的性格、好学的精神、调皮的鬼脸一直在陪伴着我，那将是我一生都无法抹去的记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忘不了同学们在军训场上的生龙活虎、飒爽英姿，在“教师节”为老师们献上的祝福，在运动会赛场上的奋力拼搏、欢呼雀跃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被同学们血浓于水的情谊而感动，为同学们取得的每一点进步而欣慰，你们的健康成长就是我最大的愿望和快乐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!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但也为咱班的困难补助没有办公平而遗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151128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日历上刚翻过去的那一页</a:t>
            </a:r>
            <a:r>
              <a:rPr b="1" lang="en-US" sz="44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记录着我们坚实的脚印</a:t>
            </a:r>
            <a:r>
              <a:rPr b="1" lang="en-US" sz="44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而那崭新的一页</a:t>
            </a:r>
            <a:r>
              <a:rPr b="1" lang="en-US" sz="44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等待我们用汗水来书写</a:t>
            </a:r>
            <a:r>
              <a:rPr b="1" lang="en-US" sz="4400" spc="-1" strike="noStrike">
                <a:solidFill>
                  <a:srgbClr val="0000cc"/>
                </a:solidFill>
                <a:latin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宋体"/>
              </a:rPr>
              <a:t> 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136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一直相信，快乐是乘法，我们分享快乐，大家都快乐。痛苦是除法，我们分摊痛苦，痛苦就减小一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同学们，日子每天都是新的，当今的世界迅猛发展，有太多的色彩和诱惑，更随时面临着竞争和挑战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你们正处在学知识、长身体的好时期，所以同学们要珍惜时光，把全部精力放在学习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71640" y="1844640"/>
            <a:ext cx="74880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2008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年我们应怎么办？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9396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72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  <a:ea typeface="隶书"/>
              </a:rPr>
              <a:t>1</a:t>
            </a: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隶书"/>
              </a:rPr>
              <a:t>、态度决定一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1268280"/>
            <a:ext cx="7993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大家可曾问过自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我为什么要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我为谁而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我的学习跟我的前途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我学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哪些东西是我终身受益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其实，当你想明白这五个问题后，就再也不用任何人督促你学习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218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我一直信奉一句话：“态度决定一切”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学业的最大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我说是心态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心态的关键是什么？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我说是自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一位哲人说：“你的心态就是你真正的主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其实，人与人之间并没有太大的区别，成功与否，快乐与否，很大程度上取决于你的心态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02:20:3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6:39Z</dcterms:modified>
  <cp:revision>10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