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3D6-818C-4545-980F-728DB48A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A81-CDF5-4CA4-BD1D-AA661662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EAB-F47D-4DF4-BA82-C36854DF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922-2336-400E-8C6F-7AB3397B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838-60D5-48B2-8644-7EEA2585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1B8-FCE8-47DB-85E7-6CDA6E55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58D-772C-4BA3-B242-3EBC470A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728-CFB7-4262-98C3-BD2697E9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9B7-6A3D-4D96-8E66-A877F710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C65-3E63-4B57-983B-35EFF705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202-806C-4ECF-AA7F-7C833E27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6F8-9E06-4CF2-B102-6223D397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F0A7-840B-4A24-BE90-CD7716ACA8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aike.baidu.com/view/15163.htm" TargetMode="External"/><Relationship Id="rId2" Type="http://schemas.openxmlformats.org/officeDocument/2006/relationships/hyperlink" Target="http://baike.baidu.com/view/5833.htm" TargetMode="External"/><Relationship Id="rId3" Type="http://schemas.openxmlformats.org/officeDocument/2006/relationships/hyperlink" Target="http://baike.baidu.com/view/45995.htm" TargetMode="External"/><Relationship Id="rId4" Type="http://schemas.openxmlformats.org/officeDocument/2006/relationships/hyperlink" Target="http://baike.baidu.com/view/494858.htm" TargetMode="External"/><Relationship Id="rId5" Type="http://schemas.openxmlformats.org/officeDocument/2006/relationships/hyperlink" Target="http://baike.baidu.com/view/2383.htm" TargetMode="External"/><Relationship Id="rId6" Type="http://schemas.openxmlformats.org/officeDocument/2006/relationships/hyperlink" Target="http://baike.baidu.com/view/553967.htm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604fc"/>
                </a:solidFill>
                <a:latin typeface="Arial"/>
                <a:ea typeface="幼圆"/>
              </a:rPr>
              <a:t>0907</a:t>
            </a:r>
            <a:r>
              <a:rPr b="1" lang="zh-CN" sz="4400" spc="-1" strike="noStrike">
                <a:solidFill>
                  <a:srgbClr val="1604fc"/>
                </a:solidFill>
                <a:latin typeface="Arial"/>
                <a:ea typeface="幼圆"/>
              </a:rPr>
              <a:t>中秋节主题班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每年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1"/>
              </a:rPr>
              <a:t>农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八月十五日，是传统的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/>
              </a:rPr>
              <a:t>中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佳节。这时是一年秋季的中期，所以被称为中秋。在中国的农历里，一年分为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/>
              </a:rPr>
              <a:t>四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，每季又分为孟、仲、季三个部分，因而中秋也称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4"/>
              </a:rPr>
              <a:t>仲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。八月十五的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5"/>
              </a:rPr>
              <a:t>月亮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比其他几个月的满月更圆，更明亮，所以又叫做“月夕”，“八月节”。此夜，人们仰望天空如玉如盘的朗朗明月，自然会期盼家人团聚。远在他乡的游子，也借此寄托自己对故乡和亲人的思念之情。所以，中秋又称“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6"/>
              </a:rPr>
              <a:t>团圆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1800" spc="-1" strike="noStrike">
                <a:solidFill>
                  <a:srgbClr val="d90de9"/>
                </a:solidFill>
                <a:latin typeface="Arial"/>
                <a:ea typeface="隶书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>
            <a:off x="6858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83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6083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66"/>
                </a:solidFill>
                <a:latin typeface="Arial"/>
              </a:rPr>
              <a:t>一天走了一里路。</a:t>
            </a:r>
            <a:br>
              <a:rPr sz="6600"/>
            </a:br>
            <a:r>
              <a:rPr b="1" lang="zh-CN" sz="6600" spc="-1" strike="noStrike">
                <a:solidFill>
                  <a:srgbClr val="ffff66"/>
                </a:solidFill>
                <a:latin typeface="Arial"/>
              </a:rPr>
              <a:t>（打一字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14600" y="3529080"/>
            <a:ext cx="41148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谜底：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必答题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560" y="914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</a:rPr>
              <a:t>十口之家户不满 </a:t>
            </a:r>
            <a:br>
              <a:rPr sz="7200"/>
            </a:br>
            <a:r>
              <a:rPr b="1" lang="zh-CN" sz="7200" spc="-1" strike="noStrike">
                <a:solidFill>
                  <a:srgbClr val="ffff66"/>
                </a:solidFill>
                <a:latin typeface="Arial"/>
              </a:rPr>
              <a:t>（打一字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44484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谜底：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必答题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</a:rPr>
              <a:t>空山之中一亩田 </a:t>
            </a:r>
            <a:br>
              <a:rPr sz="7200"/>
            </a:br>
            <a:r>
              <a:rPr b="1" lang="zh-CN" sz="7200" spc="-1" strike="noStrike">
                <a:solidFill>
                  <a:srgbClr val="ffff66"/>
                </a:solidFill>
                <a:latin typeface="Arial"/>
              </a:rPr>
              <a:t>（猜一字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529080"/>
            <a:ext cx="82296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谜底：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必答题四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666880" y="609480"/>
            <a:ext cx="3810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第二关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0" y="2666880"/>
            <a:ext cx="45720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抢答题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9760" y="1066320"/>
            <a:ext cx="6743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眼如铜铃，身象铁钉， 有翅无毛，有脚难行。（猜一动物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谜底： 蜻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抢答题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6705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不会走路有尖嘴，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会走长路没有腿。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每迈一步留脚印，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肚子饿了喝点水。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（打一学习用品）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谜底：钢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抢答题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一个婆婆园中站，</a:t>
            </a:r>
            <a:br>
              <a:rPr sz="5400"/>
            </a:b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身上挂满小鸡蛋，</a:t>
            </a:r>
            <a:br>
              <a:rPr sz="5400"/>
            </a:b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又有红来又有绿，</a:t>
            </a:r>
            <a:br>
              <a:rPr sz="5400"/>
            </a:b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既好吃来又好看。</a:t>
            </a:r>
            <a:br>
              <a:rPr sz="5400"/>
            </a:b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（猜一植物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谜底：枣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抢答题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9760" y="1066320"/>
            <a:ext cx="6743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米的妈妈是谁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因为花生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抢答题四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2" name=""/>
          <p:cNvSpPr/>
          <p:nvPr/>
        </p:nvSpPr>
        <p:spPr>
          <a:xfrm>
            <a:off x="2400480" y="39625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Times New Roman"/>
              </a:rPr>
              <a:t>答案：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9760" y="1066320"/>
            <a:ext cx="6743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米的爸爸是谁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因为蝶恋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抢答题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6" name=""/>
          <p:cNvSpPr/>
          <p:nvPr/>
        </p:nvSpPr>
        <p:spPr>
          <a:xfrm>
            <a:off x="2400480" y="39625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Times New Roman"/>
              </a:rPr>
              <a:t>答案：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00240" y="1066320"/>
            <a:ext cx="6743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一片全是草的地</a:t>
            </a:r>
            <a:br>
              <a:rPr sz="5400"/>
            </a:b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（猜一植物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谜底：梅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抢答题六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96120" y="9540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  <a:ea typeface="幼圆"/>
              </a:rPr>
              <a:t>               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  <a:ea typeface="幼圆"/>
              </a:rPr>
              <a:t>海上升明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9520" y="6094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  <a:ea typeface="幼圆"/>
              </a:rPr>
              <a:t>天涯共此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41112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0" y="707760"/>
            <a:ext cx="54612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Times New Roman"/>
                <a:ea typeface="宋体-方正超大字符集"/>
              </a:rPr>
              <a:t>同学们中秋节快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7299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00240" y="1066320"/>
            <a:ext cx="6743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儿童不宜</a:t>
            </a:r>
            <a:br>
              <a:rPr sz="5400"/>
            </a:b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（打一字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谜底：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抢答题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提问：猩猩最讨厌什么线？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4506840"/>
            <a:ext cx="76374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Arial"/>
              </a:rPr>
              <a:t>原因：平行线没有相交（香蕉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抢答题八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4290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Times New Roman"/>
              </a:rPr>
              <a:t>回答：平行线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9760" y="1066320"/>
            <a:ext cx="6743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古代的交通事故</a:t>
            </a:r>
            <a:br>
              <a:rPr sz="5400"/>
            </a:b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（打一成语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谜底：人仰马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抢答题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15998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提问：历史上哪个人跑的最快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50288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原因：说曹操曹操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抢答题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6576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Times New Roman"/>
              </a:rPr>
              <a:t>回答：曹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00240" y="1599840"/>
            <a:ext cx="6743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Arial"/>
              </a:rPr>
              <a:t>GAME OV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228600"/>
            <a:ext cx="3733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恭喜获胜的队伍，也谢谢同学们的参与。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其实，从刚才的活动中，我们也可以看到，有时只凭一个人的力量是做不成事的，需要我们大家一起努力才行，这就是团队的力量。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我们都是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0907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的精英，希望大家在以后的学习和生活中都能拧成一股绳，团结在老师及班委的周围，互相学习，互相帮助，将我们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0907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建成一个团结文明积极上进的先进班集体。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要让别人知道，我们不单个人是精英，我们的团队也是精英团队，大家说好不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1600200"/>
            <a:ext cx="7238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中秋来临，第一个想到的就是你，愿能在这中秋之际，与你共尝美味月饼，吃的同时也能尝到我们友情的宝贵喔   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    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仲秋佳节 欲与君团圆，独守空楼月圆人难圆。妾思君意缱绻，妾盼君心焦灼，祈君早日归共补月缺庆婵娟！  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    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中秋节 月十五，天下太平；月到中秋，全家拜月；宝塔灯，照照天地；花下藕，藕丝连连；红石榴，榴开见子；团圆饼，有情人团团圆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祝中秋快乐！  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    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中秋节 举头仰望《十五的月亮》，让《白月光》温柔地洒在你身上，想把《特别的爱给特别的你》，轻轻哼唱《月亮代表我的心》，你听得到吗？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6560" y="601560"/>
            <a:ext cx="16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d90de9"/>
                </a:solidFill>
                <a:latin typeface="Times New Roman"/>
                <a:ea typeface="幼圆"/>
              </a:rPr>
              <a:t>中秋赠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0979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457200"/>
            <a:ext cx="7620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秋节 小时候，妈妈是天空，长大了，我是妈妈的天空。中秋来临，妈妈在等，等我的问候，等我的微笑！祝愿天下妈妈：中秋节快乐，永远安康！  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   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秋节 中秋的喜悦渲染着美丽大地，月亮的柔美感动着灿烂星空。在这佳节来临的日子，我想借着圆月告诉你：认识你，真好！朋友，就是一生一世！ 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        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秋节 月亮是诗，星空是画，愿所有的幸福伴随你，问候是春，关心是夏，愿所有的朋友真心待你，温柔是秋，浪漫是冬，愿所有快乐跟随你。祝你中秋节快乐  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   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秋节 秋高秋爽秋日，恰逢双节，花好月圆今宵再度良夜。留意月下丝丝白云，许下我问候万千，陡增相思，祝愿你快乐一万年！ 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   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秋节 抬头望明月，低头思故人，虽然我很是想你，但我不会寂寞，因为我与你在分享同一轮明月。 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   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高秋爽秋日恰逢中秋，花好月园今宵再度良辰。留意月下丝丝白云，许是我问候万千。倍相思，祝你如意有佳。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1371600"/>
            <a:ext cx="6858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祝所有任课老师及同学们佳节快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057400" cy="3048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2057400"/>
            <a:ext cx="510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幼圆"/>
              </a:rPr>
              <a:t>台湾民谣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幼圆"/>
              </a:rPr>
              <a:t>：</a:t>
            </a:r>
            <a:br>
              <a:rPr sz="1800"/>
            </a:b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幼圆"/>
              </a:rPr>
              <a:t>《中秋旅思》 </a:t>
            </a:r>
            <a:br>
              <a:rPr sz="1800"/>
            </a:b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幼圆"/>
              </a:rPr>
              <a:t>孤影看分雁，千金念弊貂；故乡秋忆月，异国夜惊潮。</a:t>
            </a:r>
            <a:br>
              <a:rPr sz="1800"/>
            </a:b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幼圆"/>
              </a:rPr>
              <a:t>手未攀丹桂，以犹卷缘蕉；登楼悲作赋，西望海天遥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809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《中秋月》（宋）苏轼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暮云收尽溢清寒，银汉无声转玉盘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此生此夜不长好，明月明年何处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75438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74674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74674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46280" y="12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15360" y="990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幼圆"/>
              </a:rPr>
              <a:t>天子春朝日，秋夕月。朝日以朝，夕月以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72640" y="2811240"/>
            <a:ext cx="7290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同学们想一想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4320" y="696240"/>
            <a:ext cx="546120" cy="64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中秋节都有哪些美好的传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8720" y="806040"/>
            <a:ext cx="546120" cy="55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出几句与中秋有关的诗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13120" y="1101600"/>
            <a:ext cx="54612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有哪些中秋习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3200400" cy="2868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65480" y="2610000"/>
            <a:ext cx="22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同学们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这个是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11920" y="1371600"/>
            <a:ext cx="552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还等什么</a:t>
            </a:r>
            <a:r>
              <a:rPr b="0" i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,</a:t>
            </a:r>
            <a:r>
              <a:rPr b="0" i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让我们来欣赏同学们的精彩表演</a:t>
            </a: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吧</a:t>
            </a: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3200400" cy="2403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76320" y="6194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好吃的月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赛题目分必答和抢答两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答题每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，抢答题每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对得分，答错不扣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后以得分最高者胜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143000"/>
            <a:ext cx="6705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猜猜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666880" y="609480"/>
            <a:ext cx="3810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第一关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666880" y="3048120"/>
            <a:ext cx="4343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必答题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14360" y="1371240"/>
            <a:ext cx="6515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</a:rPr>
              <a:t>不是男孩</a:t>
            </a:r>
            <a:br>
              <a:rPr sz="7200"/>
            </a:br>
            <a:r>
              <a:rPr b="1" lang="zh-CN" sz="7200" spc="-1" strike="noStrike">
                <a:solidFill>
                  <a:srgbClr val="ffff66"/>
                </a:solidFill>
                <a:latin typeface="Arial"/>
              </a:rPr>
              <a:t>（打一字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3613320"/>
            <a:ext cx="54864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谜底：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228600"/>
            <a:ext cx="3733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猜猜看－－必答题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38:5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6:44Z</dcterms:modified>
  <cp:revision>1</cp:revision>
  <dc:subject>主题班会课件(分28大类): http://shop62905894.taobao.com</dc:subject>
  <dc:title>主题班会课件(分28大类): http://shop62905894.taobao.com</dc:title>
</cp:coreProperties>
</file>