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820C-EF78-4BCB-A654-392F4FA8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04E7-6A0E-4212-A05B-B10332B3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5B6-7054-45D0-8C6F-A20C3BD4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FCB-B398-49C9-824D-86A1B06B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6B36-50C3-40A2-801A-4B1A23D9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A54D-74BB-4D6A-A662-EB655E6D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CF4F-EE19-43FD-A094-70850312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0612-F673-4634-8418-5C342EC0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806A-8A1E-4871-8159-A3C0D97D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655C-4FA3-4834-846E-2A55D48D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EE36-899C-40AB-B955-A926EC4E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5238-31B6-439D-BEAA-88F8A49C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9C4B-6C37-489B-BAA7-CB65F1F1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E766-C9D6-4F4D-84B4-36D4B08D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6410-D8A8-4966-B7B7-AA48B1E5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13E8-BB66-4E72-AC0A-F75F41CF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E104-226F-44B9-897C-4DF6BAC6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4F4-7740-4D13-98C8-08F13CBE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9B6-8581-4690-B583-9D491FF7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CE10-3C7F-46CD-8428-EA9424E5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36B3-D103-43D1-B228-379F8B38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71D6-6E01-4329-ABED-D63201F6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9124-6AD3-44AD-AFF0-88D33CC0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81F-F289-4711-814D-7CC790CD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B7AB-3A03-412E-A6FE-C022E0D6876C}" type="slidenum">
              <a:rPr b="0" lang="zh-CN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65F6-FEF6-4FF9-8FFA-CBDB1F535F92}" type="slidenum">
              <a:rPr b="0" lang="zh-CN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news.sina.com.cn/china/nanjing/index.shtml" TargetMode="External"/><Relationship Id="rId3" Type="http://schemas.openxmlformats.org/officeDocument/2006/relationships/hyperlink" Target="http://news.sina.com.cn/china/nanjing/index.shtml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2362320"/>
            <a:ext cx="457200" cy="45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 rot="433800">
            <a:off x="324000" y="1267920"/>
            <a:ext cx="8153280" cy="229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2844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国耻家仇永不忘！</a:t>
            </a:r>
            <a:endParaRPr b="1" lang="en-US" sz="8000" spc="1" strike="noStrike">
              <a:ln w="28440">
                <a:solidFill>
                  <a:srgbClr val="ff99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63640" y="3645000"/>
            <a:ext cx="482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国耻家仇永难忘</a:t>
            </a:r>
            <a:r>
              <a:rPr b="0" lang="en-US" sz="40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!</a:t>
            </a:r>
            <a:endParaRPr b="0" lang="en-US" sz="40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522936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6360" y="494172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藳城一中</a:t>
            </a:r>
            <a:r>
              <a:rPr b="1" i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4—20</a:t>
            </a:r>
            <a:r>
              <a:rPr b="1" i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班纪念南京大屠杀主题班会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Tahoma"/>
              </a:rPr>
              <a:t>有相当一部分日本人，尤其是</a:t>
            </a:r>
            <a:r>
              <a:rPr b="0" lang="zh-CN" sz="2400" spc="-1" strike="noStrike">
                <a:solidFill>
                  <a:srgbClr val="990033"/>
                </a:solidFill>
                <a:latin typeface="Tahoma"/>
              </a:rPr>
              <a:t>50</a:t>
            </a:r>
            <a:r>
              <a:rPr b="0" lang="zh-CN" sz="2400" spc="-1" strike="noStrike">
                <a:solidFill>
                  <a:srgbClr val="990033"/>
                </a:solidFill>
                <a:latin typeface="Tahoma"/>
              </a:rPr>
              <a:t>岁以上的人，“满州”情结是根深蒂固的。日本有各种各样的以“满州”为内容的所谓民间组织，象什么“安东会”、“满州电业</a:t>
            </a:r>
            <a:r>
              <a:rPr b="0" lang="zh-CN" sz="2400" spc="-1" strike="noStrike">
                <a:solidFill>
                  <a:srgbClr val="990033"/>
                </a:solidFill>
                <a:latin typeface="Tahoma"/>
              </a:rPr>
              <a:t>·</a:t>
            </a:r>
            <a:r>
              <a:rPr b="0" lang="zh-CN" sz="2400" spc="-1" strike="noStrike">
                <a:solidFill>
                  <a:srgbClr val="990033"/>
                </a:solidFill>
                <a:latin typeface="Tahoma"/>
              </a:rPr>
              <a:t>养志会”、 “大连会”等々，不一而足。这些组织，每年都举行年会，发行会刊，组织旅游团到东北故地重游，会员之间的联系相当紧密。这些组织都有一本特殊的地图，凡我东北的大小城市，新旧地名，包括著名建筑物，都标的一清二楚，且年々更新。再看々日本在台湾问题上的言行，它也表现出与美国有很大的不同。日本对外国人的签证之严，世界少见，但他对台湾出身的，则亲切有加。用一般日本人的话讲，因为他们以前也是日本人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CECT</a:t>
            </a: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手机事件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CECT 928</a:t>
            </a: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的手机待机画面如下：（没有经过任何人为设置更改的新机！）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Hello Chow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06-02-13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中国移动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15772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Hello Chow    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喂 中国狗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7800" cy="4897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11280" y="531144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辆行驶在路上的丰田“霸道”引来路旁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狮的侧目，一只石狮还抬起右爪敬礼</a:t>
            </a:r>
            <a:r>
              <a:rPr b="0" lang="zh-CN" sz="36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ahoma"/>
              </a:rPr>
              <a:t>日本战败无条件投降后，我们给予了太多的宽容，这不仅没有让日本人感到反醒和愧疚，反而更加肆无忌惮，从修改教科书到修宪，从向海外派兵到叫嚣制造核武器，这实质上是向被侵略过的亚州国家和人民“精神动武”。如果日本右翼不灭，对于亚州国家来说诚如“庆父不死，鲁难未已”。 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ahoma"/>
              </a:rPr>
              <a:t>忘记过去就意味着背叛。再宽容也要守住不能放弃的底线，况且我们面对的不是为侵略行为忏悔而是贼心不死的觊觎者，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ahoma"/>
              </a:rPr>
              <a:t>日本政论家本泽二郎先生的一句话：“中国对日本的无原则让步，只会使中国人意志衰退，使日本人更加堕落。”一个日本人能说出这样的话来，掷地有声，值得我们警醒和深思。近些年来国内对日本侵略中国的血腥史实渐渐淡忘了，到了麻木与“助纣”的地步。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60" y="620640"/>
            <a:ext cx="8675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461440" cy="6193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987200" y="3344760"/>
            <a:ext cx="481356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《南京大屠杀》作者生前多次遭威胁受日本右翼分子恐吓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使得她不断变换电话号码　不敢透露丈夫和孩子信息</a:t>
            </a:r>
            <a:br>
              <a:rPr sz="2400"/>
            </a:b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张纯如说：“我相信最终真相将大白于天下。真相是不可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毁灭的，真相是没有国界的， 真相是没有政治倾向的。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们大家要同心协力，以确保真相被保存、被牢记。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使《南京大屠杀》那样的悲剧永不再发生。”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6408720" cy="597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682040" y="404640"/>
            <a:ext cx="85068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不听不看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00000" y="476280"/>
            <a:ext cx="1513080" cy="40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让悲剧不再重现</a:t>
            </a:r>
            <a:endParaRPr b="0" lang="en-US" sz="5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f8f8"/>
                </a:solidFill>
                <a:latin typeface="Times New Roman"/>
              </a:rPr>
              <a:t>                    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419640" y="549360"/>
            <a:ext cx="5410080" cy="57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6553440" cy="561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41360" y="907920"/>
            <a:ext cx="549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2003</a:t>
            </a: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年</a:t>
            </a: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9</a:t>
            </a: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月</a:t>
            </a: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18</a:t>
            </a: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日，九</a:t>
            </a: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·</a:t>
            </a: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一八事变</a:t>
            </a: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72</a:t>
            </a: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周年，国耻日。</a:t>
            </a: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380</a:t>
            </a: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多名日本男子在珠海一五星级酒店集体嫖娼，并放肆声称‘就是来玩中国姑娘的！’目击者称当晚竟然有来自“金色年华”夜总会的</a:t>
            </a: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200</a:t>
            </a: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多位‘小姐’陪侍，其恶劣程度实在令人发指……”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968720" cy="6165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00000" y="0"/>
            <a:ext cx="6013440" cy="6453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39640" y="0"/>
            <a:ext cx="7489800" cy="6381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热血飞溅，寒光闪烁。无绪的冤魂飘在寒风刺骨的长江边，钟山下，满怀悲愤却无能为力，只有揪心地聆听杀戮的惨叫，想离开，却不能，无奈的折磨，痛心的煎熬……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1937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年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12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月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13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日……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　　我们聆听着沉重，刻录着沉重。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570680" y="343080"/>
            <a:ext cx="5685120" cy="68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报南京专讯 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12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月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13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日，是南京人民祭奠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30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万亡灵的日子。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凄厉的警报声划破宁静长空。“便做长江都是泪，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流不尽许多愁”。撞响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6.6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吨重的和平大钟，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牢记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66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年前的耻辱，寄托全中国人民的哀思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月</a:t>
            </a:r>
            <a:r>
              <a:rPr b="1" lang="zh-CN" sz="2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13</a:t>
            </a:r>
            <a:r>
              <a:rPr b="1" lang="zh-CN" sz="2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日</a:t>
            </a: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是南京人、全国人，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乃至全人类的痛</a:t>
            </a: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　</a:t>
            </a: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上午</a:t>
            </a: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时整，随着</a:t>
            </a:r>
            <a:r>
              <a:rPr b="0" lang="zh-CN" sz="2000" spc="-1" strike="noStrike" u="sng">
                <a:solidFill>
                  <a:srgbClr val="00ffff"/>
                </a:solidFill>
                <a:uFillTx/>
                <a:latin typeface="Times New Roman"/>
                <a:hlinkClick r:id="rId2"/>
              </a:rPr>
              <a:t>警报声在凄厉的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ffff"/>
                </a:solidFill>
                <a:uFillTx/>
                <a:latin typeface="Times New Roman"/>
                <a:hlinkClick r:id="rId3"/>
              </a:rPr>
              <a:t>南京的上空响彻一片</a:t>
            </a: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时</a:t>
            </a: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67</a:t>
            </a: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年前的那场  沾满南京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30</a:t>
            </a: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万同胞鲜血的日本军旗，再次将南京人刺痛。然而就在昨天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警报声尚未消失时，记者忽然接到一个更令人伤痛的消息：位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于南京市河西区的金百盛百货批发市场内，竟有人在公开兜售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日本军旗昨天上午</a:t>
            </a: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11</a:t>
            </a: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时许，记者在金百盛百货批发市场一楼大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厅看到，一面绣有红色太阳图案，且向四周折射出红色光条的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日本军旗一下子刺痛了记者的双目。当记者询问是否听到警报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声时，一位小姐竟冲着记者说：“什么警报不警报的，现在的时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Times New Roman"/>
              </a:rPr>
              <a:t>间赚钱都忙不过来了。”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8</a:t>
            </a: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月</a:t>
            </a: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15</a:t>
            </a: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日——日本宣布无条件投降纪念日刚过，</a:t>
            </a: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9</a:t>
            </a: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月</a:t>
            </a: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8f8f8"/>
                </a:solidFill>
                <a:latin typeface="Tahoma"/>
              </a:rPr>
              <a:t>日——中国人民抗日战争暨世界反法西斯战争胜利纪念日马上就要到来，这个时候，在湖南省展览馆举行的一个专场招聘会上，日本侵略者曾经用过的带有耻辱色彩的“良民证”这一称呼，竟出现在招聘会场，并成为某公司录用员工的必须证件之一。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497800" cy="6418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9640" y="1916280"/>
            <a:ext cx="77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一个令人痛心的帖子</a:t>
            </a:r>
            <a:endParaRPr b="0" lang="en-US" sz="66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414972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朗诵者：张占龙  张康乐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541440" y="1268280"/>
            <a:ext cx="66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1052640"/>
            <a:ext cx="54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新宋体"/>
                <a:ea typeface="新宋体"/>
              </a:rPr>
              <a:t>来自北大校园网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905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71640" y="5493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华文新魏"/>
                <a:ea typeface="华文新魏"/>
              </a:rPr>
              <a:t>祈  祷</a:t>
            </a:r>
            <a:endParaRPr b="0" lang="en-US" sz="8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62280" y="1550160"/>
            <a:ext cx="32896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十二月的南京格外愤怒， 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们选择今天为死难的同胞， 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上一柱香。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让我们记住十二月的南京， 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每一个中国人都应该记住： 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记住泪，记住血，记住恨，记住仇！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--</a:t>
            </a: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74320" y="1700280"/>
            <a:ext cx="274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十二月的南京格外寒冷， 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们选择今天为死难的同胞， 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点一盏灯。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十二月的南京格外凄凉， 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们选择今天为死难的同胞， 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倒一杯酒。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十二月的南京格外悲痛， 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们选择今天为死难的同胞， 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敬一束花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ahoma"/>
              </a:rPr>
              <a:t>中日差距</a:t>
            </a:r>
            <a:endParaRPr b="0" lang="en-US" sz="8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1" lang="zh-CN" sz="8000" spc="-1" strike="noStrike">
                <a:solidFill>
                  <a:srgbClr val="ff0000"/>
                </a:solidFill>
                <a:latin typeface="Tahoma"/>
              </a:rPr>
              <a:t>之比较</a:t>
            </a:r>
            <a:endParaRPr b="0" lang="en-US" sz="8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24000" y="101808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中国的国土面积是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960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万平方公里，人口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13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亿。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日本的国土面积是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37.8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万平方公里，人口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1.3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亿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中国国土面积是日本的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25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倍，人口是日本的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倍。从版图和人口数量而言，中国的确是大中国，日本的确是小日本。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2003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年，按世界银行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2004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年《全球发展指标》统计，中国的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GDP116898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亿人民币，合美元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．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万亿美元，屈居全球第七位。日本的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GDP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却高达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．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万亿美元，傲列全球第二。小日本是大中国的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倍。 </a:t>
            </a:r>
            <a:br>
              <a:rPr sz="2400"/>
            </a:b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 </a:t>
            </a:r>
            <a:br>
              <a:rPr sz="2400"/>
            </a:b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2003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年，中国人均收入首次超过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1000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美元，接近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1080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美元；日本是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33077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美元，为中国的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31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倍。仅以人均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GDP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作为收入计，中国只相当于日本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1966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年的水平。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772400" cy="55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99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国近年来以引进外资多多为傲，然而日本却是全世界最大的债权国。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0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底，日本的海外总资产达到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2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亿美元，相当于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3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中国全部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GDP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3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倍，其制造业在海外的销售总额为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3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多亿美元，与中国的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GDP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当（唐淳风，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1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。如此强大的一个隐形的“海外日本”，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ff0000"/>
                </a:solidFill>
                <a:latin typeface="楷体_GB2312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中国的初级教育大约相当于日本</a:t>
            </a: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1900</a:t>
            </a: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年的水平，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落后</a:t>
            </a: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100</a:t>
            </a: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年；中等教育大约相当于日本</a:t>
            </a: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1910</a:t>
            </a: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年的水平，落后</a:t>
            </a: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90</a:t>
            </a: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年；高等教育大约相当于日本</a:t>
            </a: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1920</a:t>
            </a: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年的水平，落后</a:t>
            </a: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80</a:t>
            </a: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年。中国的教育经费只相当于日本</a:t>
            </a: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1920</a:t>
            </a: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年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左右的水平。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生活水平仅相当于日本“</a:t>
            </a: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60</a:t>
            </a: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年代”、消费支出只够吃喝的中国人往往在感觉中自己很富，并且经常会表现得大手大脚（如有人主张大</a:t>
            </a: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.</a:t>
            </a: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大办奥运会），而生活水平位居全球最高之列的日本人却经常在国际上哭穷，并且处处厉行节约，常常“小气”得惊人！   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99003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f8f8"/>
                </a:solidFill>
                <a:latin typeface="Tahoma"/>
              </a:rPr>
              <a:t>日本的人均资源也很贫乏，但日本人懂得通过优秀的加工而扬长避短。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921680" y="2268720"/>
            <a:ext cx="577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以单位能源每千克油当量的使用所产生的国内生产总值计，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中国大约是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0.7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美元，不仅低于发达国家，也低于印度等许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多发展中国家，而日本同样能源使用所产生的国内生产总值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却高达 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10.5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美元，为全球之冠，约相当于中国的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15</a:t>
            </a: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倍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4360" y="321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隶书"/>
                <a:ea typeface="隶书"/>
              </a:rPr>
              <a:t>从社会信用和国民素质看，日本人普遍被认为工作认真、讲求效率，守时、重信用、讲礼节；日本的企业亦以讲究信用、产品质量精良着称于世；在日本的大街小巷，你看不到垃圾，无论是走到拥挤的地铁，还是人头攒动的商场，地面都光洁如新，地铁的墙壁上也看不到乱写乱画的现象；日本人很少在公共场所抽烟和吃零食，更没有随地吐痰、随手扔垃圾的习惯；日本人遵守交通规则，无论是繁华的东京、大阪，还是古老的京都，大街上看不到一个交警，汽车、人流严格按红绿灯指示行动，一丝不苟。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804680" y="473040"/>
            <a:ext cx="5410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本还是世界上较为廉洁的国家之一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全球反腐败年度报告》，对世界各地区腐败形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势进行了评估。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国家和地区中，中国的清廉指数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分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与斯里兰卡和叙利亚并列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，日本却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于最清廉的前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国家之列。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765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日本人中获诺贝尔奖的人数已达到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人，中国仍是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0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2250720" y="2192760"/>
            <a:ext cx="466128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中国以进入世界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500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强为企业发展之可望不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可即的目标。而日本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1994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年的时候，在世界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500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强中的企业家数与美国平分秋色、并抱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揽全部第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4 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名，前十名当中，一大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半都是日本企业。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2003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年，日本企业在世界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500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强中仍高居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88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席之多。而中国只有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12 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席，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而且多是垄断型国有企业，最排前的是中石油，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名列第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69</a:t>
            </a:r>
            <a:r>
              <a:rPr b="0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名。 </a:t>
            </a:r>
            <a:br>
              <a:rPr sz="2800"/>
            </a:b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惨绝人寰的南京大屠杀虽已过去</a:t>
            </a:r>
            <a:r>
              <a:rPr b="0" lang="zh-CN" sz="36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67</a:t>
            </a:r>
            <a:r>
              <a:rPr b="0" lang="zh-CN" sz="36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年，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但是</a:t>
            </a:r>
            <a:r>
              <a:rPr b="0" lang="zh-CN" sz="36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30</a:t>
            </a:r>
            <a:r>
              <a:rPr b="0" lang="zh-CN" sz="36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多万死难者的亡魂却并未安息！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为什么</a:t>
            </a:r>
            <a:r>
              <a:rPr b="0" lang="zh-CN" sz="48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?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铁的事实被肇事国肆意纂改、歪曲！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064360" cy="6193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210040" y="3570480"/>
            <a:ext cx="475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李大钊同志曾经说过：“无限的过去都以现在为归宿，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限的未来都以现在为渊源。过去未来的中间，全仗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着现在，以成其连续，以成其永远，以成其无始无终的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实在。”作为世纪之交的新一代中学生，我们应该懂得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现在的努力对于过去和未来意味着什么，民族要振兴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祖国要发展，而这一切的一切，需要你，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我，需要我们每一位华夏儿女现在的努力！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11280" y="692280"/>
            <a:ext cx="8208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8f8f8"/>
                </a:solidFill>
                <a:latin typeface="Times New Roman"/>
                <a:ea typeface="华文行楷"/>
              </a:rPr>
              <a:t>结束语：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铭记历史，才能以史为鉴；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振兴中华，方能告慰亡魂！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楷体_GB2312"/>
                <a:ea typeface="华文行楷"/>
              </a:rPr>
              <a:t>最充分最成功的爱国，首先应是不让国耻重演，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楷体_GB2312"/>
                <a:ea typeface="华文行楷"/>
              </a:rPr>
              <a:t>并尽可能地洗刷国耻，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希望同学们永远牢记南京大屠杀的屈辱，</a:t>
            </a:r>
            <a:r>
              <a:rPr b="0" lang="zh-CN" sz="2800" spc="-1" strike="noStrike">
                <a:solidFill>
                  <a:srgbClr val="ff9900"/>
                </a:solidFill>
                <a:latin typeface="楷体_GB2312"/>
                <a:ea typeface="华文行楷"/>
              </a:rPr>
              <a:t>在今后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人生道路上，</a:t>
            </a:r>
            <a:r>
              <a:rPr b="0" lang="zh-CN" sz="2800" spc="-1" strike="noStrike">
                <a:solidFill>
                  <a:srgbClr val="ff9900"/>
                </a:solidFill>
                <a:latin typeface="楷体_GB2312"/>
                <a:ea typeface="华文行楷"/>
              </a:rPr>
              <a:t>埋下自强不息的种子，发愤图强，刻苦学习，报效祖国！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921280" y="404640"/>
            <a:ext cx="1521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猖狂的日本右翼势力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53722" b="0"/>
          <a:stretch/>
        </p:blipFill>
        <p:spPr>
          <a:xfrm>
            <a:off x="1258920" y="549360"/>
            <a:ext cx="4753080" cy="568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p:transition>
    <p:blinds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03640" y="333360"/>
            <a:ext cx="5473800" cy="6048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8800" y="836640"/>
            <a:ext cx="16426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8f8f8"/>
                </a:solidFill>
                <a:latin typeface="Times New Roman"/>
                <a:ea typeface="隶书"/>
              </a:rPr>
              <a:t>小泉参拜靖国神社</a:t>
            </a:r>
            <a:endParaRPr b="0" lang="en-US" sz="4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2781360"/>
            <a:ext cx="1295280" cy="503280"/>
          </a:xfrm>
          <a:prstGeom prst="rightArrow">
            <a:avLst>
              <a:gd name="adj1" fmla="val 50000"/>
              <a:gd name="adj2" fmla="val 64342"/>
            </a:avLst>
          </a:prstGeom>
          <a:solidFill>
            <a:srgbClr val="6699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99600" y="350280"/>
            <a:ext cx="1697040" cy="6738840"/>
            <a:chOff x="399600" y="350280"/>
            <a:chExt cx="1697040" cy="6738840"/>
          </a:xfrm>
        </p:grpSpPr>
        <p:sp>
          <p:nvSpPr>
            <p:cNvPr id="126" name=""/>
            <p:cNvSpPr/>
            <p:nvPr/>
          </p:nvSpPr>
          <p:spPr>
            <a:xfrm>
              <a:off x="399600" y="350280"/>
              <a:ext cx="911520" cy="67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8f8f8"/>
                  </a:solidFill>
                  <a:latin typeface="Arial"/>
                  <a:ea typeface="华文新魏"/>
                </a:rPr>
                <a:t>德国总理下跪谢罪</a:t>
              </a:r>
              <a:endParaRPr b="0" lang="en-US" sz="4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33360" y="1890720"/>
              <a:ext cx="863280" cy="0"/>
            </a:xfrm>
            <a:prstGeom prst="line">
              <a:avLst/>
            </a:prstGeom>
            <a:ln w="12708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79640" y="476280"/>
            <a:ext cx="6624720" cy="5905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354480" y="4632120"/>
            <a:ext cx="423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：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知耻者近乎勇。”敢于直面历史，对自己的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错进行反省，这是一个民族正直、成熟和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勇气的表现，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ahoma"/>
                <a:ea typeface="楷体_GB2312"/>
              </a:rPr>
              <a:t>篡改教科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ahoma"/>
              </a:rPr>
              <a:t>日本历史教科书的关键是美化日本军国主义发动的侵略战争，为侵略战争翻案。教科书对侵略战争非但没有忏悔之意，反而以“救世主”自居，妄称发动“大东亚战争”的目的是“自存自卫”和“把亚洲从欧美统治下解放出来，从而建立大东亚共荣圈”，赤裸裸地美化日本的殖民统治。教科书用“强盗逻辑”来诠释其侵略战争，认为战争就意味着杀人，“日本也不例外”，言外之意是日本在战争中杀人是顺理成章的。凡此种种混淆是非、颠倒黑白的论调，都试图为罪恶累累的侵略历史遮上一层“美丽的面纱”而蒙骗后人，从而达到为侵略战争历史翻案的目的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ahoma"/>
              </a:rPr>
              <a:t>篡改教科书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f8f8"/>
                </a:solidFill>
                <a:latin typeface="Tahoma"/>
              </a:rPr>
              <a:t>在东方，日本的极右翼势力则普遍认为：日本是第二次世界大战的受害者，而不是加害者。他们常挂在嘴边的有这样几条：第一，否认日本发动战争的侵略性质。他们坚持“大东亚战争是圣战”，目的是把所有亚洲人从白人优越论者手中救出来”。第二，拒绝承认在战争中犯下的法西斯罪行。他们矢口否认南京大屠杀的事实，认为是“历史的谎言”，是“ </a:t>
            </a:r>
            <a:r>
              <a:rPr b="0" lang="zh-CN" sz="2000" spc="-1" strike="noStrike">
                <a:solidFill>
                  <a:srgbClr val="f8f8f8"/>
                </a:solidFill>
                <a:latin typeface="Tahoma"/>
              </a:rPr>
              <a:t>20</a:t>
            </a:r>
            <a:r>
              <a:rPr b="0" lang="zh-CN" sz="2000" spc="-1" strike="noStrike">
                <a:solidFill>
                  <a:srgbClr val="f8f8f8"/>
                </a:solidFill>
                <a:latin typeface="Tahoma"/>
              </a:rPr>
              <a:t>世纪最大的谎言”，说“慰安妇”是“一个错误的用语”。第三，无视亚洲成千万倒在日本屠刀下的无辜牺牲者，说“日本也有 </a:t>
            </a:r>
            <a:r>
              <a:rPr b="0" lang="zh-CN" sz="2000" spc="-1" strike="noStrike">
                <a:solidFill>
                  <a:srgbClr val="f8f8f8"/>
                </a:solidFill>
                <a:latin typeface="Tahoma"/>
              </a:rPr>
              <a:t>300</a:t>
            </a:r>
            <a:r>
              <a:rPr b="0" lang="zh-CN" sz="2000" spc="-1" strike="noStrike">
                <a:solidFill>
                  <a:srgbClr val="f8f8f8"/>
                </a:solidFill>
                <a:latin typeface="Tahoma"/>
              </a:rPr>
              <a:t>万同胞之死”，认为日本是唯一受原子弹袭击的国家。日本极右翼势力这种变“加害者”为“受害者”的论调，使许许多多的日本公众，特别是日本的年轻一代，陷入对自己历史的模糊认识中。</a:t>
            </a:r>
            <a:r>
              <a:rPr b="0" lang="zh-CN" sz="2000" spc="-1" strike="noStrike">
                <a:solidFill>
                  <a:srgbClr val="f8f8f8"/>
                </a:solidFill>
                <a:latin typeface="Tahoma"/>
              </a:rPr>
              <a:t>2000</a:t>
            </a:r>
            <a:r>
              <a:rPr b="0" lang="zh-CN" sz="2000" spc="-1" strike="noStrike">
                <a:solidFill>
                  <a:srgbClr val="f8f8f8"/>
                </a:solidFill>
                <a:latin typeface="Tahoma"/>
              </a:rPr>
              <a:t>年初，以公布日记形式揭露日军在华罪行的侵华老兵东史郎败诉，日本最高法院维持东京高等法院判决，认定东史郎“捏造事实、侵犯他人名誉”有罪，并罚款 </a:t>
            </a:r>
            <a:r>
              <a:rPr b="0" lang="zh-CN" sz="2000" spc="-1" strike="noStrike">
                <a:solidFill>
                  <a:srgbClr val="f8f8f8"/>
                </a:solidFill>
                <a:latin typeface="Tahoma"/>
              </a:rPr>
              <a:t>50</a:t>
            </a:r>
            <a:r>
              <a:rPr b="0" lang="zh-CN" sz="2000" spc="-1" strike="noStrike">
                <a:solidFill>
                  <a:srgbClr val="f8f8f8"/>
                </a:solidFill>
                <a:latin typeface="Tahoma"/>
              </a:rPr>
              <a:t>万日元。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9640" y="134100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ahoma"/>
              </a:rPr>
              <a:t>钓鱼岛事件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02:02:1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43:24Z</dcterms:modified>
  <cp:revision>191</cp:revision>
  <dc:subject>主题班会课件(分28大类): http://shop62905894.taobao.com</dc:subject>
  <dc:title>主题班会课件(分28大类): http://shop62905894.taobao.com</dc:title>
</cp:coreProperties>
</file>