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92E-4821-47B9-B62F-D96E5677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A07-8F59-47D0-A905-5E65E1ED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CFD-6D5D-4399-B2ED-D2FBBAE7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D41-C859-43E6-B9B4-AA7347F1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E1D2-CD25-4BB4-9FC0-35E89154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7418-6BB5-4251-A268-89DA3BA8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4A3C-EF82-4510-B1E7-6FEE7CF3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3EB1-EBD7-4709-AD15-E52079AD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43CB-D5E7-4735-8C2A-5CD8CE68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5A1C-99F8-40FD-B168-CB27EF79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5238-0AAF-4EBF-A9B9-B6433243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F2C-4D5B-4B62-8223-E011E2EB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9D04-6255-4EDF-B858-1B7B02D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273B-F139-4FD3-9CD4-96254FC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8919-C356-4748-B045-66637B2C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FE64-4A11-48A3-8E83-DC9D2B53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7667-DC56-4632-99E2-D7F2F26D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139-032B-4741-9C2E-7840296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A24-12AE-4965-9958-BFB95D2A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A14-73EB-4AB7-8647-3DCEFB53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131-61D3-4F3B-916C-20260D8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5CE-D866-4036-9BAD-850F892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586-0D0F-418B-A185-1E03AB20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B71-6FDD-409F-BCCF-9537669C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F147-640F-4768-8F79-AE62225FA5D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5D34-38E9-443F-876A-9162B53E83F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让生命之花绽放光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----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教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四：自杀对家人意味着什么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例自杀，平均至少对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个人产生严重的不良影响，造成的心理伤害持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例自杀未遂至少可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个人受到严重影响，造成的心理伤害持续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个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五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自杀的步骤和征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自杀三步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第一步：自杀意念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第二步：激烈冲突与呼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产生了自杀意念后，由于求生的本能会使打算自杀的人陷入生与死的矛盾冲突之中，从而表现出谈论自杀，暗示自杀等直接或间接表现自杀企图的信号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第三步：自杀的实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计自杀的方案，选择自杀的方式，并再次向外界呼救，最后实施实施自杀行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自杀的征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性格突然发生巨大变化。平时很内向的人突然变得非常热情，多话；而平时活泼热情，很外向的人却突然变得无精打采，郁郁寡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无希望感，强烈的罪恶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失眠和瞌睡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经常讨论生死问题，企图从哲学的角度说明自杀的合理性。在口头上经常说：“我觉得活的没意义”，“死真是一种解脱”，“我不会久在这里了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反常的行为，让人莫名其妙的行为。比如会毫无原因地请别人吃饭或送一些礼物给别人，说一些祝福的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在一段消沉之后突然的改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：整理物品，研究药物的效果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384720" cy="1865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1440" y="2276640"/>
            <a:ext cx="285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我看到了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10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恩爱著称的阿呆夫妇正在互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664000" cy="172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987640" y="4724280"/>
            <a:ext cx="2664000" cy="1729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364000" y="260280"/>
            <a:ext cx="288144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250920" y="2565360"/>
            <a:ext cx="3095640" cy="1800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8920" y="2205000"/>
            <a:ext cx="304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我看到了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9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平常坚强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Peter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正在偷偷哭泣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55480" y="4437000"/>
            <a:ext cx="200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7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丹丹在吃她的抗忧郁症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73920" y="6583320"/>
            <a:ext cx="263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6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失业的阿喜还是每天买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份报找工作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9520" y="4437000"/>
            <a:ext cx="262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8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阿妹发现未婚夫跟最好的朋友在床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736720" cy="1800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48360" y="2637000"/>
            <a:ext cx="2592360" cy="1800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076720" y="333360"/>
            <a:ext cx="2808360" cy="1871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2400" y="2349360"/>
            <a:ext cx="21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4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Rose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又和男友闹分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424840" y="2349360"/>
            <a:ext cx="213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3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阿伯每天都盼望有人拜访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9880" y="4508640"/>
            <a:ext cx="296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2F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的莉莉还在看那结婚半年就失踪的老公照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0600" y="4508640"/>
            <a:ext cx="266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在我跳下之前，我以为我是世上最倒霉的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2565360" cy="1611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148360" y="4869000"/>
            <a:ext cx="2663640" cy="153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6583320"/>
            <a:ext cx="424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现在我才知道每个人都有不为人知的环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27720" y="6583320"/>
            <a:ext cx="28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我看完他们之后深深觉得其实自己过得还不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348000" y="2276640"/>
            <a:ext cx="4032360" cy="20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9640" y="-963720"/>
            <a:ext cx="2124360" cy="8572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273920" y="1557360"/>
            <a:ext cx="198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所有刚才被我看见的人都在看我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9040" y="4581360"/>
            <a:ext cx="321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我想他们看了我以后，也会觉得自己其实过得还不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55840" y="5661000"/>
            <a:ext cx="199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（结果耐人寻味……）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六：拓展活动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、活动一：荒岛生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假如有一天你坐船出海，突然遇上风暴，船只被巨浪吞没，你被抛到一个荒无人烟的小岛上，你怎样寻求生存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、活动二：谈判专家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   假如你是一个谈判专家，现在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楼高的天台上，有一位高考落榜的女孩准备纵身一跳，结束无望的人生，你将如何凭借你的三寸巧舌，说服这位女孩打消轻生的念头呢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七：情感升华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歌曲：《生命如歌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命如歌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轻轻的你离开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我轻轻的走来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这匆匆的岁月里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生命无须等待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轻轻的花绽开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就像树静静的成材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在这初恋的季节里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青春一去不再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希望大家的生命美好、灿烂 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谈一谈什么事情让你无法应对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想到要自杀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一：珍惜生命、爱惜生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晚，大足县双塔中学发生一幕惨剧：该校初一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班学生李力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化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连续两个通宵上网未回家。父亲来到学校与班主任一起对其教育，父亲言辞比较激烈。不想李力竟当众跑出老师办公室，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楼跳下自杀，抢救无效死亡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有一小孩因为不满意自己的裤脚而跳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讨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你对待李力的行为是怎么看的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自杀是唯一的解决办法吗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如果你的好朋友有自杀的征兆，你会怎么做，又会怎么想呢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其他事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晚，成都某名牌大学一位大二女生，把一只仅三个月大的小狗活生生放人微波炉烤了一分多钟 ，小狗的主人就是这位女生……为什么如此漠视生命，他们的表现很冷漠：只是想看看小狗的反应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思 索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eec94"/>
                </a:solidFill>
                <a:uFillTx/>
                <a:latin typeface="Times New Roman"/>
              </a:rPr>
              <a:t>生命的价值到底是什么？</a:t>
            </a:r>
            <a:br>
              <a:rPr sz="5400"/>
            </a:br>
            <a:r>
              <a:rPr b="1" lang="zh-CN" sz="5400" spc="-1" strike="noStrike" u="sng">
                <a:solidFill>
                  <a:srgbClr val="feec94"/>
                </a:solidFill>
                <a:uFillTx/>
                <a:latin typeface="Times New Roman"/>
              </a:rPr>
              <a:t>什么是生命</a:t>
            </a:r>
            <a:r>
              <a:rPr b="1" lang="zh-CN" sz="5400" spc="-1" strike="noStrike" u="sng">
                <a:solidFill>
                  <a:srgbClr val="feec94"/>
                </a:solidFill>
                <a:uFillTx/>
                <a:latin typeface="Times New Roman"/>
              </a:rPr>
              <a:t>?</a:t>
            </a:r>
            <a:br>
              <a:rPr sz="5400"/>
            </a:br>
            <a:r>
              <a:rPr b="1" lang="zh-CN" sz="5400" spc="-1" strike="noStrike" u="sng">
                <a:solidFill>
                  <a:srgbClr val="feec94"/>
                </a:solidFill>
                <a:uFillTx/>
                <a:latin typeface="Times New Roman"/>
              </a:rPr>
              <a:t>生命又是怎样来的呢</a:t>
            </a:r>
            <a:r>
              <a:rPr b="1" lang="zh-CN" sz="5400" spc="-1" strike="noStrike" u="sng">
                <a:solidFill>
                  <a:srgbClr val="feec94"/>
                </a:solidFill>
                <a:uFillTx/>
                <a:latin typeface="Times New Roman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三：生命的诞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120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生命的诞生过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上亿个精子喷薄而出，等待它们的第一道关口就是阴道的酸性分泌物，超过一半的精子死于这里。幸存者将穿过子宫颈口，游过子宫，向输卵管的壶腹部进发。这全程相当于精子长度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万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万倍，而它们要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小时内赶到。最终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左右最强壮的精子到达目的地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最终，有一个幸运的决定性的精子将穿透透明带，融进次级卵母细胞的细胞膜。这一瞬间透明带将发生本质的变化，卵子的大门，从此关闭。同时，次级卵母细胞开始一次蜕变，它进行一次减数分裂，变成一个真正的卵细胞。几小时后，这个卵细胞与精子的细胞核融为一体，我们的一切基因特征从此确立，终生不变。我们作为一个生命的历史从此开始。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13:20:2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5:45Z</dcterms:modified>
  <cp:revision>36</cp:revision>
  <dc:subject>主题班会课件(分28大类): http://shop62905894.taobao.com</dc:subject>
  <dc:title>主题班会课件(分28大类): http://shop62905894.taobao.com</dc:title>
</cp:coreProperties>
</file>