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D3E1-04CF-4108-A322-DB76384D14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3520" cy="4113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5139F1-69F1-48F2-A0A2-CD3CF3C469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FDB-26D6-4F28-945D-48EC6BF5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9E7-3DEA-4E0F-9723-13654CC7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698-F097-4F46-A188-FE5E44A1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08F-1021-4079-BE3F-8FA7E195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B7D-FDFB-4781-AA56-2504B7EE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80D-244E-4DA3-BFD3-939D4E04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068C-F331-4C40-A345-E53CC509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0EE-4EF4-4151-8684-BF2306DA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129-4F56-45C1-81C6-007CFBAF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5F7-6603-457A-9264-ACBC590A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827-BE18-4378-8708-9BA2901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8B2-68E5-405F-A5B4-274D4AB5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FF38-A791-47F2-AB7E-CA1F668CF1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甲型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H1N1</a:t>
            </a: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隶书"/>
              </a:rPr>
              <a:t>流感防控主题班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689440" cy="424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92360" y="6308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二五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6000" y="184464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甲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流感病毒在人与人之间很少传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19640" y="38606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459480" y="4902120"/>
            <a:ext cx="2684520" cy="19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1628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截至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日，我国只有香港特别行政区有一例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病毒确诊病例。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19640" y="38606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1628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感染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病毒的患者外周血象检查白细胞总数一般不高或降低。（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03280" y="38606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2920" y="1628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感染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病毒可从咽拭子、口腔含漱液、鼻咽或气管吸出物、痰或肺组织分离出病毒。（  ）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38606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1628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病毒感染后必须马上使用抗生素。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32130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42920" y="1628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目前尚没有治疗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病毒敏感的药物。（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314172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2920" y="1628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病毒只对年龄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岁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岁的人易感。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314172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2920" y="1628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日，我国大陆地区出现首例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病毒确诊病例。（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386064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42920" y="1628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早发现、早诊断是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患者治疗的关键。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32130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42920" y="1628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病毒分离的方法对诊断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不敏感。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306864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76280"/>
            <a:ext cx="63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甲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1n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知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甲型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H1N1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流感可以人传染人。发病率往往较高，但死亡率较低（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2%-6%)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部分患者病情可迅速发展，来势凶猛，突然高热，体温超过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39℃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，甚至继发严重肺炎，急性呼吸窘迫综合征，肺出血。胸腔积液，全血细胞减少，肾功能衰竭，败血症，休克及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REYE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综合征，呼吸衰竭及多器官损伤，导致死亡。患者原有大基础疾病亦可加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71640" y="155736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食用熟猪肉不会感染甲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流感。（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51640" y="2421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是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62864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经常通风，保持室内空气清洁新鲜是预防流行性感冒的重要措施之一。（    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35640" y="299736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2920" y="1628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是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病毒引起的一种急性、人畜共患呼吸道传染病。（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78936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162864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人群对甲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H1N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流感病毒普遍易感。（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234936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26920" y="1052640"/>
            <a:ext cx="756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四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在平时的日常生活中，我们该怎么做？（讨论发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9640" y="90792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总结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甲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H1N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流感预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条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2565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勤洗手，养成良好个人卫生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14172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睡眠充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喝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保持身体健康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到摄入足够、齐全、丰富的营养（肉、蛋、奶、米面与新鲜蔬菜水果）；养成良好的饮食习惯，严把病从口入这一关：如不喝生水、生吃瓜果要洗干净、不吃小商小贩的食品、不吃腐烂变质的食品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24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620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保持室内通风，少去人多不通风的场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好厕所、走道等校内场所环境卫生工作，保持房间通风透气，卫生良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299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饭时生熟分开很重要，猪肉烹饪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上，以完全杀死猪流感病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4653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避免接触生猪或前往有猪的场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189000"/>
            <a:ext cx="655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6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咳嗽或打喷嚏时用纸巾遮住口鼻，如无纸巾不宜用手，而是用肘部遮住口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7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常备治疗感冒的药物，一旦出现流感样症状（发热，咳嗽，流涕等），应尽早服药对症治疗，并尽快就医，不要上班或上学，尽量较少与他人接触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8·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避免接触出现流感样症状的病人。尽量少到公共人群密集的场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89000"/>
            <a:ext cx="64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9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由于此次流行的猪流感病毒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/H1N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型流感病毒，目前针对猪流感只有猪用疫苗，人注射普通流感疫苗不能对猪流感预防，甲型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H1N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流感预防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10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针对学校的晨检，同学们应该积极配合，以便及时发现问题。国庆长假回家也应尽量避免外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365040"/>
            <a:ext cx="80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活动总结：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发现症状，及时就医，并要到正规大医院就医；同时注意休息、多喝水。一稳定情绪乐观，心理稳定，切忌惊慌。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要配合晨检哦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1"/>
          <p:cNvGrpSpPr/>
          <p:nvPr/>
        </p:nvGrpSpPr>
        <p:grpSpPr>
          <a:xfrm>
            <a:off x="6334200" y="4869000"/>
            <a:ext cx="2809440" cy="1988640"/>
            <a:chOff x="6334200" y="4869000"/>
            <a:chExt cx="2809440" cy="1988640"/>
          </a:xfrm>
        </p:grpSpPr>
        <p:pic>
          <p:nvPicPr>
            <p:cNvPr id="55" name="Picture 9" descr=""/>
            <p:cNvPicPr/>
            <p:nvPr/>
          </p:nvPicPr>
          <p:blipFill>
            <a:blip r:embed="rId1"/>
            <a:stretch/>
          </p:blipFill>
          <p:spPr>
            <a:xfrm>
              <a:off x="6475680" y="4869000"/>
              <a:ext cx="2667960" cy="19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0"/>
            <p:cNvSpPr/>
            <p:nvPr/>
          </p:nvSpPr>
          <p:spPr>
            <a:xfrm>
              <a:off x="6334200" y="6625800"/>
              <a:ext cx="40140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9"/>
          <p:cNvSpPr/>
          <p:nvPr/>
        </p:nvSpPr>
        <p:spPr>
          <a:xfrm>
            <a:off x="2286000" y="30492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华文新魏"/>
                <a:ea typeface="华文新魏"/>
              </a:rPr>
              <a:t>甲型流感病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341360"/>
            <a:ext cx="4753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413000"/>
            <a:ext cx="84978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根据根据外膜蛋白血凝素抗原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HA)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神经氨酸酶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NA)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甲型流感病毒有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6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亚型，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亚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甲型病毒经常发生抗原变异，传染性大，传播迅速，易发生大范围流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乙型病毒常引起局限性流行，丙型病毒一般只引起散发，较少引起流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甲型流感病毒对热敏感，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0℃20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钟即灭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紫外线敏感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钟即可灭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般的消毒药都有很好的杀灭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843280" y="2205000"/>
            <a:ext cx="3672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72565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0000"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90000"/>
              <a:buFont typeface="Monotype Sorts" charset="2"/>
              <a:buChar char=""/>
              <a:tabLst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华文新魏"/>
                <a:ea typeface="华文新魏"/>
              </a:rPr>
              <a:t>甲型</a:t>
            </a:r>
            <a:r>
              <a:rPr b="0" lang="zh-CN" sz="6000" spc="-1" strike="noStrike">
                <a:solidFill>
                  <a:srgbClr val="cc3300"/>
                </a:solidFill>
                <a:latin typeface="华文新魏"/>
                <a:ea typeface="华文新魏"/>
              </a:rPr>
              <a:t>H1N1</a:t>
            </a:r>
            <a:r>
              <a:rPr b="0" lang="zh-CN" sz="6600" spc="-1" strike="noStrike">
                <a:solidFill>
                  <a:srgbClr val="cc3300"/>
                </a:solidFill>
                <a:latin typeface="华文新魏"/>
                <a:ea typeface="华文新魏"/>
              </a:rPr>
              <a:t>流感病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676520"/>
            <a:ext cx="777240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14200" indent="-214200">
              <a:buClr>
                <a:srgbClr val="ffff00"/>
              </a:buClr>
              <a:buFont typeface="Wingdings" charset="2"/>
              <a:buChar char=""/>
              <a:tabLst>
                <a:tab algn="l" pos="471600"/>
                <a:tab algn="l" pos="942840"/>
                <a:tab algn="l" pos="1414440"/>
                <a:tab algn="l" pos="1886040"/>
                <a:tab algn="l" pos="2357280"/>
                <a:tab algn="l" pos="2828880"/>
                <a:tab algn="l" pos="3300480"/>
                <a:tab algn="l" pos="3772080"/>
                <a:tab algn="l" pos="4243320"/>
                <a:tab algn="l" pos="4714920"/>
                <a:tab algn="l" pos="5186520"/>
                <a:tab algn="l" pos="5657760"/>
                <a:tab algn="l" pos="6129360"/>
                <a:tab algn="l" pos="6600960"/>
                <a:tab algn="l" pos="7072200"/>
                <a:tab algn="l" pos="7543800"/>
                <a:tab algn="l" pos="8015400"/>
                <a:tab algn="l" pos="8486640"/>
                <a:tab algn="l" pos="8958240"/>
                <a:tab algn="l" pos="9429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484280"/>
            <a:ext cx="439236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此次引发全球流行的</a:t>
            </a: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1N1</a:t>
            </a: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亚型病毒是</a:t>
            </a:r>
            <a:r>
              <a:rPr b="0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新型变异病毒</a:t>
            </a: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包含以下病毒的基因片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类流感病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北美洲禽流感病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北美洲、欧洲和亚洲猪流感病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仿宋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0"/>
          <p:cNvGrpSpPr/>
          <p:nvPr/>
        </p:nvGrpSpPr>
        <p:grpSpPr>
          <a:xfrm>
            <a:off x="4859280" y="1557360"/>
            <a:ext cx="4284720" cy="4941720"/>
            <a:chOff x="4859280" y="1557360"/>
            <a:chExt cx="4284720" cy="4941720"/>
          </a:xfrm>
        </p:grpSpPr>
        <p:pic>
          <p:nvPicPr>
            <p:cNvPr id="64" name="Picture 5" descr="Biot162PhotoC"/>
            <p:cNvPicPr/>
            <p:nvPr/>
          </p:nvPicPr>
          <p:blipFill>
            <a:blip r:embed="rId1"/>
            <a:srcRect l="0" t="0" r="-122" b="0"/>
            <a:stretch/>
          </p:blipFill>
          <p:spPr>
            <a:xfrm>
              <a:off x="4859280" y="1557360"/>
              <a:ext cx="3908160" cy="49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5030280" y="3500280"/>
              <a:ext cx="927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99"/>
                  </a:solidFill>
                  <a:latin typeface="Arial"/>
                </a:rPr>
                <a:t>禽流感病毒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>
              <a:off x="6541560" y="3047760"/>
              <a:ext cx="1027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99"/>
                  </a:solidFill>
                  <a:latin typeface="Arial"/>
                </a:rPr>
                <a:t>人流感病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6636960" y="5190480"/>
              <a:ext cx="925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99"/>
                  </a:solidFill>
                  <a:latin typeface="Arial"/>
                </a:rPr>
                <a:t>猪流感病毒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8006400" y="4416480"/>
              <a:ext cx="1137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99"/>
                  </a:solidFill>
                  <a:latin typeface="Arial"/>
                </a:rPr>
                <a:t>禽、猪流感和人流感重组病毒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209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5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9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5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，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HO “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具有国际影响的公共卫生紧急事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5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9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7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，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HO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宣布将流感大流行警告级别从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级提高到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5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9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9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，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HO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宣布警告级别从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级提高到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5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09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，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HO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宣布流感大流行警告级别升至最高第六级  </a:t>
            </a:r>
            <a:r>
              <a:rPr b="0" i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意味着甲型</a:t>
            </a:r>
            <a:r>
              <a:rPr b="0" i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H1N1</a:t>
            </a:r>
            <a:r>
              <a:rPr b="0" i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流感全球大流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50920" y="2282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华文新魏"/>
                <a:ea typeface="华文新魏"/>
              </a:rPr>
              <a:t>全球甲型</a:t>
            </a:r>
            <a:r>
              <a:rPr b="1" lang="zh-CN" sz="5400" spc="-1" strike="noStrike">
                <a:solidFill>
                  <a:srgbClr val="cc3300"/>
                </a:solidFill>
                <a:latin typeface="华文新魏"/>
                <a:ea typeface="华文新魏"/>
              </a:rPr>
              <a:t>H1N1</a:t>
            </a:r>
            <a:r>
              <a:rPr b="1" lang="zh-CN" sz="5400" spc="-1" strike="noStrike">
                <a:solidFill>
                  <a:srgbClr val="cc3300"/>
                </a:solidFill>
                <a:latin typeface="华文新魏"/>
                <a:ea typeface="华文新魏"/>
              </a:rPr>
              <a:t>流感形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470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华文新魏"/>
                <a:ea typeface="华文新魏"/>
              </a:rPr>
              <a:t>全球甲型</a:t>
            </a:r>
            <a:r>
              <a:rPr b="1" lang="zh-CN" sz="5400" spc="-1" strike="noStrike">
                <a:solidFill>
                  <a:srgbClr val="cc3300"/>
                </a:solidFill>
                <a:latin typeface="华文新魏"/>
                <a:ea typeface="华文新魏"/>
              </a:rPr>
              <a:t>H1N1</a:t>
            </a:r>
            <a:r>
              <a:rPr b="1" lang="zh-CN" sz="5400" spc="-1" strike="noStrike">
                <a:solidFill>
                  <a:srgbClr val="cc3300"/>
                </a:solidFill>
                <a:latin typeface="华文新魏"/>
                <a:ea typeface="华文新魏"/>
              </a:rPr>
              <a:t>流感死亡病例特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要集中在美洲地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共报告死亡病例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579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，占总报告死亡病例的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7.77%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报告病死率最高（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4.91‰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前五位的国家：美国、阿根廷、墨西哥、加拿大、智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有性别和年龄记录的死亡病例共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48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进行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龄中位数为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（范围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（孕龄主要年龄）女性死亡病例数略高于男性，其他各年龄段死亡病例数基本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7c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死亡病例年龄主要集中在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9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间，占总死亡病例的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1%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但是不同国家或地区有明显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全球死亡病例中，至少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9%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病例患有基础性疾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怀孕和肥胖也应引起关注。怀孕是引起严重并发症和死亡的主要危险因素之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0565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华文新魏"/>
                <a:ea typeface="华文新魏"/>
              </a:rPr>
              <a:t>临床表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潜伏期一般为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-7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，多为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-3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现为流感样症状，包括发热、咳嗽、咽痛、咯痰、流涕、鼻塞、头痛、全身酸痛、乏力。部分病例出现呕吐和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或腹泻。约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%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病例可不发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可发生肺炎等并发症。少数病例病情进展迅速，出现呼吸衰竭、多脏器功能不全或衰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患者原有的基础疾病亦可被诱发加重，呈现相应的临床表现，病情严重者可以导致死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21360"/>
            <a:ext cx="874872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甲型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H1N1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流感诊疗方案（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009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年试行版第二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90565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华文新魏"/>
                <a:ea typeface="华文新魏"/>
              </a:rPr>
              <a:t>治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5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轻症病例：居家隔离治疗，不需抗病毒治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重症病例：出现以下情况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并肺炎和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或低氧血症、呼吸衰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并感染中毒性休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并多脏器功能不全或多脏器功能衰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集中定点医院收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隔离期限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，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后症状尚未消失，待消失后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4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时，方可解除隔离治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305320"/>
            <a:ext cx="84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WHO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《甲型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H1N1 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流感病例抗病毒药物使用指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卫生部《甲型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H1N1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流感诊疗方案（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2009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年试行版第二版）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卫生部《甲型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H1N1</a:t>
            </a:r>
            <a:r>
              <a:rPr b="1" lang="zh-CN" sz="2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流感轻症患者居家隔离治疗管理方案（试行版）》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市卫生局沪卫医政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69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号、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70</a:t>
            </a:r>
            <a:r>
              <a:rPr b="1" lang="zh-CN" sz="2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号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227664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Arial"/>
              </a:rPr>
              <a:t>H1N1</a:t>
            </a:r>
            <a:r>
              <a:rPr b="1" lang="zh-CN" sz="5400" spc="-1" strike="noStrike">
                <a:solidFill>
                  <a:srgbClr val="ff6699"/>
                </a:solidFill>
                <a:latin typeface="Arial"/>
              </a:rPr>
              <a:t>知识</a:t>
            </a:r>
            <a:r>
              <a:rPr b="1" i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有奖</a:t>
            </a:r>
            <a:r>
              <a:rPr b="1" lang="zh-CN" sz="5400" spc="-1" strike="noStrike">
                <a:solidFill>
                  <a:srgbClr val="ff6699"/>
                </a:solidFill>
                <a:latin typeface="Arial"/>
              </a:rPr>
              <a:t>竞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6:24Z</dcterms:modified>
  <cp:revision>41</cp:revision>
  <dc:subject>主题班会课件(分28大类): http://shop62905894.taobao.com</dc:subject>
  <dc:title>主题班会课件(分28大类): http://shop62905894.taobao.com</dc:title>
</cp:coreProperties>
</file>