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gif" ContentType="image/gif"/>
  <Override PartName="/ppt/media/image15.gif" ContentType="image/gif"/>
  <Override PartName="/ppt/media/image2.png" ContentType="image/png"/>
  <Override PartName="/ppt/media/image3.gif" ContentType="image/gif"/>
  <Override PartName="/ppt/media/image12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14.jpeg" ContentType="image/jpeg"/>
  <Override PartName="/ppt/media/image8.png" ContentType="image/png"/>
  <Override PartName="/ppt/media/image10.jpeg" ContentType="image/jpeg"/>
  <Override PartName="/ppt/media/image11.gif" ContentType="image/gif"/>
  <Override PartName="/ppt/media/image5.jpeg" ContentType="image/jpeg"/>
  <Override PartName="/ppt/media/image7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BEA6-33CB-4126-989D-BB4B88AB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8FDD-9F52-433A-8D94-24ADC197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96D5-50B7-4EBB-A574-5FF041AD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A894-B39E-45C0-B420-4806851F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4C07-4E20-4D96-AAE7-FF4D23D3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F89C-872E-43DD-822B-15E54512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9375-3659-4BD2-8513-86C96158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6637-7E2F-4A3D-A0D2-419C8DFA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9A4-6E6C-4580-A9D1-9546C5DE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6416-3C72-46E2-B2D8-32DE2D76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F944-2BD3-4A68-9709-7B3AF85D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8931-97F2-4F87-A88D-275C8535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72FF-F744-4FFA-BEF7-C5533F154D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:\&#25991;&#26126;&#31036;&#20202;&#20027;&#39064;&#29677;&#20250;\&#20844;&#30410;&#24191;&#21578;.asf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" Target="slide8.xml"/><Relationship Id="rId4" Type="http://schemas.openxmlformats.org/officeDocument/2006/relationships/image" Target="../media/image15.gif"/><Relationship Id="rId5" Type="http://schemas.openxmlformats.org/officeDocument/2006/relationships/slide" Target="slide8.xml"/><Relationship Id="rId6" Type="http://schemas.openxmlformats.org/officeDocument/2006/relationships/image" Target="../media/image15.gif"/><Relationship Id="rId7" Type="http://schemas.openxmlformats.org/officeDocument/2006/relationships/slide" Target="slide8.xml"/><Relationship Id="rId8" Type="http://schemas.openxmlformats.org/officeDocument/2006/relationships/image" Target="../media/image15.gif"/><Relationship Id="rId9" Type="http://schemas.openxmlformats.org/officeDocument/2006/relationships/image" Target="../media/image15.gif"/><Relationship Id="rId10" Type="http://schemas.openxmlformats.org/officeDocument/2006/relationships/slide" Target="slide8.xml"/><Relationship Id="rId11" Type="http://schemas.openxmlformats.org/officeDocument/2006/relationships/image" Target="../media/image15.gif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85920" y="3038400"/>
            <a:ext cx="6400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文明礼仪之花香满校园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714240"/>
            <a:ext cx="7696080" cy="2971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effectLst>
                  <a:outerShdw dist="99192" dir="2381944" blurRad="0" rotWithShape="0">
                    <a:srgbClr val="009999"/>
                  </a:outerShdw>
                </a:effectLst>
                <a:latin typeface="宋体"/>
              </a:rPr>
              <a:t>高一（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effectLst>
                  <a:outerShdw dist="99192" dir="2381944" blurRad="0" rotWithShape="0">
                    <a:srgbClr val="009999"/>
                  </a:outerShdw>
                </a:effectLst>
                <a:latin typeface="宋体"/>
              </a:rPr>
              <a:t>4</a:t>
            </a:r>
            <a:r>
              <a:rPr b="0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effectLst>
                  <a:outerShdw dist="99192" dir="2381944" blurRad="0" rotWithShape="0">
                    <a:srgbClr val="009999"/>
                  </a:outerShdw>
                </a:effectLst>
                <a:latin typeface="宋体"/>
              </a:rPr>
              <a:t>）班主题班会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3300"/>
              </a:solidFill>
              <a:effectLst>
                <a:outerShdw dist="99192" dir="2381944" blurRad="0" rotWithShape="0">
                  <a:srgbClr val="0099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496360" y="63342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8112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666720"/>
            <a:ext cx="182880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演讲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"/>
          <p:cNvSpPr/>
          <p:nvPr/>
        </p:nvSpPr>
        <p:spPr>
          <a:xfrm>
            <a:off x="5310000" y="474804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付  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14560" y="2033640"/>
            <a:ext cx="698472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奥运之花枝头盛开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1352520" y="1352520"/>
            <a:ext cx="990720" cy="4831920"/>
            <a:chOff x="1352520" y="1352520"/>
            <a:chExt cx="990720" cy="4831920"/>
          </a:xfrm>
        </p:grpSpPr>
        <p:sp>
          <p:nvSpPr>
            <p:cNvPr id="117" name=""/>
            <p:cNvSpPr/>
            <p:nvPr/>
          </p:nvSpPr>
          <p:spPr>
            <a:xfrm>
              <a:off x="1581120" y="1807920"/>
              <a:ext cx="533520" cy="39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文明的校园学习环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52520" y="1352520"/>
              <a:ext cx="990720" cy="4831920"/>
            </a:xfrm>
            <a:prstGeom prst="verticalScroll">
              <a:avLst>
                <a:gd name="adj" fmla="val 12500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9" name=""/>
          <p:cNvGraphicFramePr/>
          <p:nvPr/>
        </p:nvGraphicFramePr>
        <p:xfrm>
          <a:off x="0" y="0"/>
          <a:ext cx="91440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"/>
          <p:cNvGrpSpPr/>
          <p:nvPr/>
        </p:nvGrpSpPr>
        <p:grpSpPr>
          <a:xfrm>
            <a:off x="3867120" y="1333440"/>
            <a:ext cx="990720" cy="4846320"/>
            <a:chOff x="3867120" y="1333440"/>
            <a:chExt cx="990720" cy="4846320"/>
          </a:xfrm>
        </p:grpSpPr>
        <p:sp>
          <p:nvSpPr>
            <p:cNvPr id="122" name=""/>
            <p:cNvSpPr/>
            <p:nvPr/>
          </p:nvSpPr>
          <p:spPr>
            <a:xfrm>
              <a:off x="4095720" y="1790280"/>
              <a:ext cx="533520" cy="39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文明的校园生活环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67120" y="1333440"/>
              <a:ext cx="990720" cy="4846320"/>
            </a:xfrm>
            <a:prstGeom prst="verticalScroll">
              <a:avLst>
                <a:gd name="adj" fmla="val 12500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058080" y="1314360"/>
            <a:ext cx="990360" cy="4816080"/>
            <a:chOff x="6058080" y="1314360"/>
            <a:chExt cx="990360" cy="4816080"/>
          </a:xfrm>
        </p:grpSpPr>
        <p:sp>
          <p:nvSpPr>
            <p:cNvPr id="125" name=""/>
            <p:cNvSpPr/>
            <p:nvPr/>
          </p:nvSpPr>
          <p:spPr>
            <a:xfrm>
              <a:off x="6286320" y="1768320"/>
              <a:ext cx="533160" cy="39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文明的校园人际环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58080" y="1314360"/>
              <a:ext cx="990360" cy="4816080"/>
            </a:xfrm>
            <a:prstGeom prst="verticalScroll">
              <a:avLst>
                <a:gd name="adj" fmla="val 12500"/>
              </a:avLst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8120" y="53352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51f93"/>
                </a:solidFill>
                <a:latin typeface="Times New Roman"/>
                <a:ea typeface="隶书"/>
              </a:rPr>
              <a:t>说得多不如做得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574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43400" y="20574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51f93"/>
                </a:solidFill>
                <a:latin typeface="Times New Roman"/>
                <a:ea typeface="隶书"/>
              </a:rPr>
              <a:t>——</a:t>
            </a:r>
            <a:r>
              <a:rPr b="0" lang="zh-CN" sz="4400" spc="-1" strike="noStrike">
                <a:solidFill>
                  <a:srgbClr val="251f93"/>
                </a:solidFill>
                <a:latin typeface="Times New Roman"/>
                <a:ea typeface="隶书"/>
              </a:rPr>
              <a:t>从现在做起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2819520"/>
            <a:ext cx="69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51f93"/>
                </a:solidFill>
                <a:latin typeface="Times New Roman"/>
                <a:ea typeface="隶书"/>
              </a:rPr>
              <a:t>看着做不如自己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65760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51f93"/>
                </a:solidFill>
                <a:latin typeface="Times New Roman"/>
                <a:ea typeface="隶书"/>
              </a:rPr>
              <a:t>——</a:t>
            </a:r>
            <a:r>
              <a:rPr b="0" lang="zh-CN" sz="4400" spc="-1" strike="noStrike">
                <a:solidFill>
                  <a:srgbClr val="251f93"/>
                </a:solidFill>
                <a:latin typeface="Times New Roman"/>
                <a:ea typeface="隶书"/>
              </a:rPr>
              <a:t>从我做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44956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51f93"/>
                </a:solidFill>
                <a:latin typeface="Times New Roman"/>
                <a:ea typeface="隶书"/>
              </a:rPr>
              <a:t>要我做不如我要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60160" y="5257800"/>
            <a:ext cx="266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51f93"/>
                </a:solidFill>
                <a:latin typeface="Times New Roman"/>
                <a:ea typeface="隶书"/>
              </a:rPr>
              <a:t>——</a:t>
            </a:r>
            <a:r>
              <a:rPr b="0" lang="zh-CN" sz="4400" spc="-1" strike="noStrike">
                <a:solidFill>
                  <a:srgbClr val="251f93"/>
                </a:solidFill>
                <a:latin typeface="Times New Roman"/>
                <a:ea typeface="隶书"/>
              </a:rPr>
              <a:t>从内心做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2209680"/>
            <a:ext cx="2971800" cy="609840"/>
          </a:xfrm>
          <a:custGeom>
            <a:avLst/>
            <a:gdLst>
              <a:gd name="textAreaLeft" fmla="*/ 39240 w 2971800"/>
              <a:gd name="textAreaRight" fmla="*/ 2932560 w 2971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105209" h="21600">
                <a:moveTo>
                  <a:pt x="0" y="0"/>
                </a:moveTo>
                <a:lnTo>
                  <a:pt x="105209" y="0"/>
                </a:lnTo>
                <a:lnTo>
                  <a:pt x="105209" y="21600"/>
                </a:lnTo>
                <a:lnTo>
                  <a:pt x="0" y="21600"/>
                </a:lnTo>
                <a:close/>
              </a:path>
              <a:path fill="lightenLess" w="105209" h="21600">
                <a:moveTo>
                  <a:pt x="0" y="0"/>
                </a:moveTo>
                <a:lnTo>
                  <a:pt x="105209" y="0"/>
                </a:lnTo>
                <a:lnTo>
                  <a:pt x="103809" y="1400"/>
                </a:lnTo>
                <a:lnTo>
                  <a:pt x="1400" y="1400"/>
                </a:lnTo>
                <a:close/>
              </a:path>
              <a:path fill="darken" w="105209" h="21600">
                <a:moveTo>
                  <a:pt x="105209" y="0"/>
                </a:moveTo>
                <a:lnTo>
                  <a:pt x="105209" y="21600"/>
                </a:lnTo>
                <a:lnTo>
                  <a:pt x="103809" y="20200"/>
                </a:lnTo>
                <a:lnTo>
                  <a:pt x="103809" y="1400"/>
                </a:lnTo>
                <a:close/>
              </a:path>
              <a:path fill="darkenLess" w="105209" h="21600">
                <a:moveTo>
                  <a:pt x="10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809" y="20200"/>
                </a:lnTo>
                <a:close/>
              </a:path>
              <a:path fill="lighten" w="10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38680" y="3733920"/>
            <a:ext cx="2286000" cy="533160"/>
          </a:xfrm>
          <a:custGeom>
            <a:avLst/>
            <a:gdLst>
              <a:gd name="textAreaLeft" fmla="*/ 34560 w 2286000"/>
              <a:gd name="textAreaRight" fmla="*/ 2251440 w 2286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92565" h="21600">
                <a:moveTo>
                  <a:pt x="0" y="0"/>
                </a:moveTo>
                <a:lnTo>
                  <a:pt x="92565" y="0"/>
                </a:lnTo>
                <a:lnTo>
                  <a:pt x="92565" y="21600"/>
                </a:lnTo>
                <a:lnTo>
                  <a:pt x="0" y="21600"/>
                </a:lnTo>
                <a:close/>
              </a:path>
              <a:path fill="lightenLess" w="92565" h="21600">
                <a:moveTo>
                  <a:pt x="0" y="0"/>
                </a:moveTo>
                <a:lnTo>
                  <a:pt x="92565" y="0"/>
                </a:lnTo>
                <a:lnTo>
                  <a:pt x="91165" y="1400"/>
                </a:lnTo>
                <a:lnTo>
                  <a:pt x="1400" y="1400"/>
                </a:lnTo>
                <a:close/>
              </a:path>
              <a:path fill="darken" w="92565" h="21600">
                <a:moveTo>
                  <a:pt x="92565" y="0"/>
                </a:moveTo>
                <a:lnTo>
                  <a:pt x="92565" y="21600"/>
                </a:lnTo>
                <a:lnTo>
                  <a:pt x="91165" y="20200"/>
                </a:lnTo>
                <a:lnTo>
                  <a:pt x="91165" y="1400"/>
                </a:lnTo>
                <a:close/>
              </a:path>
              <a:path fill="darkenLess" w="92565" h="21600">
                <a:moveTo>
                  <a:pt x="92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165" y="20200"/>
                </a:lnTo>
                <a:close/>
              </a:path>
              <a:path fill="lighten" w="92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2"/>
          </p:cNvPr>
          <p:cNvSpPr/>
          <p:nvPr/>
        </p:nvSpPr>
        <p:spPr>
          <a:xfrm>
            <a:off x="8429760" y="6186600"/>
            <a:ext cx="576000" cy="557280"/>
          </a:xfrm>
          <a:custGeom>
            <a:avLst/>
            <a:gdLst>
              <a:gd name="textAreaLeft" fmla="*/ 36000 w 576000"/>
              <a:gd name="textAreaRight" fmla="*/ 540000 w 576000"/>
              <a:gd name="textAreaTop" fmla="*/ 36000 h 557280"/>
              <a:gd name="textAreaBottom" fmla="*/ 521280 h 557280"/>
            </a:gdLst>
            <a:ahLst/>
            <a:rect l="textAreaLeft" t="textAreaTop" r="textAreaRight" b="textAreaBottom"/>
            <a:pathLst>
              <a:path w="22325" h="21600">
                <a:moveTo>
                  <a:pt x="0" y="0"/>
                </a:moveTo>
                <a:lnTo>
                  <a:pt x="22325" y="0"/>
                </a:lnTo>
                <a:lnTo>
                  <a:pt x="22325" y="21600"/>
                </a:lnTo>
                <a:lnTo>
                  <a:pt x="0" y="21600"/>
                </a:lnTo>
                <a:close/>
              </a:path>
              <a:path fill="lightenLess" w="22325" h="21600">
                <a:moveTo>
                  <a:pt x="0" y="0"/>
                </a:moveTo>
                <a:lnTo>
                  <a:pt x="22325" y="0"/>
                </a:lnTo>
                <a:lnTo>
                  <a:pt x="20925" y="1400"/>
                </a:lnTo>
                <a:lnTo>
                  <a:pt x="1400" y="1400"/>
                </a:lnTo>
                <a:close/>
              </a:path>
              <a:path fill="darken" w="22325" h="21600">
                <a:moveTo>
                  <a:pt x="22325" y="0"/>
                </a:moveTo>
                <a:lnTo>
                  <a:pt x="22325" y="21600"/>
                </a:lnTo>
                <a:lnTo>
                  <a:pt x="20925" y="20200"/>
                </a:lnTo>
                <a:lnTo>
                  <a:pt x="20925" y="1400"/>
                </a:lnTo>
                <a:close/>
              </a:path>
              <a:path fill="darkenLess" w="22325" h="21600">
                <a:moveTo>
                  <a:pt x="223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25" y="20200"/>
                </a:lnTo>
                <a:close/>
              </a:path>
              <a:path fill="lighten" w="223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25" h="21600">
                <a:moveTo>
                  <a:pt x="7664" y="10800"/>
                </a:moveTo>
                <a:lnTo>
                  <a:pt x="18169" y="3794"/>
                </a:lnTo>
                <a:lnTo>
                  <a:pt x="18169" y="17806"/>
                </a:lnTo>
                <a:close/>
              </a:path>
              <a:path fill="darken" w="22325" h="21600">
                <a:moveTo>
                  <a:pt x="4156" y="3794"/>
                </a:moveTo>
                <a:lnTo>
                  <a:pt x="5818" y="3794"/>
                </a:lnTo>
                <a:lnTo>
                  <a:pt x="5818" y="17806"/>
                </a:lnTo>
                <a:lnTo>
                  <a:pt x="4156" y="17806"/>
                </a:lnTo>
                <a:close/>
              </a:path>
            </a:pathLst>
          </a:custGeom>
          <a:solidFill>
            <a:srgbClr val="00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4480" y="287280"/>
            <a:ext cx="587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文明礼仪是一粒最有生命力的种子，它会在我们的精神世界里发芽、开花、结果，指导我们的人生观、世界观，让文明礼仪之花香满校园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610480" y="6276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448000" y="6324480"/>
            <a:ext cx="409680" cy="409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924280" y="6305400"/>
            <a:ext cx="438120" cy="419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66680" y="6305400"/>
            <a:ext cx="371520" cy="428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1523880" y="6305400"/>
            <a:ext cx="390600" cy="409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962000" y="6296040"/>
            <a:ext cx="400320" cy="438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88920" y="5421240"/>
            <a:ext cx="248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高一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(4)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班主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294792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76600" cy="2066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66720" y="2276640"/>
            <a:ext cx="7972560" cy="17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礼义廉耻，国之四维，四维不张，国乃灭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                       ——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《管子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420840"/>
            <a:ext cx="4552920" cy="17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ff"/>
                </a:solidFill>
                <a:latin typeface="Times New Roman"/>
                <a:ea typeface="隶书"/>
              </a:rPr>
              <a:t>不学礼，无以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ff"/>
                </a:solidFill>
                <a:latin typeface="Times New Roman"/>
                <a:ea typeface="隶书"/>
              </a:rPr>
              <a:t>            ——</a:t>
            </a:r>
            <a:r>
              <a:rPr b="0" lang="zh-CN" sz="4000" spc="-1" strike="noStrike">
                <a:solidFill>
                  <a:srgbClr val="9933ff"/>
                </a:solidFill>
                <a:latin typeface="Times New Roman"/>
                <a:ea typeface="隶书"/>
              </a:rPr>
              <a:t>孔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6560" y="4392720"/>
            <a:ext cx="82584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ff"/>
                </a:solidFill>
                <a:latin typeface="Times New Roman"/>
                <a:ea typeface="隶书"/>
              </a:rPr>
              <a:t> 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人无礼则不生，事无礼则不成，国家无礼则不宁  。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                                ——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荀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534000" y="4390920"/>
            <a:ext cx="2610000" cy="2324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4560" y="20016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礼仪知识问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49560" y="2225520"/>
            <a:ext cx="1447920" cy="114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7500"/>
              </a:gs>
              <a:gs pos="100000">
                <a:srgbClr val="00ff00">
                  <a:alpha val="3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84920" y="2232000"/>
            <a:ext cx="1362240" cy="114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0000"/>
              </a:gs>
              <a:gs pos="100000">
                <a:srgbClr val="ff0000">
                  <a:alpha val="3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89000" y="2260440"/>
            <a:ext cx="1352520" cy="114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00ff">
                  <a:alpha val="30196"/>
                </a:srgbClr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74920" y="3573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第一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97160" y="35701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Times New Roman"/>
                <a:ea typeface="隶书"/>
              </a:rPr>
              <a:t>第二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26400" y="35607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第三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33600" y="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第一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784080"/>
            <a:ext cx="8593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、“不学礼，无以立”的古训是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A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孟子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B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荀子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C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孔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843200"/>
            <a:ext cx="79740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．路遇他人应（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A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靠右侧行走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B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主动侧身让路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C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快步行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968560"/>
            <a:ext cx="91440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Times New Roman"/>
                <a:ea typeface="隶书"/>
              </a:rPr>
              <a:t>3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  <a:ea typeface="隶书"/>
              </a:rPr>
              <a:t>．与人在正式场合交谈时要注意语言的（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Times New Roman"/>
                <a:ea typeface="隶书"/>
              </a:rPr>
              <a:t>A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  <a:ea typeface="隶书"/>
              </a:rPr>
              <a:t>准确规范    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  <a:ea typeface="隶书"/>
              </a:rPr>
              <a:t>B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  <a:ea typeface="隶书"/>
              </a:rPr>
              <a:t>慢条斯理    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  <a:ea typeface="隶书"/>
              </a:rPr>
              <a:t>C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  <a:ea typeface="隶书"/>
              </a:rPr>
              <a:t>声音洪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262400"/>
            <a:ext cx="901224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cc"/>
                </a:solidFill>
                <a:latin typeface="Times New Roman"/>
                <a:ea typeface="隶书"/>
              </a:rPr>
              <a:t>4.</a:t>
            </a:r>
            <a:r>
              <a:rPr b="0" lang="zh-CN" sz="3200" spc="-1" strike="noStrike">
                <a:solidFill>
                  <a:srgbClr val="33cccc"/>
                </a:solidFill>
                <a:latin typeface="Times New Roman"/>
                <a:ea typeface="隶书"/>
              </a:rPr>
              <a:t>行握手礼时，礼貌的伸手方式是伸出右手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cc"/>
                </a:solidFill>
                <a:latin typeface="Times New Roman"/>
                <a:ea typeface="隶书"/>
              </a:rPr>
              <a:t>A</a:t>
            </a:r>
            <a:r>
              <a:rPr b="0" lang="zh-CN" sz="3200" spc="-1" strike="noStrike">
                <a:solidFill>
                  <a:srgbClr val="33cccc"/>
                </a:solidFill>
                <a:latin typeface="Times New Roman"/>
                <a:ea typeface="隶书"/>
              </a:rPr>
              <a:t>手掌与地面垂直    </a:t>
            </a:r>
            <a:r>
              <a:rPr b="0" lang="zh-CN" sz="3200" spc="-1" strike="noStrike">
                <a:solidFill>
                  <a:srgbClr val="33cccc"/>
                </a:solidFill>
                <a:latin typeface="Times New Roman"/>
                <a:ea typeface="隶书"/>
              </a:rPr>
              <a:t>B</a:t>
            </a:r>
            <a:r>
              <a:rPr b="0" lang="zh-CN" sz="3200" spc="-1" strike="noStrike">
                <a:solidFill>
                  <a:srgbClr val="33cccc"/>
                </a:solidFill>
                <a:latin typeface="Times New Roman"/>
                <a:ea typeface="隶书"/>
              </a:rPr>
              <a:t>掌心向下倾斜    </a:t>
            </a:r>
            <a:r>
              <a:rPr b="0" lang="zh-CN" sz="3200" spc="-1" strike="noStrike">
                <a:solidFill>
                  <a:srgbClr val="33cccc"/>
                </a:solidFill>
                <a:latin typeface="Times New Roman"/>
                <a:ea typeface="隶书"/>
              </a:rPr>
              <a:t>C</a:t>
            </a:r>
            <a:r>
              <a:rPr b="0" lang="zh-CN" sz="3200" spc="-1" strike="noStrike">
                <a:solidFill>
                  <a:srgbClr val="33cccc"/>
                </a:solidFill>
                <a:latin typeface="Times New Roman"/>
                <a:ea typeface="隶书"/>
              </a:rPr>
              <a:t>随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6520" y="5324400"/>
            <a:ext cx="64414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Times New Roman"/>
                <a:ea typeface="隶书"/>
              </a:rPr>
              <a:t>5.</a:t>
            </a:r>
            <a:r>
              <a:rPr b="0" lang="zh-CN" sz="3200" spc="-1" strike="noStrike">
                <a:solidFill>
                  <a:srgbClr val="660033"/>
                </a:solidFill>
                <a:latin typeface="Times New Roman"/>
                <a:ea typeface="隶书"/>
              </a:rPr>
              <a:t>国际社会公认的“第一礼俗”是：（    ） </a:t>
            </a:r>
            <a:br>
              <a:rPr sz="3200"/>
            </a:br>
            <a:r>
              <a:rPr b="0" lang="zh-CN" sz="3200" spc="-1" strike="noStrike">
                <a:solidFill>
                  <a:srgbClr val="660033"/>
                </a:solidFill>
                <a:latin typeface="Times New Roman"/>
                <a:ea typeface="隶书"/>
              </a:rPr>
              <a:t>A</a:t>
            </a:r>
            <a:r>
              <a:rPr b="0" lang="zh-CN" sz="3200" spc="-1" strike="noStrike">
                <a:solidFill>
                  <a:srgbClr val="660033"/>
                </a:solidFill>
                <a:latin typeface="Times New Roman"/>
                <a:ea typeface="隶书"/>
              </a:rPr>
              <a:t>女士优先   </a:t>
            </a:r>
            <a:r>
              <a:rPr b="0" lang="zh-CN" sz="3200" spc="-1" strike="noStrike">
                <a:solidFill>
                  <a:srgbClr val="660033"/>
                </a:solidFill>
                <a:latin typeface="Times New Roman"/>
                <a:ea typeface="隶书"/>
              </a:rPr>
              <a:t>B</a:t>
            </a:r>
            <a:r>
              <a:rPr b="0" lang="zh-CN" sz="3200" spc="-1" strike="noStrike">
                <a:solidFill>
                  <a:srgbClr val="660033"/>
                </a:solidFill>
                <a:latin typeface="Times New Roman"/>
                <a:ea typeface="隶书"/>
              </a:rPr>
              <a:t>尊重原则   </a:t>
            </a:r>
            <a:r>
              <a:rPr b="0" lang="zh-CN" sz="3200" spc="-1" strike="noStrike">
                <a:solidFill>
                  <a:srgbClr val="660033"/>
                </a:solidFill>
                <a:latin typeface="Times New Roman"/>
                <a:ea typeface="隶书"/>
              </a:rPr>
              <a:t>C</a:t>
            </a:r>
            <a:r>
              <a:rPr b="0" lang="zh-CN" sz="3200" spc="-1" strike="noStrike">
                <a:solidFill>
                  <a:srgbClr val="660033"/>
                </a:solidFill>
                <a:latin typeface="Times New Roman"/>
                <a:ea typeface="隶书"/>
              </a:rPr>
              <a:t>宽容的原则</a:t>
            </a:r>
            <a:r>
              <a:rPr b="0" lang="zh-CN" sz="4000" spc="-1" strike="noStrike">
                <a:solidFill>
                  <a:srgbClr val="660033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8280" y="5968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66920" y="16826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14360" y="27828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Times New Roman"/>
                <a:ea typeface="隶书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109360" y="40021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cc"/>
                </a:solidFill>
                <a:latin typeface="Times New Roman"/>
                <a:ea typeface="隶书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7400" y="53020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Times New Roman"/>
                <a:ea typeface="隶书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34360" y="6076800"/>
            <a:ext cx="461880" cy="486000"/>
          </a:xfrm>
          <a:prstGeom prst="lef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9eff">
                  <a:alpha val="30196"/>
                </a:srgbClr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6360" y="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Times New Roman"/>
                <a:ea typeface="隶书"/>
              </a:rPr>
              <a:t>第二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34360" y="133200"/>
            <a:ext cx="509760" cy="486000"/>
          </a:xfrm>
          <a:prstGeom prst="leftArrow">
            <a:avLst>
              <a:gd name="adj1" fmla="val 50000"/>
              <a:gd name="adj2" fmla="val 26222"/>
            </a:avLst>
          </a:prstGeom>
          <a:gradFill rotWithShape="0">
            <a:gsLst>
              <a:gs pos="0">
                <a:srgbClr val="0000ff">
                  <a:alpha val="30196"/>
                </a:srgbClr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6480" y="673200"/>
            <a:ext cx="91504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1.“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人无礼则不生，事无礼则不成，国家无礼则不宁”是谁的话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（       ）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A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庄子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B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孟子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C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荀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959120"/>
            <a:ext cx="941076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Times New Roman"/>
                <a:ea typeface="隶书"/>
              </a:rPr>
              <a:t>2. </a:t>
            </a:r>
            <a:r>
              <a:rPr b="0" lang="zh-CN" sz="3200" spc="-1" strike="noStrike">
                <a:solidFill>
                  <a:srgbClr val="9933ff"/>
                </a:solidFill>
                <a:latin typeface="Times New Roman"/>
                <a:ea typeface="隶书"/>
              </a:rPr>
              <a:t>母亲节是（        ）            </a:t>
            </a:r>
            <a:r>
              <a:rPr b="0" lang="zh-CN" sz="3200" spc="-1" strike="noStrike">
                <a:solidFill>
                  <a:srgbClr val="9933ff"/>
                </a:solidFill>
                <a:latin typeface="Times New Roman"/>
                <a:ea typeface="隶书"/>
              </a:rPr>
              <a:t>A 5</a:t>
            </a:r>
            <a:r>
              <a:rPr b="0" lang="zh-CN" sz="3200" spc="-1" strike="noStrike">
                <a:solidFill>
                  <a:srgbClr val="9933ff"/>
                </a:solidFill>
                <a:latin typeface="Times New Roman"/>
                <a:ea typeface="隶书"/>
              </a:rPr>
              <a:t>月份第二个星期日  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Times New Roman"/>
                <a:ea typeface="隶书"/>
              </a:rPr>
              <a:t>B 3</a:t>
            </a:r>
            <a:r>
              <a:rPr b="0" lang="zh-CN" sz="3200" spc="-1" strike="noStrike">
                <a:solidFill>
                  <a:srgbClr val="9933ff"/>
                </a:solidFill>
                <a:latin typeface="Times New Roman"/>
                <a:ea typeface="隶书"/>
              </a:rPr>
              <a:t>月份第二个星期日           </a:t>
            </a:r>
            <a:r>
              <a:rPr b="0" lang="zh-CN" sz="3200" spc="-1" strike="noStrike">
                <a:solidFill>
                  <a:srgbClr val="9933ff"/>
                </a:solidFill>
                <a:latin typeface="Times New Roman"/>
                <a:ea typeface="隶书"/>
              </a:rPr>
              <a:t>C 6</a:t>
            </a:r>
            <a:r>
              <a:rPr b="0" lang="zh-CN" sz="3200" spc="-1" strike="noStrike">
                <a:solidFill>
                  <a:srgbClr val="9933ff"/>
                </a:solidFill>
                <a:latin typeface="Times New Roman"/>
                <a:ea typeface="隶书"/>
              </a:rPr>
              <a:t>月份第二个星期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187800"/>
            <a:ext cx="895968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Times New Roman"/>
                <a:ea typeface="隶书"/>
              </a:rPr>
              <a:t>3.</a:t>
            </a:r>
            <a:r>
              <a:rPr b="0" lang="zh-CN" sz="3200" spc="-1" strike="noStrike">
                <a:solidFill>
                  <a:srgbClr val="99cc00"/>
                </a:solidFill>
                <a:latin typeface="Times New Roman"/>
                <a:ea typeface="隶书"/>
              </a:rPr>
              <a:t>用西餐完毕时刀叉摆放方法应该是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Times New Roman"/>
                <a:ea typeface="隶书"/>
              </a:rPr>
              <a:t>A</a:t>
            </a:r>
            <a:r>
              <a:rPr b="0" lang="zh-CN" sz="3200" spc="-1" strike="noStrike">
                <a:solidFill>
                  <a:srgbClr val="99cc00"/>
                </a:solidFill>
                <a:latin typeface="Times New Roman"/>
                <a:ea typeface="隶书"/>
              </a:rPr>
              <a:t>并排放盘子上   </a:t>
            </a:r>
            <a:r>
              <a:rPr b="0" lang="zh-CN" sz="3200" spc="-1" strike="noStrike">
                <a:solidFill>
                  <a:srgbClr val="99cc00"/>
                </a:solidFill>
                <a:latin typeface="Times New Roman"/>
                <a:ea typeface="隶书"/>
              </a:rPr>
              <a:t>B</a:t>
            </a:r>
            <a:r>
              <a:rPr b="0" lang="zh-CN" sz="3200" spc="-1" strike="noStrike">
                <a:solidFill>
                  <a:srgbClr val="99cc00"/>
                </a:solidFill>
                <a:latin typeface="Times New Roman"/>
                <a:ea typeface="隶书"/>
              </a:rPr>
              <a:t>交叉放盘子上   </a:t>
            </a:r>
            <a:r>
              <a:rPr b="0" lang="zh-CN" sz="3200" spc="-1" strike="noStrike">
                <a:solidFill>
                  <a:srgbClr val="99cc00"/>
                </a:solidFill>
                <a:latin typeface="Times New Roman"/>
                <a:ea typeface="隶书"/>
              </a:rPr>
              <a:t>C</a:t>
            </a:r>
            <a:r>
              <a:rPr b="0" lang="zh-CN" sz="3200" spc="-1" strike="noStrike">
                <a:solidFill>
                  <a:srgbClr val="99cc00"/>
                </a:solidFill>
                <a:latin typeface="Times New Roman"/>
                <a:ea typeface="隶书"/>
              </a:rPr>
              <a:t>随意放桌子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66760" y="1187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162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Times New Roman"/>
                <a:ea typeface="隶书"/>
              </a:rPr>
              <a:t>4.</a:t>
            </a:r>
            <a:r>
              <a:rPr b="0" lang="zh-CN" sz="3200" spc="-1" strike="noStrike">
                <a:solidFill>
                  <a:srgbClr val="009999"/>
                </a:solidFill>
                <a:latin typeface="Times New Roman"/>
                <a:ea typeface="隶书"/>
              </a:rPr>
              <a:t>进入别人房间首先要敲门，得到允许方可进入，敲门一般要敲（    ）。 </a:t>
            </a:r>
            <a:r>
              <a:rPr b="0" lang="zh-CN" sz="3200" spc="-1" strike="noStrike">
                <a:solidFill>
                  <a:srgbClr val="009999"/>
                </a:solidFill>
                <a:latin typeface="Times New Roman"/>
                <a:ea typeface="隶书"/>
              </a:rPr>
              <a:t>A</a:t>
            </a:r>
            <a:r>
              <a:rPr b="0" lang="zh-CN" sz="3200" spc="-1" strike="noStrike">
                <a:solidFill>
                  <a:srgbClr val="009999"/>
                </a:solidFill>
                <a:latin typeface="Times New Roman"/>
                <a:ea typeface="隶书"/>
              </a:rPr>
              <a:t>、</a:t>
            </a:r>
            <a:r>
              <a:rPr b="0" lang="zh-CN" sz="3200" spc="-1" strike="noStrike">
                <a:solidFill>
                  <a:srgbClr val="009999"/>
                </a:solidFill>
                <a:latin typeface="Times New Roman"/>
                <a:ea typeface="隶书"/>
              </a:rPr>
              <a:t>2</a:t>
            </a:r>
            <a:r>
              <a:rPr b="0" lang="zh-CN" sz="3200" spc="-1" strike="noStrike">
                <a:solidFill>
                  <a:srgbClr val="009999"/>
                </a:solidFill>
                <a:latin typeface="Times New Roman"/>
                <a:ea typeface="隶书"/>
              </a:rPr>
              <a:t>下  </a:t>
            </a:r>
            <a:r>
              <a:rPr b="0" lang="zh-CN" sz="3200" spc="-1" strike="noStrike">
                <a:solidFill>
                  <a:srgbClr val="009999"/>
                </a:solidFill>
                <a:latin typeface="Times New Roman"/>
                <a:ea typeface="隶书"/>
              </a:rPr>
              <a:t>B</a:t>
            </a:r>
            <a:r>
              <a:rPr b="0" lang="zh-CN" sz="3200" spc="-1" strike="noStrike">
                <a:solidFill>
                  <a:srgbClr val="009999"/>
                </a:solidFill>
                <a:latin typeface="Times New Roman"/>
                <a:ea typeface="隶书"/>
              </a:rPr>
              <a:t>、</a:t>
            </a:r>
            <a:r>
              <a:rPr b="0" lang="zh-CN" sz="3200" spc="-1" strike="noStrike">
                <a:solidFill>
                  <a:srgbClr val="009999"/>
                </a:solidFill>
                <a:latin typeface="Times New Roman"/>
                <a:ea typeface="隶书"/>
              </a:rPr>
              <a:t>3</a:t>
            </a:r>
            <a:r>
              <a:rPr b="0" lang="zh-CN" sz="3200" spc="-1" strike="noStrike">
                <a:solidFill>
                  <a:srgbClr val="009999"/>
                </a:solidFill>
                <a:latin typeface="Times New Roman"/>
                <a:ea typeface="隶书"/>
              </a:rPr>
              <a:t>下   </a:t>
            </a:r>
            <a:r>
              <a:rPr b="0" lang="zh-CN" sz="3200" spc="-1" strike="noStrike">
                <a:solidFill>
                  <a:srgbClr val="009999"/>
                </a:solidFill>
                <a:latin typeface="Times New Roman"/>
                <a:ea typeface="隶书"/>
              </a:rPr>
              <a:t>C</a:t>
            </a:r>
            <a:r>
              <a:rPr b="0" lang="zh-CN" sz="3200" spc="-1" strike="noStrike">
                <a:solidFill>
                  <a:srgbClr val="009999"/>
                </a:solidFill>
                <a:latin typeface="Times New Roman"/>
                <a:ea typeface="隶书"/>
              </a:rPr>
              <a:t>、</a:t>
            </a:r>
            <a:r>
              <a:rPr b="0" lang="zh-CN" sz="3200" spc="-1" strike="noStrike">
                <a:solidFill>
                  <a:srgbClr val="009999"/>
                </a:solidFill>
                <a:latin typeface="Times New Roman"/>
                <a:ea typeface="隶书"/>
              </a:rPr>
              <a:t>4</a:t>
            </a:r>
            <a:r>
              <a:rPr b="0" lang="zh-CN" sz="3200" spc="-1" strike="noStrike">
                <a:solidFill>
                  <a:srgbClr val="009999"/>
                </a:solidFill>
                <a:latin typeface="Times New Roman"/>
                <a:ea typeface="隶书"/>
              </a:rPr>
              <a:t>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1530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5.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呈递名片中不正确的说法是（        ）。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A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只能用右手呈递 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B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要将名片正面朝向接受方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C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接受的名片应放到名片夹或上衣口袋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71720" y="45403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Times New Roman"/>
                <a:ea typeface="隶书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06080" y="51404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91280" y="30067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Times New Roman"/>
                <a:ea typeface="隶书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06040" y="1816200"/>
            <a:ext cx="67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0" lang="zh-CN" sz="4000" spc="-1" strike="noStrike">
                <a:solidFill>
                  <a:srgbClr val="9933ff"/>
                </a:solidFill>
                <a:latin typeface="Times New Roman"/>
                <a:ea typeface="隶书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226120"/>
            <a:ext cx="9144000" cy="10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Times New Roman"/>
                <a:ea typeface="隶书"/>
              </a:rPr>
              <a:t>5.</a:t>
            </a:r>
            <a:r>
              <a:rPr b="0" lang="zh-CN" sz="3200" spc="-1" strike="noStrike">
                <a:solidFill>
                  <a:srgbClr val="9933ff"/>
                </a:solidFill>
                <a:latin typeface="Times New Roman"/>
                <a:ea typeface="隶书"/>
              </a:rPr>
              <a:t>在社交场合初次见面或与人交谈时，双方应该注视对方的（   ）才不算失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Times New Roman"/>
                <a:ea typeface="隶书"/>
              </a:rPr>
              <a:t>A</a:t>
            </a:r>
            <a:r>
              <a:rPr b="0" lang="zh-CN" sz="3200" spc="-1" strike="noStrike">
                <a:solidFill>
                  <a:srgbClr val="9933ff"/>
                </a:solidFill>
                <a:latin typeface="Times New Roman"/>
                <a:ea typeface="隶书"/>
              </a:rPr>
              <a:t>双眉到鼻尖的三角区域内     </a:t>
            </a:r>
            <a:r>
              <a:rPr b="0" lang="zh-CN" sz="3200" spc="-1" strike="noStrike">
                <a:solidFill>
                  <a:srgbClr val="9933ff"/>
                </a:solidFill>
                <a:latin typeface="Times New Roman"/>
                <a:ea typeface="隶书"/>
              </a:rPr>
              <a:t>B</a:t>
            </a:r>
            <a:r>
              <a:rPr b="0" lang="zh-CN" sz="3200" spc="-1" strike="noStrike">
                <a:solidFill>
                  <a:srgbClr val="9933ff"/>
                </a:solidFill>
                <a:latin typeface="Times New Roman"/>
                <a:ea typeface="隶书"/>
              </a:rPr>
              <a:t>上半身   </a:t>
            </a:r>
            <a:r>
              <a:rPr b="0" lang="zh-CN" sz="3200" spc="-1" strike="noStrike">
                <a:solidFill>
                  <a:srgbClr val="9933ff"/>
                </a:solidFill>
                <a:latin typeface="Times New Roman"/>
                <a:ea typeface="隶书"/>
              </a:rPr>
              <a:t>C</a:t>
            </a:r>
            <a:r>
              <a:rPr b="0" lang="zh-CN" sz="3200" spc="-1" strike="noStrike">
                <a:solidFill>
                  <a:srgbClr val="9933ff"/>
                </a:solidFill>
                <a:latin typeface="Times New Roman"/>
                <a:ea typeface="隶书"/>
              </a:rPr>
              <a:t>胸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0200" y="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第三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439120" y="6086520"/>
            <a:ext cx="566640" cy="485640"/>
          </a:xfrm>
          <a:prstGeom prst="leftArrow">
            <a:avLst>
              <a:gd name="adj1" fmla="val 50000"/>
              <a:gd name="adj2" fmla="val 29170"/>
            </a:avLst>
          </a:prstGeom>
          <a:gradFill rotWithShape="0">
            <a:gsLst>
              <a:gs pos="0">
                <a:srgbClr val="00ff00">
                  <a:alpha val="30196"/>
                </a:srgbClr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20560"/>
            <a:ext cx="90075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1.“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礼义廉耻，国之四维，四维不张，国乃灭亡”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出自（        ）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A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《管子》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B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《老子》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C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《孔子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6680" y="1851120"/>
            <a:ext cx="8408880" cy="9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隶书"/>
              </a:rPr>
              <a:t>2.</a:t>
            </a: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隶书"/>
              </a:rPr>
              <a:t>探望病人的时间长短大约（     ）较为适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隶书"/>
              </a:rPr>
              <a:t>A</a:t>
            </a: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隶书"/>
              </a:rPr>
              <a:t>、</a:t>
            </a: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隶书"/>
              </a:rPr>
              <a:t>1—10</a:t>
            </a: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隶书"/>
              </a:rPr>
              <a:t>分钟   </a:t>
            </a: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隶书"/>
              </a:rPr>
              <a:t>B</a:t>
            </a: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隶书"/>
              </a:rPr>
              <a:t>、</a:t>
            </a: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隶书"/>
              </a:rPr>
              <a:t>10—30</a:t>
            </a: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隶书"/>
              </a:rPr>
              <a:t>分钟   </a:t>
            </a: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隶书"/>
              </a:rPr>
              <a:t>C</a:t>
            </a:r>
            <a:r>
              <a:rPr b="0" lang="zh-CN" sz="3200" spc="-1" strike="noStrike">
                <a:solidFill>
                  <a:srgbClr val="66ff33"/>
                </a:solidFill>
                <a:latin typeface="Times New Roman"/>
                <a:ea typeface="隶书"/>
              </a:rPr>
              <a:t>半个小时以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062160"/>
            <a:ext cx="898992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Times New Roman"/>
                <a:ea typeface="隶书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Times New Roman"/>
                <a:ea typeface="隶书"/>
              </a:rPr>
              <a:t>在参加宴请中，应等（    ）坐定后，方可入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Times New Roman"/>
                <a:ea typeface="隶书"/>
              </a:rPr>
              <a:t>     </a:t>
            </a:r>
            <a:r>
              <a:rPr b="0" lang="zh-CN" sz="3200" spc="-1" strike="noStrike">
                <a:solidFill>
                  <a:srgbClr val="009999"/>
                </a:solidFill>
                <a:latin typeface="Times New Roman"/>
                <a:ea typeface="隶书"/>
              </a:rPr>
              <a:t>A</a:t>
            </a:r>
            <a:r>
              <a:rPr b="0" lang="zh-CN" sz="3200" spc="-1" strike="noStrike">
                <a:solidFill>
                  <a:srgbClr val="009999"/>
                </a:solidFill>
                <a:latin typeface="Times New Roman"/>
                <a:ea typeface="隶书"/>
              </a:rPr>
              <a:t>、主人     </a:t>
            </a:r>
            <a:r>
              <a:rPr b="0" lang="zh-CN" sz="3200" spc="-1" strike="noStrike">
                <a:solidFill>
                  <a:srgbClr val="009999"/>
                </a:solidFill>
                <a:latin typeface="Times New Roman"/>
                <a:ea typeface="隶书"/>
              </a:rPr>
              <a:t>B</a:t>
            </a:r>
            <a:r>
              <a:rPr b="0" lang="zh-CN" sz="3200" spc="-1" strike="noStrike">
                <a:solidFill>
                  <a:srgbClr val="009999"/>
                </a:solidFill>
                <a:latin typeface="Times New Roman"/>
                <a:ea typeface="隶书"/>
              </a:rPr>
              <a:t>、长者     </a:t>
            </a:r>
            <a:r>
              <a:rPr b="0" lang="zh-CN" sz="3200" spc="-1" strike="noStrike">
                <a:solidFill>
                  <a:srgbClr val="009999"/>
                </a:solidFill>
                <a:latin typeface="Times New Roman"/>
                <a:ea typeface="隶书"/>
              </a:rPr>
              <a:t>C</a:t>
            </a:r>
            <a:r>
              <a:rPr b="0" lang="zh-CN" sz="3200" spc="-1" strike="noStrike">
                <a:solidFill>
                  <a:srgbClr val="009999"/>
                </a:solidFill>
                <a:latin typeface="Times New Roman"/>
                <a:ea typeface="隶书"/>
              </a:rPr>
              <a:t>、女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186080"/>
            <a:ext cx="939636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4.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介绍他人或为他人指示方向时的手势应该用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A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、食指 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B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、拇指 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C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、掌心向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00120" y="1123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71840" y="16444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Times New Roman"/>
                <a:ea typeface="隶书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38720" y="2873520"/>
            <a:ext cx="64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0" lang="zh-CN" sz="4000" spc="-1" strike="noStrike">
                <a:solidFill>
                  <a:srgbClr val="009999"/>
                </a:solidFill>
                <a:latin typeface="Times New Roman"/>
                <a:ea typeface="隶书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462880" y="39117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隶书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34000" y="5607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Times New Roman"/>
                <a:ea typeface="隶书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61960" y="752400"/>
            <a:ext cx="8086680" cy="5543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36600" y="13622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小品表演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8280" y="2749680"/>
            <a:ext cx="38671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表演者：李     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ff"/>
                </a:solidFill>
                <a:latin typeface="Times New Roman"/>
                <a:ea typeface="隶书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ff"/>
                </a:solidFill>
                <a:latin typeface="Times New Roman"/>
                <a:ea typeface="隶书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91120" y="33256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丁希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72440" y="3959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陈    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33520" y="5135400"/>
            <a:ext cx="8094600" cy="1154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905280" y="1562040"/>
            <a:ext cx="43336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《超酷的服装》</a:t>
            </a:r>
            <a:endParaRPr b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401120" y="10857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相声表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37960" y="2637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表演者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465280" y="4608360"/>
            <a:ext cx="870120" cy="111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234120" y="34304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余海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24400" y="4249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王溢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110120" y="1123920"/>
            <a:ext cx="4190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《讲礼貌》</a:t>
            </a:r>
            <a:endParaRPr b="1" i="1" lang="en-US" sz="66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146320" y="132552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你如何看待学校的不文明现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65400" y="3083040"/>
            <a:ext cx="61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面对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2008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奥运年，我们应该怎么做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467480" y="5772240"/>
            <a:ext cx="1676520" cy="10857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077560" y="2379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9900"/>
                </a:solidFill>
                <a:latin typeface="Times New Roman"/>
                <a:ea typeface="隶书"/>
              </a:rPr>
              <a:t>思考讨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31T16:33:4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2:11:04Z</dcterms:modified>
  <cp:revision>37</cp:revision>
  <dc:subject>主题班会课件(分28大类): http://shop62905894.taobao.com</dc:subject>
  <dc:title>主题班会课件(分28大类): http://shop62905894.taobao.com</dc:title>
</cp:coreProperties>
</file>