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BA7-618F-4953-8656-A650E2D3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288-5F8C-4310-BF1E-1D4183A2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C72-2784-4E0D-A232-AFFBF98C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869-9095-4CD4-A6C9-22186C73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0DB-AC2F-411D-AC5A-EC2B3AFB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3A2-6673-497E-BB9F-CEE6390C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282-B467-400C-AAF0-FFED026D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B03-72BA-449A-86A8-5B4307A0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7BE-54D8-4216-9C30-DDAF3265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FE9-9132-4EB5-83D8-808E209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442-EAEE-4CEE-9EAD-62669861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993-FD2D-437B-89B4-70F4887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38A4-BEB5-478D-A097-FC296C0E02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429264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    们    是    祖    国   的   希   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6320" y="765000"/>
            <a:ext cx="4852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  们  是  八  九  点  钟      太  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092560"/>
            <a:ext cx="1778040" cy="1765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09840" y="5084640"/>
            <a:ext cx="67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99"/>
                </a:solidFill>
                <a:latin typeface="Arial"/>
              </a:rPr>
              <a:t>爱我校园，共建和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大家都知道，我们的校园巍然屹立于海湾大桥之滨，南北观海长廊之间，中澳友谊花园之侧。校园占地面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0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亩，有教学区、生活区、运动区和生态区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个功能区，拥有现代电化教学综合管理系统，实现了学校管理和教学的现代化。学校积极推进素质教育，教育教学成果显著，连续四年高考出广东省高考总分或单科状元，连续六年“三线”湛江市第一，连续四年被评为“湛江市高考特等奖”单位。作为湛江市一所拥有悠久历史的名校，市二中秉承“爱国、敬业、求实、创新”校训和“团结、勤奋、严谨、活泼”校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1197000"/>
            <a:ext cx="77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多年来，学校广大教师以“执着追求事业的精神，扎实严谨的工作作风，宽容协作的团队意识”发奋努力，坚持以追求“高水平、高境界、高质量”为原则，确立了学校的“四个办学意识，五个发展理念，五个育人观念”作为“二中人”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2442960" cy="197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780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77504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3191040"/>
            <a:ext cx="2449440" cy="1836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四个办学意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87640" y="1700280"/>
            <a:ext cx="59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质量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让学生成才，让家长放心，让社会满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品牌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办名校，育名人，树名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竞争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竞争中求生存，在合作中求和谐，在创新中求发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服务意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一切为了学生，为了一切学生，为了学生的一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24000" y="237960"/>
            <a:ext cx="2447640" cy="183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227640" y="4653000"/>
            <a:ext cx="2665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360" y="476280"/>
            <a:ext cx="568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五个发展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19280" y="2276640"/>
            <a:ext cx="2962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创品牌立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依法规办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用民主治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倡文化育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以科研兴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36003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93080" y="5092560"/>
            <a:ext cx="1778040" cy="1765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五种育人观念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以培养创新精神和实践能力为重点的人才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以提高素质为宗旨的教育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以全面发展为目的的质量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以学法指导为主线的教学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以学生为主体的学生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些构成了湛二中教师队伍的“魂”，是学校数年探索实践和归纳总结出来的办学理念，是办好学校的精神文化的支柱，是二中校园文化的集中体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127320" cy="2346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76720" y="147168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50920" y="1341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084720" y="4292640"/>
            <a:ext cx="2843280" cy="208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348000" y="422100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360360"/>
            <a:ext cx="7921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百年教育，百年树人，春风化雨，硕果累累。学校建设规模不断扩大，设备设施不断充实，校园美化、绿化明显改善，教育教学质量稳步提高，学子足迹遍五洲，学校喜获多项殊荣。可谓“春风五十度，桃李满天下”。在学校又一轮迎检的最后准备阶段，同学们都应该如何做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9900ff"/>
                </a:solidFill>
                <a:latin typeface="Arial"/>
              </a:rPr>
              <a:t>请大家各自谈谈看法。（我们能为迎评做什么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同学们好</a:t>
            </a: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026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今天我们要讨论的主题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《爱我校园，共建和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主要是配合迎检，让团员们更深入的领会二中创建国家级示范性普通高中的重大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为了配合学校迎接上级的检查，在最后准备阶段，让我校团员更加了解创建国家级示范性普通高中的意义，进一步提高我校团员对迎检工作知晓率和支持率。我觉得是非常有必要和十分重要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讨论之前，我给大家看几张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7780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76197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6197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9804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65960" y="0"/>
            <a:ext cx="1778040" cy="1765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799308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刚才的几张图片，大家都很熟悉，这不是我自己拍的，而是从一位师兄的博客上下载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位兄长目前在电子科大就读。他在文章的开头写到：“过去在学校没有珍惜，不懂得为学校做点什么，如今，只要听到母校的任何消息都觉得兴奋无比。想想能做点什么作为对过去的补偿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为此，就有了“母校二中”这个网站。这几张图就是从网上载下的。他在文中还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“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现在的二中新校区已经建得相当好了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但无论如何我还是怀念以前的旧校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无论原来的条件有多不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发生在那里的点滴都是成长的印记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这所学校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给了我三年的回忆以及美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翻了二中最近的新闻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看到老师的身影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过去的已经过去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时间不断的流逝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怀古必伤今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4360" y="486900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37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这是离开学校了的兄长的感言，同学们，我们目前就读的环境较他们当时好多了，在如此环境优美的校园中学习、生活，难道我们不应该更加努力，为我们学校更加美好做一些有意义的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去年，经广东省国家级示范性高中专家组督导评估，学校就以高分通过了国家级示范性普通高中验收。一年过去了，一切只能是越来越好。不是吗？我们一年级的新生，又为校园的文明增添了新的活力。我们应该营造出团结和谐、积极进取的“大家庭”氛围，为学校赢得更大的声誉而努力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8137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8:30:2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0:34Z</dcterms:modified>
  <cp:revision>4</cp:revision>
  <dc:subject>主题班会课件(分28大类): http://shop62905894.taobao.com</dc:subject>
  <dc:title>主题班会课件(分28大类): http://shop62905894.taobao.com</dc:title>
</cp:coreProperties>
</file>