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8.jpeg" ContentType="image/jpeg"/>
  <Override PartName="/ppt/media/image10.jpeg" ContentType="image/jpeg"/>
  <Override PartName="/ppt/media/image14.jpeg" ContentType="image/jpeg"/>
  <Override PartName="/ppt/media/image13.jpeg" ContentType="image/jpeg"/>
  <Override PartName="/ppt/media/image1.gif" ContentType="image/gif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chimes.wav" ContentType="audio/x-wav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DB9BA-257A-4190-AD35-2CCF5F24E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078B8-4113-4695-BE98-3657572D3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19CA7-7F05-4652-A9DF-EC243D5BC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6069C-5A30-4E29-93C7-130678E3D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2F647-8D52-44B2-8FFA-07268234F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FA3D3-F84B-4C35-9F62-726D72E41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E8744-60B1-4CB2-934B-36F372B4F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5ECE6-9A2F-4598-A2A5-2F0489A9D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C4916-EE75-4A69-A614-038A31F68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E1BAA-A00B-4335-B5FE-3F1D2A33F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EA43C-AE8E-4B1D-BCB2-93DA50A4F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1E36E-7CC2-484B-BC34-B49248A38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E28F2-B171-4618-B646-18A378676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1213C-2D98-42E2-ADE6-8915F5EE9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F622B-485B-47F9-BD9E-58D6CC780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47782-A585-472F-A4E7-355D82A50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63B03-F998-4C91-B07D-E5E33E8AC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525C9D-4060-4F13-95E2-6388DA206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9BAA9D-43C7-4C9F-87A5-71C05BC86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47894B-63C5-4ECF-BB99-8F1F011A1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D2BA08-FF60-4577-9907-FBF237595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667C22-0323-4502-970A-4BAB12C65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CD74A-C6B6-41E1-835B-B4A23AD7F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5D8836-491A-4B61-9842-735CCCD9D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3A850D-C08C-42DE-B109-CC63E8B86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4D6FD9-8840-48E1-89FC-A3B713951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F46298-5FA2-4815-BDF4-1C903B00E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8F49DF-676F-481D-931A-843B26867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48B95E-FFD0-4C12-A727-EBDAB2609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E4E6F5-43EF-4CF4-AA96-F93D0F376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1D2BE-FA2C-49A7-B57E-89B2EBD0F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BDCA2-1E4B-48C0-B20B-39D40ACFD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5172D-5344-47D8-88B0-CC969E09D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2F7E3-D68A-4D6F-AA2B-336C3C2D1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6C784-6AD0-4EAE-A7DB-9161CE17D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288A1-107E-4170-89F9-4C381BE3E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EA7FF-B41D-4033-AF4D-FE2C97A51AF5}" type="slidenum">
              <a:rPr b="0" lang="zh-CN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07972-31E4-4392-8A55-6A09A50E0989}" type="slidenum">
              <a:rPr b="0" lang="zh-CN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8F8A6-B158-4198-8EC7-B97206E814E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" Target="slide5.xm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7.xml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" Target="slide14.xml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market.china-fire.com.cn/Article_Show.asp?ArticleID=239" TargetMode="External"/><Relationship Id="rId2" Type="http://schemas.openxmlformats.org/officeDocument/2006/relationships/image" Target="../media/image11.jpeg"/><Relationship Id="rId3" Type="http://schemas.openxmlformats.org/officeDocument/2006/relationships/hyperlink" Target="http://market.china-fire.com.cn/Article_Show.asp?ArticleID=203" TargetMode="External"/><Relationship Id="rId4" Type="http://schemas.openxmlformats.org/officeDocument/2006/relationships/image" Target="../media/image12.jpeg"/><Relationship Id="rId5" Type="http://schemas.openxmlformats.org/officeDocument/2006/relationships/hyperlink" Target="http://market.china-fire.com.cn/Article_Show.asp?ArticleID=196" TargetMode="External"/><Relationship Id="rId6" Type="http://schemas.openxmlformats.org/officeDocument/2006/relationships/image" Target="../media/image13.jpeg"/><Relationship Id="rId7" Type="http://schemas.openxmlformats.org/officeDocument/2006/relationships/hyperlink" Target="http://market.china-fire.com.cn/UploadFiles/2004825185846665.jpg" TargetMode="External"/><Relationship Id="rId8" Type="http://schemas.openxmlformats.org/officeDocument/2006/relationships/image" Target="../media/image14.jpeg"/><Relationship Id="rId9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5.xm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13.xm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8.xml"/><Relationship Id="rId3" Type="http://schemas.openxmlformats.org/officeDocument/2006/relationships/slide" Target="slide9.xml"/><Relationship Id="rId4" Type="http://schemas.openxmlformats.org/officeDocument/2006/relationships/slide" Target="slide12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" Target="slide3.xml"/><Relationship Id="rId5" Type="http://schemas.openxmlformats.org/officeDocument/2006/relationships/slide" Target="slide10.xml"/><Relationship Id="rId6" Type="http://schemas.openxmlformats.org/officeDocument/2006/relationships/slide" Target="slide15.xml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5.xm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/>
          <p:nvPr/>
        </p:nvSpPr>
        <p:spPr>
          <a:xfrm>
            <a:off x="380880" y="0"/>
            <a:ext cx="8382240" cy="33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00"/>
                </a:solidFill>
                <a:latin typeface="隶书"/>
                <a:ea typeface="隶书"/>
              </a:rPr>
              <a:t> </a:t>
            </a:r>
            <a:r>
              <a:rPr b="1" lang="zh-CN" sz="6000" spc="-1" strike="noStrike">
                <a:solidFill>
                  <a:srgbClr val="ffff66"/>
                </a:solidFill>
                <a:latin typeface="隶书"/>
                <a:ea typeface="隶书"/>
              </a:rPr>
              <a:t>第二章</a:t>
            </a:r>
            <a:endParaRPr b="0" lang="en-US" sz="60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66"/>
                </a:solidFill>
                <a:latin typeface="隶书"/>
                <a:ea typeface="隶书"/>
              </a:rPr>
              <a:t> </a:t>
            </a:r>
            <a:r>
              <a:rPr b="1" lang="zh-CN" sz="5400" spc="-1" strike="noStrike">
                <a:solidFill>
                  <a:srgbClr val="ffff66"/>
                </a:solidFill>
                <a:latin typeface="隶书"/>
                <a:ea typeface="隶书"/>
              </a:rPr>
              <a:t>燃烧 、灭火和火灾自救</a:t>
            </a:r>
            <a:endParaRPr b="0" lang="en-US" sz="54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ff33"/>
                </a:solidFill>
                <a:latin typeface="隶书"/>
                <a:ea typeface="隶书"/>
              </a:rPr>
              <a:t>        </a:t>
            </a:r>
            <a:r>
              <a:rPr b="1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（复习课）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391" name="" descr=""/>
          <p:cNvPicPr/>
          <p:nvPr/>
        </p:nvPicPr>
        <p:blipFill>
          <a:blip r:embed="rId1"/>
          <a:stretch/>
        </p:blipFill>
        <p:spPr>
          <a:xfrm>
            <a:off x="2411280" y="2276640"/>
            <a:ext cx="468180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228240" y="1904760"/>
            <a:ext cx="81644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 Black"/>
              </a:rPr>
              <a:t>点燃下列混合气体时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</a:rPr>
              <a:t>,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</a:rPr>
              <a:t>可能发生爆炸</a:t>
            </a: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Arial Black"/>
              </a:rPr>
              <a:t>的是         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</a:rPr>
              <a:t>(       )</a:t>
            </a:r>
            <a:br>
              <a:rPr sz="3600"/>
            </a:br>
            <a:br>
              <a:rPr sz="3600"/>
            </a:br>
            <a:r>
              <a:rPr b="0" lang="zh-CN" sz="3600" spc="-1" strike="noStrike">
                <a:solidFill>
                  <a:srgbClr val="ffffff"/>
                </a:solidFill>
                <a:latin typeface="Arial Black"/>
              </a:rPr>
              <a:t>(A)CH</a:t>
            </a:r>
            <a:r>
              <a:rPr b="0" lang="zh-CN" sz="2800" spc="-1" strike="noStrike">
                <a:solidFill>
                  <a:srgbClr val="ffffff"/>
                </a:solidFill>
                <a:latin typeface="Arial Black"/>
              </a:rPr>
              <a:t>4</a:t>
            </a:r>
            <a:r>
              <a:rPr b="0" lang="zh-CN" sz="3600" spc="-1" strike="noStrike">
                <a:solidFill>
                  <a:srgbClr val="ffffff"/>
                </a:solidFill>
                <a:latin typeface="Arial Black"/>
              </a:rPr>
              <a:t>和</a:t>
            </a:r>
            <a:r>
              <a:rPr b="0" lang="zh-CN" sz="3600" spc="-1" strike="noStrike">
                <a:solidFill>
                  <a:srgbClr val="ffffff"/>
                </a:solidFill>
                <a:latin typeface="Arial Black"/>
              </a:rPr>
              <a:t>O</a:t>
            </a:r>
            <a:r>
              <a:rPr b="0" lang="zh-CN" sz="2800" spc="-1" strike="noStrike">
                <a:solidFill>
                  <a:srgbClr val="ffffff"/>
                </a:solidFill>
                <a:latin typeface="Arial Black"/>
              </a:rPr>
              <a:t>2</a:t>
            </a:r>
            <a:r>
              <a:rPr b="0" lang="zh-CN" sz="3600" spc="-1" strike="noStrike">
                <a:solidFill>
                  <a:srgbClr val="ffffff"/>
                </a:solidFill>
                <a:latin typeface="Arial Black"/>
              </a:rPr>
              <a:t>          (B)CO</a:t>
            </a:r>
            <a:r>
              <a:rPr b="0" lang="zh-CN" sz="3600" spc="-1" strike="noStrike">
                <a:solidFill>
                  <a:srgbClr val="ffffff"/>
                </a:solidFill>
                <a:latin typeface="Arial Black"/>
              </a:rPr>
              <a:t>和</a:t>
            </a:r>
            <a:r>
              <a:rPr b="0" lang="zh-CN" sz="3600" spc="-1" strike="noStrike">
                <a:solidFill>
                  <a:srgbClr val="ffffff"/>
                </a:solidFill>
                <a:latin typeface="Arial Black"/>
              </a:rPr>
              <a:t>CO</a:t>
            </a:r>
            <a:r>
              <a:rPr b="0" lang="zh-CN" sz="2800" spc="-1" strike="noStrike">
                <a:solidFill>
                  <a:srgbClr val="ffffff"/>
                </a:solidFill>
                <a:latin typeface="Arial Black"/>
              </a:rPr>
              <a:t>2</a:t>
            </a:r>
            <a:br>
              <a:rPr sz="3600"/>
            </a:br>
            <a:br>
              <a:rPr sz="3600"/>
            </a:br>
            <a:r>
              <a:rPr b="0" lang="zh-CN" sz="3600" spc="-1" strike="noStrike">
                <a:solidFill>
                  <a:srgbClr val="ffffff"/>
                </a:solidFill>
                <a:latin typeface="Arial Black"/>
              </a:rPr>
              <a:t>(C)N</a:t>
            </a:r>
            <a:r>
              <a:rPr b="0" lang="zh-CN" sz="2800" spc="-1" strike="noStrike">
                <a:solidFill>
                  <a:srgbClr val="ffffff"/>
                </a:solidFill>
                <a:latin typeface="Arial Black"/>
              </a:rPr>
              <a:t>2</a:t>
            </a:r>
            <a:r>
              <a:rPr b="0" lang="zh-CN" sz="3600" spc="-1" strike="noStrike">
                <a:solidFill>
                  <a:srgbClr val="ffffff"/>
                </a:solidFill>
                <a:latin typeface="Arial Black"/>
              </a:rPr>
              <a:t>和</a:t>
            </a:r>
            <a:r>
              <a:rPr b="0" lang="zh-CN" sz="3600" spc="-1" strike="noStrike">
                <a:solidFill>
                  <a:srgbClr val="ffffff"/>
                </a:solidFill>
                <a:latin typeface="Arial Black"/>
              </a:rPr>
              <a:t>O</a:t>
            </a:r>
            <a:r>
              <a:rPr b="0" lang="zh-CN" sz="2800" spc="-1" strike="noStrike">
                <a:solidFill>
                  <a:srgbClr val="ffffff"/>
                </a:solidFill>
                <a:latin typeface="Arial Black"/>
              </a:rPr>
              <a:t>2</a:t>
            </a:r>
            <a:r>
              <a:rPr b="0" lang="zh-CN" sz="3600" spc="-1" strike="noStrike">
                <a:solidFill>
                  <a:srgbClr val="ffffff"/>
                </a:solidFill>
                <a:latin typeface="Arial Black"/>
              </a:rPr>
              <a:t>            (D)CH</a:t>
            </a:r>
            <a:r>
              <a:rPr b="0" lang="zh-CN" sz="2800" spc="-1" strike="noStrike">
                <a:solidFill>
                  <a:srgbClr val="ffffff"/>
                </a:solidFill>
                <a:latin typeface="Arial Black"/>
              </a:rPr>
              <a:t>4</a:t>
            </a:r>
            <a:r>
              <a:rPr b="0" lang="zh-CN" sz="3600" spc="-1" strike="noStrike">
                <a:solidFill>
                  <a:srgbClr val="ffffff"/>
                </a:solidFill>
                <a:latin typeface="Arial Black"/>
              </a:rPr>
              <a:t>和</a:t>
            </a:r>
            <a:r>
              <a:rPr b="0" lang="zh-CN" sz="3600" spc="-1" strike="noStrike">
                <a:solidFill>
                  <a:srgbClr val="ffffff"/>
                </a:solidFill>
                <a:latin typeface="Arial Black"/>
              </a:rPr>
              <a:t>CO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2" name=""/>
          <p:cNvSpPr/>
          <p:nvPr/>
        </p:nvSpPr>
        <p:spPr>
          <a:xfrm>
            <a:off x="1239840" y="620640"/>
            <a:ext cx="657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172200" y="2971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 Narrow"/>
              </a:rPr>
              <a:t>A</a:t>
            </a:r>
            <a:r>
              <a:rPr b="0" lang="en-US" sz="2800" spc="-1" strike="noStrike">
                <a:solidFill>
                  <a:srgbClr val="ffff99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44" name="">
            <a:hlinkClick r:id="rId1" action="ppaction://hlinksldjump"/>
          </p:cNvPr>
          <p:cNvSpPr/>
          <p:nvPr/>
        </p:nvSpPr>
        <p:spPr>
          <a:xfrm>
            <a:off x="8785080" y="6534000"/>
            <a:ext cx="358920" cy="324000"/>
          </a:xfrm>
          <a:custGeom>
            <a:avLst/>
            <a:gdLst>
              <a:gd name="textAreaLeft" fmla="*/ 20880 w 358920"/>
              <a:gd name="textAreaRight" fmla="*/ 338040 w 358920"/>
              <a:gd name="textAreaTop" fmla="*/ 20880 h 324000"/>
              <a:gd name="textAreaBottom" fmla="*/ 303120 h 324000"/>
            </a:gdLst>
            <a:ahLst/>
            <a:rect l="textAreaLeft" t="textAreaTop" r="textAreaRight" b="textAreaBottom"/>
            <a:pathLst>
              <a:path w="23925" h="21600">
                <a:moveTo>
                  <a:pt x="0" y="0"/>
                </a:moveTo>
                <a:lnTo>
                  <a:pt x="23925" y="0"/>
                </a:lnTo>
                <a:lnTo>
                  <a:pt x="23925" y="21600"/>
                </a:lnTo>
                <a:lnTo>
                  <a:pt x="0" y="21600"/>
                </a:lnTo>
                <a:close/>
              </a:path>
              <a:path fill="lightenLess" w="23925" h="21600">
                <a:moveTo>
                  <a:pt x="0" y="0"/>
                </a:moveTo>
                <a:lnTo>
                  <a:pt x="23925" y="0"/>
                </a:lnTo>
                <a:lnTo>
                  <a:pt x="22525" y="1400"/>
                </a:lnTo>
                <a:lnTo>
                  <a:pt x="1400" y="1400"/>
                </a:lnTo>
                <a:close/>
              </a:path>
              <a:path fill="darken" w="23925" h="21600">
                <a:moveTo>
                  <a:pt x="23925" y="0"/>
                </a:moveTo>
                <a:lnTo>
                  <a:pt x="23925" y="21600"/>
                </a:lnTo>
                <a:lnTo>
                  <a:pt x="22525" y="20200"/>
                </a:lnTo>
                <a:lnTo>
                  <a:pt x="22525" y="1400"/>
                </a:lnTo>
                <a:close/>
              </a:path>
              <a:path fill="darkenLess" w="23925" h="21600">
                <a:moveTo>
                  <a:pt x="2392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25" y="20200"/>
                </a:lnTo>
                <a:close/>
              </a:path>
              <a:path fill="lighten" w="2392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25" h="21600">
                <a:moveTo>
                  <a:pt x="4956" y="7493"/>
                </a:moveTo>
                <a:lnTo>
                  <a:pt x="8464" y="7493"/>
                </a:lnTo>
                <a:lnTo>
                  <a:pt x="8464" y="12828"/>
                </a:lnTo>
                <a:cubicBezTo>
                  <a:pt x="8464" y="13751"/>
                  <a:pt x="9265" y="14482"/>
                  <a:pt x="10300" y="14482"/>
                </a:cubicBezTo>
                <a:lnTo>
                  <a:pt x="11963" y="14482"/>
                </a:lnTo>
                <a:cubicBezTo>
                  <a:pt x="12998" y="14482"/>
                  <a:pt x="13799" y="13751"/>
                  <a:pt x="13799" y="12828"/>
                </a:cubicBezTo>
                <a:lnTo>
                  <a:pt x="13799" y="7493"/>
                </a:lnTo>
                <a:lnTo>
                  <a:pt x="11963" y="7493"/>
                </a:lnTo>
                <a:lnTo>
                  <a:pt x="15470" y="3985"/>
                </a:lnTo>
                <a:lnTo>
                  <a:pt x="19143" y="7493"/>
                </a:lnTo>
                <a:lnTo>
                  <a:pt x="17307" y="7493"/>
                </a:lnTo>
                <a:lnTo>
                  <a:pt x="17307" y="12828"/>
                </a:lnTo>
                <a:cubicBezTo>
                  <a:pt x="17307" y="15596"/>
                  <a:pt x="14730" y="18155"/>
                  <a:pt x="11963" y="18155"/>
                </a:cubicBezTo>
                <a:lnTo>
                  <a:pt x="10300" y="18155"/>
                </a:lnTo>
                <a:cubicBezTo>
                  <a:pt x="7533" y="18155"/>
                  <a:pt x="4956" y="15596"/>
                  <a:pt x="4956" y="12828"/>
                </a:cubicBezTo>
                <a:close/>
              </a:path>
            </a:pathLst>
          </a:custGeom>
          <a:solidFill>
            <a:srgbClr val="ff8b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"/>
          <p:cNvSpPr/>
          <p:nvPr/>
        </p:nvSpPr>
        <p:spPr>
          <a:xfrm>
            <a:off x="228600" y="3048120"/>
            <a:ext cx="80773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99"/>
                </a:solidFill>
                <a:latin typeface="Arial Narrow"/>
                <a:ea typeface="隶书"/>
              </a:rPr>
              <a:t>从经济（价格）、节约能源、保护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99"/>
                </a:solidFill>
                <a:latin typeface="Arial Narrow"/>
                <a:ea typeface="隶书"/>
              </a:rPr>
              <a:t>环境、使用方便等因素综合考虑。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46" name="">
            <a:hlinkClick r:id="" action="ppaction://hlinkshowjump?jump=previousslide"/>
          </p:cNvPr>
          <p:cNvSpPr/>
          <p:nvPr/>
        </p:nvSpPr>
        <p:spPr>
          <a:xfrm>
            <a:off x="2743200" y="5867280"/>
            <a:ext cx="76320" cy="76320"/>
          </a:xfrm>
          <a:custGeom>
            <a:avLst/>
            <a:gdLst>
              <a:gd name="textAreaLeft" fmla="*/ 4680 w 76320"/>
              <a:gd name="textAreaRight" fmla="*/ 71640 w 76320"/>
              <a:gd name="textAreaTop" fmla="*/ 4680 h 76320"/>
              <a:gd name="textAreaBottom" fmla="*/ 7164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352680" y="510552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3797" y="7493"/>
                </a:moveTo>
                <a:lnTo>
                  <a:pt x="7305" y="7493"/>
                </a:lnTo>
                <a:lnTo>
                  <a:pt x="7305" y="12828"/>
                </a:lnTo>
                <a:cubicBezTo>
                  <a:pt x="7305" y="13751"/>
                  <a:pt x="8106" y="14482"/>
                  <a:pt x="9141" y="14482"/>
                </a:cubicBezTo>
                <a:lnTo>
                  <a:pt x="10804" y="14482"/>
                </a:lnTo>
                <a:cubicBezTo>
                  <a:pt x="11839" y="14482"/>
                  <a:pt x="12640" y="13751"/>
                  <a:pt x="12640" y="12828"/>
                </a:cubicBezTo>
                <a:lnTo>
                  <a:pt x="12640" y="7493"/>
                </a:lnTo>
                <a:lnTo>
                  <a:pt x="10804" y="7493"/>
                </a:lnTo>
                <a:lnTo>
                  <a:pt x="14311" y="3985"/>
                </a:lnTo>
                <a:lnTo>
                  <a:pt x="17984" y="7493"/>
                </a:lnTo>
                <a:lnTo>
                  <a:pt x="16148" y="7493"/>
                </a:lnTo>
                <a:lnTo>
                  <a:pt x="16148" y="12828"/>
                </a:lnTo>
                <a:cubicBezTo>
                  <a:pt x="16148" y="15596"/>
                  <a:pt x="13572" y="18155"/>
                  <a:pt x="10804" y="18155"/>
                </a:cubicBezTo>
                <a:lnTo>
                  <a:pt x="9141" y="18155"/>
                </a:lnTo>
                <a:cubicBezTo>
                  <a:pt x="6374" y="18155"/>
                  <a:pt x="3797" y="15596"/>
                  <a:pt x="3797" y="12828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48" name="">
            <a:hlinkClick r:id="rId1" action="ppaction://hlinksldjump"/>
          </p:cNvPr>
          <p:cNvSpPr/>
          <p:nvPr/>
        </p:nvSpPr>
        <p:spPr>
          <a:xfrm>
            <a:off x="8763120" y="6500880"/>
            <a:ext cx="380880" cy="357120"/>
          </a:xfrm>
          <a:custGeom>
            <a:avLst/>
            <a:gdLst>
              <a:gd name="textAreaLeft" fmla="*/ 23040 w 380880"/>
              <a:gd name="textAreaRight" fmla="*/ 357840 w 38088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3036" h="21600">
                <a:moveTo>
                  <a:pt x="0" y="0"/>
                </a:moveTo>
                <a:lnTo>
                  <a:pt x="23036" y="0"/>
                </a:lnTo>
                <a:lnTo>
                  <a:pt x="23036" y="21600"/>
                </a:lnTo>
                <a:lnTo>
                  <a:pt x="0" y="21600"/>
                </a:lnTo>
                <a:close/>
              </a:path>
              <a:path fill="lightenLess" w="23036" h="21600">
                <a:moveTo>
                  <a:pt x="0" y="0"/>
                </a:moveTo>
                <a:lnTo>
                  <a:pt x="23036" y="0"/>
                </a:lnTo>
                <a:lnTo>
                  <a:pt x="21636" y="1400"/>
                </a:lnTo>
                <a:lnTo>
                  <a:pt x="1400" y="1400"/>
                </a:lnTo>
                <a:close/>
              </a:path>
              <a:path fill="darken" w="23036" h="21600">
                <a:moveTo>
                  <a:pt x="23036" y="0"/>
                </a:moveTo>
                <a:lnTo>
                  <a:pt x="23036" y="21600"/>
                </a:lnTo>
                <a:lnTo>
                  <a:pt x="21636" y="20200"/>
                </a:lnTo>
                <a:lnTo>
                  <a:pt x="21636" y="1400"/>
                </a:lnTo>
                <a:close/>
              </a:path>
              <a:path fill="darkenLess" w="23036" h="21600">
                <a:moveTo>
                  <a:pt x="23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36" y="20200"/>
                </a:lnTo>
                <a:close/>
              </a:path>
              <a:path fill="lighten" w="23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36" h="21600">
                <a:moveTo>
                  <a:pt x="4511" y="7493"/>
                </a:moveTo>
                <a:lnTo>
                  <a:pt x="8019" y="7493"/>
                </a:lnTo>
                <a:lnTo>
                  <a:pt x="8019" y="12828"/>
                </a:lnTo>
                <a:cubicBezTo>
                  <a:pt x="8019" y="13751"/>
                  <a:pt x="8820" y="14482"/>
                  <a:pt x="9855" y="14482"/>
                </a:cubicBezTo>
                <a:lnTo>
                  <a:pt x="11518" y="14482"/>
                </a:lnTo>
                <a:cubicBezTo>
                  <a:pt x="12554" y="14482"/>
                  <a:pt x="13354" y="13751"/>
                  <a:pt x="13354" y="12828"/>
                </a:cubicBezTo>
                <a:lnTo>
                  <a:pt x="13354" y="7493"/>
                </a:lnTo>
                <a:lnTo>
                  <a:pt x="11518" y="7493"/>
                </a:lnTo>
                <a:lnTo>
                  <a:pt x="15025" y="3985"/>
                </a:lnTo>
                <a:lnTo>
                  <a:pt x="18698" y="7493"/>
                </a:lnTo>
                <a:lnTo>
                  <a:pt x="16862" y="7493"/>
                </a:lnTo>
                <a:lnTo>
                  <a:pt x="16862" y="12828"/>
                </a:lnTo>
                <a:cubicBezTo>
                  <a:pt x="16862" y="15596"/>
                  <a:pt x="14286" y="18155"/>
                  <a:pt x="11518" y="18155"/>
                </a:cubicBezTo>
                <a:lnTo>
                  <a:pt x="9855" y="18155"/>
                </a:lnTo>
                <a:cubicBezTo>
                  <a:pt x="7088" y="18155"/>
                  <a:pt x="4511" y="15596"/>
                  <a:pt x="4511" y="12828"/>
                </a:cubicBezTo>
                <a:close/>
              </a:path>
            </a:pathLst>
          </a:cu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300640"/>
          </a:xfrm>
          <a:prstGeom prst="rect">
            <a:avLst/>
          </a:prstGeom>
          <a:ln w="0">
            <a:noFill/>
          </a:ln>
        </p:spPr>
      </p:pic>
      <p:sp>
        <p:nvSpPr>
          <p:cNvPr id="450" name=""/>
          <p:cNvSpPr/>
          <p:nvPr/>
        </p:nvSpPr>
        <p:spPr>
          <a:xfrm>
            <a:off x="826920" y="5445000"/>
            <a:ext cx="756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66"/>
                </a:solidFill>
                <a:latin typeface="Arial Black"/>
              </a:rPr>
              <a:t>想一想</a:t>
            </a:r>
            <a:r>
              <a:rPr b="1" lang="zh-CN" sz="3600" spc="-1" strike="noStrike">
                <a:solidFill>
                  <a:srgbClr val="ffff66"/>
                </a:solidFill>
                <a:latin typeface="Arial Black"/>
              </a:rPr>
              <a:t>:</a:t>
            </a:r>
            <a:r>
              <a:rPr b="1" lang="zh-CN" sz="3600" spc="-1" strike="noStrike">
                <a:solidFill>
                  <a:srgbClr val="ffff66"/>
                </a:solidFill>
                <a:latin typeface="Arial Black"/>
              </a:rPr>
              <a:t>若森林着火</a:t>
            </a:r>
            <a:r>
              <a:rPr b="1" lang="zh-CN" sz="3600" spc="-1" strike="noStrike">
                <a:solidFill>
                  <a:srgbClr val="ffff66"/>
                </a:solidFill>
                <a:latin typeface="Arial Black"/>
              </a:rPr>
              <a:t>,</a:t>
            </a:r>
            <a:r>
              <a:rPr b="1" lang="zh-CN" sz="3600" spc="-1" strike="noStrike">
                <a:solidFill>
                  <a:srgbClr val="ffff66"/>
                </a:solidFill>
                <a:latin typeface="Arial Black"/>
              </a:rPr>
              <a:t>应采取的灭火方法是什么</a:t>
            </a:r>
            <a:r>
              <a:rPr b="1" lang="zh-CN" sz="3600" spc="-1" strike="noStrike">
                <a:solidFill>
                  <a:srgbClr val="ffff66"/>
                </a:solidFill>
                <a:latin typeface="Arial Black"/>
              </a:rPr>
              <a:t>?</a:t>
            </a:r>
            <a:r>
              <a:rPr b="1" lang="zh-CN" sz="3600" spc="-1" strike="noStrike">
                <a:solidFill>
                  <a:srgbClr val="ffff66"/>
                </a:solidFill>
                <a:latin typeface="Arial Black"/>
              </a:rPr>
              <a:t>利用什么原理</a:t>
            </a:r>
            <a:r>
              <a:rPr b="1" lang="zh-CN" sz="3600" spc="-1" strike="noStrike">
                <a:solidFill>
                  <a:srgbClr val="ffff66"/>
                </a:solidFill>
                <a:latin typeface="Arial Black"/>
              </a:rPr>
              <a:t>?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51" name="">
            <a:hlinkClick r:id="rId2" action="ppaction://hlinksldjump"/>
          </p:cNvPr>
          <p:cNvSpPr/>
          <p:nvPr/>
        </p:nvSpPr>
        <p:spPr>
          <a:xfrm>
            <a:off x="8712360" y="6364440"/>
            <a:ext cx="431640" cy="49356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93560"/>
              <a:gd name="textAreaBottom" fmla="*/ 465840 h 493560"/>
            </a:gdLst>
            <a:ahLst/>
            <a:rect l="textAreaLeft" t="textAreaTop" r="textAreaRight" b="textAreaBottom"/>
            <a:pathLst>
              <a:path w="21600" h="24696">
                <a:moveTo>
                  <a:pt x="0" y="0"/>
                </a:moveTo>
                <a:lnTo>
                  <a:pt x="21600" y="0"/>
                </a:lnTo>
                <a:lnTo>
                  <a:pt x="21600" y="24696"/>
                </a:lnTo>
                <a:lnTo>
                  <a:pt x="0" y="24696"/>
                </a:lnTo>
                <a:close/>
              </a:path>
              <a:path fill="lightenLess" w="21600" h="2469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96">
                <a:moveTo>
                  <a:pt x="21600" y="0"/>
                </a:moveTo>
                <a:lnTo>
                  <a:pt x="21600" y="24696"/>
                </a:lnTo>
                <a:lnTo>
                  <a:pt x="20200" y="23296"/>
                </a:lnTo>
                <a:lnTo>
                  <a:pt x="20200" y="1400"/>
                </a:lnTo>
                <a:close/>
              </a:path>
              <a:path fill="darkenLess" w="21600" h="24696">
                <a:moveTo>
                  <a:pt x="21600" y="24696"/>
                </a:moveTo>
                <a:lnTo>
                  <a:pt x="0" y="24696"/>
                </a:lnTo>
                <a:lnTo>
                  <a:pt x="1400" y="23296"/>
                </a:lnTo>
                <a:lnTo>
                  <a:pt x="20200" y="23296"/>
                </a:lnTo>
                <a:close/>
              </a:path>
              <a:path fill="lighten" w="21600" h="24696">
                <a:moveTo>
                  <a:pt x="0" y="24696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96"/>
                </a:lnTo>
                <a:close/>
              </a:path>
              <a:path fill="darken" w="21600" h="24696">
                <a:moveTo>
                  <a:pt x="3794" y="9041"/>
                </a:moveTo>
                <a:lnTo>
                  <a:pt x="7301" y="9041"/>
                </a:lnTo>
                <a:lnTo>
                  <a:pt x="7301" y="14376"/>
                </a:lnTo>
                <a:cubicBezTo>
                  <a:pt x="7301" y="15299"/>
                  <a:pt x="8102" y="16030"/>
                  <a:pt x="9138" y="16030"/>
                </a:cubicBezTo>
                <a:lnTo>
                  <a:pt x="10800" y="16030"/>
                </a:lnTo>
                <a:cubicBezTo>
                  <a:pt x="11836" y="16030"/>
                  <a:pt x="12636" y="15299"/>
                  <a:pt x="12636" y="14376"/>
                </a:cubicBezTo>
                <a:lnTo>
                  <a:pt x="12636" y="9041"/>
                </a:lnTo>
                <a:lnTo>
                  <a:pt x="10800" y="9041"/>
                </a:lnTo>
                <a:lnTo>
                  <a:pt x="14308" y="5533"/>
                </a:lnTo>
                <a:lnTo>
                  <a:pt x="17981" y="9041"/>
                </a:lnTo>
                <a:lnTo>
                  <a:pt x="16144" y="9041"/>
                </a:lnTo>
                <a:lnTo>
                  <a:pt x="16144" y="14376"/>
                </a:lnTo>
                <a:cubicBezTo>
                  <a:pt x="16144" y="17144"/>
                  <a:pt x="13568" y="19703"/>
                  <a:pt x="10800" y="19703"/>
                </a:cubicBezTo>
                <a:lnTo>
                  <a:pt x="9138" y="19703"/>
                </a:lnTo>
                <a:cubicBezTo>
                  <a:pt x="6370" y="19703"/>
                  <a:pt x="3794" y="17144"/>
                  <a:pt x="3794" y="14376"/>
                </a:cubicBezTo>
                <a:close/>
              </a:path>
            </a:pathLst>
          </a:custGeom>
          <a:solidFill>
            <a:srgbClr val="ff8b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"/>
          <p:cNvSpPr/>
          <p:nvPr/>
        </p:nvSpPr>
        <p:spPr>
          <a:xfrm>
            <a:off x="457200" y="1197000"/>
            <a:ext cx="7715160" cy="369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66ff"/>
                </a:solidFill>
                <a:latin typeface="Times New Roman"/>
                <a:ea typeface="隶书"/>
              </a:rPr>
              <a:t>想一想：</a:t>
            </a:r>
            <a:endParaRPr b="0" lang="en-US" sz="54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66"/>
                </a:solidFill>
                <a:latin typeface="Times New Roman"/>
                <a:ea typeface="隶书"/>
              </a:rPr>
              <a:t>用火柴很容易点燃纸张，却很难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66"/>
                </a:solidFill>
                <a:latin typeface="Times New Roman"/>
                <a:ea typeface="隶书"/>
              </a:rPr>
              <a:t>点燃镁条，为什么</a:t>
            </a:r>
            <a:r>
              <a:rPr b="1" lang="zh-CN" sz="4000" spc="-1" strike="noStrike">
                <a:solidFill>
                  <a:srgbClr val="ffff66"/>
                </a:solidFill>
                <a:latin typeface="Times New Roman"/>
                <a:ea typeface="隶书"/>
              </a:rPr>
              <a:t>? </a:t>
            </a:r>
            <a:r>
              <a:rPr b="1" lang="zh-CN" sz="4000" spc="-1" strike="noStrike">
                <a:solidFill>
                  <a:srgbClr val="ffff66"/>
                </a:solidFill>
                <a:latin typeface="Times New Roman"/>
                <a:ea typeface="隶书"/>
              </a:rPr>
              <a:t>请用燃烧的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66"/>
                </a:solidFill>
                <a:latin typeface="Times New Roman"/>
                <a:ea typeface="隶书"/>
              </a:rPr>
              <a:t>条件加以解释。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53" name="">
            <a:hlinkClick r:id="rId1" action="ppaction://hlinksldjump"/>
          </p:cNvPr>
          <p:cNvSpPr/>
          <p:nvPr/>
        </p:nvSpPr>
        <p:spPr>
          <a:xfrm>
            <a:off x="8712360" y="6391440"/>
            <a:ext cx="431640" cy="46656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66560"/>
              <a:gd name="textAreaBottom" fmla="*/ 438840 h 466560"/>
            </a:gdLst>
            <a:ahLst/>
            <a:rect l="textAreaLeft" t="textAreaTop" r="textAreaRight" b="textAreaBottom"/>
            <a:pathLst>
              <a:path w="21600" h="23346">
                <a:moveTo>
                  <a:pt x="0" y="0"/>
                </a:moveTo>
                <a:lnTo>
                  <a:pt x="21600" y="0"/>
                </a:lnTo>
                <a:lnTo>
                  <a:pt x="21600" y="23346"/>
                </a:lnTo>
                <a:lnTo>
                  <a:pt x="0" y="23346"/>
                </a:lnTo>
                <a:close/>
              </a:path>
              <a:path fill="lightenLess" w="21600" h="2334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346">
                <a:moveTo>
                  <a:pt x="21600" y="0"/>
                </a:moveTo>
                <a:lnTo>
                  <a:pt x="21600" y="23346"/>
                </a:lnTo>
                <a:lnTo>
                  <a:pt x="20200" y="21946"/>
                </a:lnTo>
                <a:lnTo>
                  <a:pt x="20200" y="1400"/>
                </a:lnTo>
                <a:close/>
              </a:path>
              <a:path fill="darkenLess" w="21600" h="23346">
                <a:moveTo>
                  <a:pt x="21600" y="23346"/>
                </a:moveTo>
                <a:lnTo>
                  <a:pt x="0" y="23346"/>
                </a:lnTo>
                <a:lnTo>
                  <a:pt x="1400" y="21946"/>
                </a:lnTo>
                <a:lnTo>
                  <a:pt x="20200" y="21946"/>
                </a:lnTo>
                <a:close/>
              </a:path>
              <a:path fill="lighten" w="21600" h="23346">
                <a:moveTo>
                  <a:pt x="0" y="23346"/>
                </a:moveTo>
                <a:lnTo>
                  <a:pt x="0" y="0"/>
                </a:lnTo>
                <a:lnTo>
                  <a:pt x="1400" y="1400"/>
                </a:lnTo>
                <a:lnTo>
                  <a:pt x="1400" y="21946"/>
                </a:lnTo>
                <a:close/>
              </a:path>
              <a:path fill="darken" w="21600" h="23346">
                <a:moveTo>
                  <a:pt x="3794" y="8366"/>
                </a:moveTo>
                <a:lnTo>
                  <a:pt x="7301" y="8366"/>
                </a:lnTo>
                <a:lnTo>
                  <a:pt x="7301" y="13701"/>
                </a:lnTo>
                <a:cubicBezTo>
                  <a:pt x="7301" y="14624"/>
                  <a:pt x="8102" y="15355"/>
                  <a:pt x="9138" y="15355"/>
                </a:cubicBezTo>
                <a:lnTo>
                  <a:pt x="10800" y="15355"/>
                </a:lnTo>
                <a:cubicBezTo>
                  <a:pt x="11836" y="15355"/>
                  <a:pt x="12636" y="14624"/>
                  <a:pt x="12636" y="13701"/>
                </a:cubicBezTo>
                <a:lnTo>
                  <a:pt x="12636" y="8366"/>
                </a:lnTo>
                <a:lnTo>
                  <a:pt x="10800" y="8366"/>
                </a:lnTo>
                <a:lnTo>
                  <a:pt x="14308" y="4858"/>
                </a:lnTo>
                <a:lnTo>
                  <a:pt x="17981" y="8366"/>
                </a:lnTo>
                <a:lnTo>
                  <a:pt x="16144" y="8366"/>
                </a:lnTo>
                <a:lnTo>
                  <a:pt x="16144" y="13701"/>
                </a:lnTo>
                <a:cubicBezTo>
                  <a:pt x="16144" y="16469"/>
                  <a:pt x="13568" y="19028"/>
                  <a:pt x="10800" y="19028"/>
                </a:cubicBezTo>
                <a:lnTo>
                  <a:pt x="9138" y="19028"/>
                </a:lnTo>
                <a:cubicBezTo>
                  <a:pt x="6370" y="19028"/>
                  <a:pt x="3794" y="16469"/>
                  <a:pt x="3794" y="13701"/>
                </a:cubicBezTo>
                <a:close/>
              </a:path>
            </a:pathLst>
          </a:custGeom>
          <a:solidFill>
            <a:srgbClr val="ff8b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4" name="" descr=""/>
          <p:cNvPicPr/>
          <p:nvPr/>
        </p:nvPicPr>
        <p:blipFill>
          <a:blip r:embed="rId1"/>
          <a:stretch/>
        </p:blipFill>
        <p:spPr>
          <a:xfrm>
            <a:off x="826920" y="0"/>
            <a:ext cx="8317080" cy="5734080"/>
          </a:xfrm>
          <a:prstGeom prst="rect">
            <a:avLst/>
          </a:prstGeom>
          <a:ln w="0">
            <a:noFill/>
          </a:ln>
        </p:spPr>
      </p:pic>
      <p:sp>
        <p:nvSpPr>
          <p:cNvPr id="455" name=""/>
          <p:cNvSpPr/>
          <p:nvPr/>
        </p:nvSpPr>
        <p:spPr>
          <a:xfrm>
            <a:off x="914400" y="594360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66"/>
                </a:solidFill>
                <a:latin typeface="Arial Black"/>
              </a:rPr>
              <a:t>是否可以打开所有的门窗</a:t>
            </a:r>
            <a:r>
              <a:rPr b="1" lang="zh-CN" sz="3600" spc="-1" strike="noStrike">
                <a:solidFill>
                  <a:srgbClr val="ffff66"/>
                </a:solidFill>
                <a:latin typeface="Arial Black"/>
              </a:rPr>
              <a:t>?</a:t>
            </a:r>
            <a:r>
              <a:rPr b="1" lang="zh-CN" sz="3600" spc="-1" strike="noStrike">
                <a:solidFill>
                  <a:srgbClr val="ffff66"/>
                </a:solidFill>
                <a:latin typeface="Arial Black"/>
              </a:rPr>
              <a:t>为什么</a:t>
            </a:r>
            <a:r>
              <a:rPr b="1" lang="zh-CN" sz="3600" spc="-1" strike="noStrike">
                <a:solidFill>
                  <a:srgbClr val="ffff66"/>
                </a:solidFill>
                <a:latin typeface="Arial Black"/>
              </a:rPr>
              <a:t>?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56" name="">
            <a:hlinkClick r:id="rId2" action="ppaction://hlinksldjump"/>
          </p:cNvPr>
          <p:cNvSpPr/>
          <p:nvPr/>
        </p:nvSpPr>
        <p:spPr>
          <a:xfrm>
            <a:off x="8712360" y="6462720"/>
            <a:ext cx="431640" cy="395280"/>
          </a:xfrm>
          <a:custGeom>
            <a:avLst/>
            <a:gdLst>
              <a:gd name="textAreaLeft" fmla="*/ 25560 w 431640"/>
              <a:gd name="textAreaRight" fmla="*/ 406080 w 431640"/>
              <a:gd name="textAreaTop" fmla="*/ 25560 h 395280"/>
              <a:gd name="textAreaBottom" fmla="*/ 369720 h 395280"/>
            </a:gdLst>
            <a:ahLst/>
            <a:rect l="textAreaLeft" t="textAreaTop" r="textAreaRight" b="textAreaBottom"/>
            <a:pathLst>
              <a:path w="23585" h="21600">
                <a:moveTo>
                  <a:pt x="0" y="0"/>
                </a:moveTo>
                <a:lnTo>
                  <a:pt x="23585" y="0"/>
                </a:lnTo>
                <a:lnTo>
                  <a:pt x="23585" y="21600"/>
                </a:lnTo>
                <a:lnTo>
                  <a:pt x="0" y="21600"/>
                </a:lnTo>
                <a:close/>
              </a:path>
              <a:path fill="lightenLess" w="23585" h="21600">
                <a:moveTo>
                  <a:pt x="0" y="0"/>
                </a:moveTo>
                <a:lnTo>
                  <a:pt x="23585" y="0"/>
                </a:lnTo>
                <a:lnTo>
                  <a:pt x="22185" y="1400"/>
                </a:lnTo>
                <a:lnTo>
                  <a:pt x="1400" y="1400"/>
                </a:lnTo>
                <a:close/>
              </a:path>
              <a:path fill="darken" w="23585" h="21600">
                <a:moveTo>
                  <a:pt x="23585" y="0"/>
                </a:moveTo>
                <a:lnTo>
                  <a:pt x="23585" y="21600"/>
                </a:lnTo>
                <a:lnTo>
                  <a:pt x="22185" y="20200"/>
                </a:lnTo>
                <a:lnTo>
                  <a:pt x="22185" y="1400"/>
                </a:lnTo>
                <a:close/>
              </a:path>
              <a:path fill="darkenLess" w="23585" h="21600">
                <a:moveTo>
                  <a:pt x="235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85" y="20200"/>
                </a:lnTo>
                <a:close/>
              </a:path>
              <a:path fill="lighten" w="235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585" h="21600">
                <a:moveTo>
                  <a:pt x="4786" y="7493"/>
                </a:moveTo>
                <a:lnTo>
                  <a:pt x="8294" y="7493"/>
                </a:lnTo>
                <a:lnTo>
                  <a:pt x="8294" y="12828"/>
                </a:lnTo>
                <a:cubicBezTo>
                  <a:pt x="8294" y="13751"/>
                  <a:pt x="9094" y="14482"/>
                  <a:pt x="10130" y="14482"/>
                </a:cubicBezTo>
                <a:lnTo>
                  <a:pt x="11793" y="14482"/>
                </a:lnTo>
                <a:cubicBezTo>
                  <a:pt x="12828" y="14482"/>
                  <a:pt x="13629" y="13751"/>
                  <a:pt x="13629" y="12828"/>
                </a:cubicBezTo>
                <a:lnTo>
                  <a:pt x="13629" y="7493"/>
                </a:lnTo>
                <a:lnTo>
                  <a:pt x="11793" y="7493"/>
                </a:lnTo>
                <a:lnTo>
                  <a:pt x="15300" y="3985"/>
                </a:lnTo>
                <a:lnTo>
                  <a:pt x="18973" y="7493"/>
                </a:lnTo>
                <a:lnTo>
                  <a:pt x="17137" y="7493"/>
                </a:lnTo>
                <a:lnTo>
                  <a:pt x="17137" y="12828"/>
                </a:lnTo>
                <a:cubicBezTo>
                  <a:pt x="17137" y="15596"/>
                  <a:pt x="14560" y="18155"/>
                  <a:pt x="11793" y="18155"/>
                </a:cubicBezTo>
                <a:lnTo>
                  <a:pt x="10130" y="18155"/>
                </a:lnTo>
                <a:cubicBezTo>
                  <a:pt x="7362" y="18155"/>
                  <a:pt x="4786" y="15596"/>
                  <a:pt x="4786" y="12828"/>
                </a:cubicBezTo>
                <a:close/>
              </a:path>
            </a:pathLst>
          </a:custGeom>
          <a:solidFill>
            <a:srgbClr val="ff8b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2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7" name="" descr=""/>
          <p:cNvPicPr/>
          <p:nvPr/>
        </p:nvPicPr>
        <p:blipFill>
          <a:blip r:embed="rId1"/>
          <a:srcRect l="0" t="0" r="0" b="-31"/>
          <a:stretch/>
        </p:blipFill>
        <p:spPr>
          <a:xfrm>
            <a:off x="0" y="0"/>
            <a:ext cx="4788000" cy="4253040"/>
          </a:xfrm>
          <a:prstGeom prst="rect">
            <a:avLst/>
          </a:prstGeom>
          <a:ln w="0">
            <a:noFill/>
          </a:ln>
        </p:spPr>
      </p:pic>
      <p:pic>
        <p:nvPicPr>
          <p:cNvPr id="458" name="" descr=""/>
          <p:cNvPicPr/>
          <p:nvPr/>
        </p:nvPicPr>
        <p:blipFill>
          <a:blip r:embed="rId2"/>
          <a:srcRect l="0" t="0" r="0" b="-20"/>
          <a:stretch/>
        </p:blipFill>
        <p:spPr>
          <a:xfrm>
            <a:off x="4643280" y="2433600"/>
            <a:ext cx="4500720" cy="4424400"/>
          </a:xfrm>
          <a:prstGeom prst="rect">
            <a:avLst/>
          </a:prstGeom>
          <a:ln w="0">
            <a:noFill/>
          </a:ln>
        </p:spPr>
      </p:pic>
      <p:sp>
        <p:nvSpPr>
          <p:cNvPr id="459" name="">
            <a:hlinkClick r:id="" action="ppaction://hlinkshowjump?jump=previousslide"/>
          </p:cNvPr>
          <p:cNvSpPr/>
          <p:nvPr/>
        </p:nvSpPr>
        <p:spPr>
          <a:xfrm>
            <a:off x="1112760" y="4724280"/>
            <a:ext cx="2579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cc00"/>
                </a:solidFill>
                <a:latin typeface="华文行楷"/>
                <a:ea typeface="华文行楷"/>
              </a:rPr>
              <a:t>怎么办</a:t>
            </a:r>
            <a:r>
              <a:rPr b="1" lang="zh-CN" sz="8800" spc="-1" strike="noStrike">
                <a:solidFill>
                  <a:srgbClr val="ffcc00"/>
                </a:solidFill>
                <a:latin typeface="华文行楷"/>
                <a:ea typeface="华文行楷"/>
              </a:rPr>
              <a:t>?</a:t>
            </a:r>
            <a:endParaRPr b="0" lang="en-US" sz="8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60" name="">
            <a:hlinkClick r:id="rId3" action="ppaction://hlinksldjump"/>
          </p:cNvPr>
          <p:cNvSpPr/>
          <p:nvPr/>
        </p:nvSpPr>
        <p:spPr>
          <a:xfrm>
            <a:off x="8785080" y="6524640"/>
            <a:ext cx="358920" cy="333360"/>
          </a:xfrm>
          <a:custGeom>
            <a:avLst/>
            <a:gdLst>
              <a:gd name="textAreaLeft" fmla="*/ 21600 w 358920"/>
              <a:gd name="textAreaRight" fmla="*/ 337320 w 35892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3254" h="21600">
                <a:moveTo>
                  <a:pt x="0" y="0"/>
                </a:moveTo>
                <a:lnTo>
                  <a:pt x="23254" y="0"/>
                </a:lnTo>
                <a:lnTo>
                  <a:pt x="23254" y="21600"/>
                </a:lnTo>
                <a:lnTo>
                  <a:pt x="0" y="21600"/>
                </a:lnTo>
                <a:close/>
              </a:path>
              <a:path fill="lightenLess" w="23254" h="21600">
                <a:moveTo>
                  <a:pt x="0" y="0"/>
                </a:moveTo>
                <a:lnTo>
                  <a:pt x="23254" y="0"/>
                </a:lnTo>
                <a:lnTo>
                  <a:pt x="21854" y="1400"/>
                </a:lnTo>
                <a:lnTo>
                  <a:pt x="1400" y="1400"/>
                </a:lnTo>
                <a:close/>
              </a:path>
              <a:path fill="darken" w="23254" h="21600">
                <a:moveTo>
                  <a:pt x="23254" y="0"/>
                </a:moveTo>
                <a:lnTo>
                  <a:pt x="23254" y="21600"/>
                </a:lnTo>
                <a:lnTo>
                  <a:pt x="21854" y="20200"/>
                </a:lnTo>
                <a:lnTo>
                  <a:pt x="21854" y="1400"/>
                </a:lnTo>
                <a:close/>
              </a:path>
              <a:path fill="darkenLess" w="23254" h="21600">
                <a:moveTo>
                  <a:pt x="232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854" y="20200"/>
                </a:lnTo>
                <a:close/>
              </a:path>
              <a:path fill="lighten" w="232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254" h="21600">
                <a:moveTo>
                  <a:pt x="4621" y="7493"/>
                </a:moveTo>
                <a:lnTo>
                  <a:pt x="8128" y="7493"/>
                </a:lnTo>
                <a:lnTo>
                  <a:pt x="8128" y="12828"/>
                </a:lnTo>
                <a:cubicBezTo>
                  <a:pt x="8128" y="13751"/>
                  <a:pt x="8929" y="14482"/>
                  <a:pt x="9965" y="14482"/>
                </a:cubicBezTo>
                <a:lnTo>
                  <a:pt x="11627" y="14482"/>
                </a:lnTo>
                <a:cubicBezTo>
                  <a:pt x="12663" y="14482"/>
                  <a:pt x="13464" y="13751"/>
                  <a:pt x="13464" y="12828"/>
                </a:cubicBezTo>
                <a:lnTo>
                  <a:pt x="13464" y="7493"/>
                </a:lnTo>
                <a:lnTo>
                  <a:pt x="11627" y="7493"/>
                </a:lnTo>
                <a:lnTo>
                  <a:pt x="15135" y="3985"/>
                </a:lnTo>
                <a:lnTo>
                  <a:pt x="18808" y="7493"/>
                </a:lnTo>
                <a:lnTo>
                  <a:pt x="16971" y="7493"/>
                </a:lnTo>
                <a:lnTo>
                  <a:pt x="16971" y="12828"/>
                </a:lnTo>
                <a:cubicBezTo>
                  <a:pt x="16971" y="15596"/>
                  <a:pt x="14395" y="18155"/>
                  <a:pt x="11627" y="18155"/>
                </a:cubicBezTo>
                <a:lnTo>
                  <a:pt x="9965" y="18155"/>
                </a:lnTo>
                <a:cubicBezTo>
                  <a:pt x="7197" y="18155"/>
                  <a:pt x="4621" y="15596"/>
                  <a:pt x="4621" y="12828"/>
                </a:cubicBezTo>
                <a:close/>
              </a:path>
            </a:pathLst>
          </a:custGeom>
          <a:solidFill>
            <a:srgbClr val="ff8b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4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"/>
          <p:cNvSpPr/>
          <p:nvPr/>
        </p:nvSpPr>
        <p:spPr>
          <a:xfrm>
            <a:off x="0" y="1514520"/>
            <a:ext cx="9144000" cy="360"/>
          </a:xfrm>
          <a:prstGeom prst="rect">
            <a:avLst/>
          </a:prstGeom>
          <a:solidFill>
            <a:srgbClr val="dfe6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46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473800" y="0"/>
            <a:ext cx="3670200" cy="3352680"/>
          </a:xfrm>
          <a:prstGeom prst="rect">
            <a:avLst/>
          </a:prstGeom>
          <a:ln w="0">
            <a:noFill/>
          </a:ln>
        </p:spPr>
      </p:pic>
      <p:sp>
        <p:nvSpPr>
          <p:cNvPr id="463" name=""/>
          <p:cNvSpPr/>
          <p:nvPr/>
        </p:nvSpPr>
        <p:spPr>
          <a:xfrm>
            <a:off x="0" y="1514520"/>
            <a:ext cx="9144000" cy="360"/>
          </a:xfrm>
          <a:prstGeom prst="rect">
            <a:avLst/>
          </a:prstGeom>
          <a:solidFill>
            <a:srgbClr val="dfe6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0" y="1514520"/>
            <a:ext cx="9144000" cy="360"/>
          </a:xfrm>
          <a:prstGeom prst="rect">
            <a:avLst/>
          </a:prstGeom>
          <a:solidFill>
            <a:srgbClr val="dfe6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465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3943440"/>
            <a:ext cx="3124080" cy="2914560"/>
          </a:xfrm>
          <a:prstGeom prst="rect">
            <a:avLst/>
          </a:prstGeom>
          <a:ln w="0">
            <a:noFill/>
          </a:ln>
        </p:spPr>
      </p:pic>
      <p:sp>
        <p:nvSpPr>
          <p:cNvPr id="466" name=""/>
          <p:cNvSpPr/>
          <p:nvPr/>
        </p:nvSpPr>
        <p:spPr>
          <a:xfrm>
            <a:off x="0" y="1514520"/>
            <a:ext cx="9144000" cy="360"/>
          </a:xfrm>
          <a:prstGeom prst="rect">
            <a:avLst/>
          </a:prstGeom>
          <a:solidFill>
            <a:srgbClr val="dfe6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467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8080" y="0"/>
            <a:ext cx="3733920" cy="3417840"/>
          </a:xfrm>
          <a:prstGeom prst="rect">
            <a:avLst/>
          </a:prstGeom>
          <a:ln w="0">
            <a:noFill/>
          </a:ln>
        </p:spPr>
      </p:pic>
      <p:pic>
        <p:nvPicPr>
          <p:cNvPr id="468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3581280" y="3898800"/>
            <a:ext cx="5562720" cy="295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152280" y="762120"/>
            <a:ext cx="8991720" cy="542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 Black"/>
              </a:rPr>
              <a:t>(1) </a:t>
            </a:r>
            <a:r>
              <a:rPr b="0" lang="zh-CN" sz="2400" spc="-1" strike="noStrike">
                <a:solidFill>
                  <a:srgbClr val="ffffff"/>
                </a:solidFill>
                <a:latin typeface="Arial Black"/>
              </a:rPr>
              <a:t>立即关机，拔下电源插头或拉下总闸</a:t>
            </a:r>
            <a:br>
              <a:rPr sz="2400"/>
            </a:br>
            <a:r>
              <a:rPr b="0" lang="zh-CN" sz="2400" spc="-1" strike="noStrike">
                <a:solidFill>
                  <a:srgbClr val="ffffff"/>
                </a:solidFill>
                <a:latin typeface="Arial Black"/>
              </a:rPr>
              <a:t>(2) </a:t>
            </a:r>
            <a:r>
              <a:rPr b="0" lang="zh-CN" sz="2400" spc="-1" strike="noStrike">
                <a:solidFill>
                  <a:srgbClr val="ffffff"/>
                </a:solidFill>
                <a:latin typeface="Arial Black"/>
              </a:rPr>
              <a:t>如果是导线绝缘体和电器外壳等可燃材料着火时，可用湿棉被等覆盖物封闭窒息灭火。</a:t>
            </a:r>
            <a:br>
              <a:rPr sz="2400"/>
            </a:br>
            <a:r>
              <a:rPr b="0" lang="zh-CN" sz="2400" spc="-1" strike="noStrike">
                <a:solidFill>
                  <a:srgbClr val="ffffff"/>
                </a:solidFill>
                <a:latin typeface="Arial Black"/>
              </a:rPr>
              <a:t>(3)</a:t>
            </a:r>
            <a:r>
              <a:rPr b="0" lang="zh-CN" sz="2400" spc="-1" strike="noStrike">
                <a:solidFill>
                  <a:srgbClr val="ffffff"/>
                </a:solidFill>
                <a:latin typeface="Arial Black"/>
              </a:rPr>
              <a:t>不得用水扑救电视机火灾，以防引起电视机的显象管炸裂伤人。</a:t>
            </a:r>
            <a:br>
              <a:rPr sz="2400"/>
            </a:br>
            <a:r>
              <a:rPr b="0" lang="zh-CN" sz="2400" spc="-1" strike="noStrike">
                <a:solidFill>
                  <a:srgbClr val="ffffff"/>
                </a:solidFill>
                <a:latin typeface="Arial Black"/>
              </a:rPr>
              <a:t>(4) </a:t>
            </a:r>
            <a:r>
              <a:rPr b="0" lang="zh-CN" sz="2400" spc="-1" strike="noStrike">
                <a:solidFill>
                  <a:srgbClr val="ffffff"/>
                </a:solidFill>
                <a:latin typeface="Arial Black"/>
              </a:rPr>
              <a:t>注意：在没有切断电源的情况下，千万不能用水或泡沫灭火剂扑灭电器火灾，否则，扑救人员随时都有触电的危险。 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 Black"/>
              </a:rPr>
              <a:t>1</a:t>
            </a:r>
            <a:r>
              <a:rPr b="0" lang="zh-CN" sz="2400" spc="-1" strike="noStrike">
                <a:solidFill>
                  <a:srgbClr val="ffffff"/>
                </a:solidFill>
                <a:latin typeface="Arial Black"/>
              </a:rPr>
              <a:t>诀：逃生预演，临危不乱。      </a:t>
            </a:r>
            <a:r>
              <a:rPr b="0" lang="zh-CN" sz="2400" spc="-1" strike="noStrike">
                <a:solidFill>
                  <a:srgbClr val="ffffff"/>
                </a:solidFill>
                <a:latin typeface="Arial Black"/>
              </a:rPr>
              <a:t>2</a:t>
            </a:r>
            <a:r>
              <a:rPr b="0" lang="zh-CN" sz="2400" spc="-1" strike="noStrike">
                <a:solidFill>
                  <a:srgbClr val="ffffff"/>
                </a:solidFill>
                <a:latin typeface="Arial Black"/>
              </a:rPr>
              <a:t>诀：熟悉环境，暗记出口。 </a:t>
            </a:r>
            <a:br>
              <a:rPr sz="2400"/>
            </a:br>
            <a:r>
              <a:rPr b="0" lang="zh-CN" sz="2400" spc="-1" strike="noStrike">
                <a:solidFill>
                  <a:srgbClr val="ffffff"/>
                </a:solidFill>
                <a:latin typeface="Arial Black"/>
              </a:rPr>
              <a:t>3</a:t>
            </a:r>
            <a:r>
              <a:rPr b="0" lang="zh-CN" sz="2400" spc="-1" strike="noStrike">
                <a:solidFill>
                  <a:srgbClr val="ffffff"/>
                </a:solidFill>
                <a:latin typeface="Arial Black"/>
              </a:rPr>
              <a:t>诀：通道出口，畅通无阻。      </a:t>
            </a:r>
            <a:r>
              <a:rPr b="0" lang="zh-CN" sz="2400" spc="-1" strike="noStrike">
                <a:solidFill>
                  <a:srgbClr val="ffffff"/>
                </a:solidFill>
                <a:latin typeface="Arial Black"/>
              </a:rPr>
              <a:t>4</a:t>
            </a:r>
            <a:r>
              <a:rPr b="0" lang="zh-CN" sz="2400" spc="-1" strike="noStrike">
                <a:solidFill>
                  <a:srgbClr val="ffffff"/>
                </a:solidFill>
                <a:latin typeface="Arial Black"/>
              </a:rPr>
              <a:t>诀：扑灭小火，惠及他人。 </a:t>
            </a:r>
            <a:br>
              <a:rPr sz="2400"/>
            </a:br>
            <a:r>
              <a:rPr b="0" lang="zh-CN" sz="2400" spc="-1" strike="noStrike">
                <a:solidFill>
                  <a:srgbClr val="ffffff"/>
                </a:solidFill>
                <a:latin typeface="Arial Black"/>
              </a:rPr>
              <a:t>5</a:t>
            </a:r>
            <a:r>
              <a:rPr b="0" lang="zh-CN" sz="2400" spc="-1" strike="noStrike">
                <a:solidFill>
                  <a:srgbClr val="ffffff"/>
                </a:solidFill>
                <a:latin typeface="Arial Black"/>
              </a:rPr>
              <a:t>诀：明辨方向，迅速撤离。      </a:t>
            </a:r>
            <a:r>
              <a:rPr b="0" lang="zh-CN" sz="2400" spc="-1" strike="noStrike">
                <a:solidFill>
                  <a:srgbClr val="ffffff"/>
                </a:solidFill>
                <a:latin typeface="Arial Black"/>
              </a:rPr>
              <a:t>6</a:t>
            </a:r>
            <a:r>
              <a:rPr b="0" lang="zh-CN" sz="2400" spc="-1" strike="noStrike">
                <a:solidFill>
                  <a:srgbClr val="ffffff"/>
                </a:solidFill>
                <a:latin typeface="Arial Black"/>
              </a:rPr>
              <a:t>诀：不入险地，不贪财物。 </a:t>
            </a:r>
            <a:br>
              <a:rPr sz="2400"/>
            </a:br>
            <a:r>
              <a:rPr b="0" lang="zh-CN" sz="2400" spc="-1" strike="noStrike">
                <a:solidFill>
                  <a:srgbClr val="ffffff"/>
                </a:solidFill>
                <a:latin typeface="Arial Black"/>
              </a:rPr>
              <a:t>7</a:t>
            </a:r>
            <a:r>
              <a:rPr b="0" lang="zh-CN" sz="2400" spc="-1" strike="noStrike">
                <a:solidFill>
                  <a:srgbClr val="ffffff"/>
                </a:solidFill>
                <a:latin typeface="Arial Black"/>
              </a:rPr>
              <a:t>诀：简易防护，蒙鼻匍匐。      </a:t>
            </a:r>
            <a:r>
              <a:rPr b="0" lang="zh-CN" sz="2400" spc="-1" strike="noStrike">
                <a:solidFill>
                  <a:srgbClr val="ffffff"/>
                </a:solidFill>
                <a:latin typeface="Arial Black"/>
              </a:rPr>
              <a:t>8</a:t>
            </a:r>
            <a:r>
              <a:rPr b="0" lang="zh-CN" sz="2400" spc="-1" strike="noStrike">
                <a:solidFill>
                  <a:srgbClr val="ffffff"/>
                </a:solidFill>
                <a:latin typeface="Arial Black"/>
              </a:rPr>
              <a:t>诀：善用通道，莫入电梯。 </a:t>
            </a:r>
            <a:br>
              <a:rPr sz="2400"/>
            </a:br>
            <a:r>
              <a:rPr b="0" lang="zh-CN" sz="2400" spc="-1" strike="noStrike">
                <a:solidFill>
                  <a:srgbClr val="ffffff"/>
                </a:solidFill>
                <a:latin typeface="Arial Black"/>
              </a:rPr>
              <a:t>9</a:t>
            </a:r>
            <a:r>
              <a:rPr b="0" lang="zh-CN" sz="2400" spc="-1" strike="noStrike">
                <a:solidFill>
                  <a:srgbClr val="ffffff"/>
                </a:solidFill>
                <a:latin typeface="Arial Black"/>
              </a:rPr>
              <a:t>诀：缓降逃生，滑绳自救。    </a:t>
            </a:r>
            <a:r>
              <a:rPr b="0" lang="zh-CN" sz="2400" spc="-1" strike="noStrike">
                <a:solidFill>
                  <a:srgbClr val="ffffff"/>
                </a:solidFill>
                <a:latin typeface="Arial Black"/>
              </a:rPr>
              <a:t>10</a:t>
            </a:r>
            <a:r>
              <a:rPr b="0" lang="zh-CN" sz="2400" spc="-1" strike="noStrike">
                <a:solidFill>
                  <a:srgbClr val="ffffff"/>
                </a:solidFill>
                <a:latin typeface="Arial Black"/>
              </a:rPr>
              <a:t>诀：避难场所，固守待援。 </a:t>
            </a:r>
            <a:br>
              <a:rPr sz="2400"/>
            </a:br>
            <a:r>
              <a:rPr b="0" lang="zh-CN" sz="2400" spc="-1" strike="noStrike">
                <a:solidFill>
                  <a:srgbClr val="ffffff"/>
                </a:solidFill>
                <a:latin typeface="Arial Black"/>
              </a:rPr>
              <a:t>11</a:t>
            </a:r>
            <a:r>
              <a:rPr b="0" lang="zh-CN" sz="2400" spc="-1" strike="noStrike">
                <a:solidFill>
                  <a:srgbClr val="ffffff"/>
                </a:solidFill>
                <a:latin typeface="Arial Black"/>
              </a:rPr>
              <a:t>诀：缓晃轻抛，寻求援助。  </a:t>
            </a:r>
            <a:r>
              <a:rPr b="0" lang="zh-CN" sz="2400" spc="-1" strike="noStrike">
                <a:solidFill>
                  <a:srgbClr val="ffffff"/>
                </a:solidFill>
                <a:latin typeface="Arial Black"/>
              </a:rPr>
              <a:t>12</a:t>
            </a:r>
            <a:r>
              <a:rPr b="0" lang="zh-CN" sz="2400" spc="-1" strike="noStrike">
                <a:solidFill>
                  <a:srgbClr val="ffffff"/>
                </a:solidFill>
                <a:latin typeface="Arial Black"/>
              </a:rPr>
              <a:t>诀：火已及身，切勿惊跑    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 Black"/>
              </a:rPr>
              <a:t>13</a:t>
            </a:r>
            <a:r>
              <a:rPr b="0" lang="zh-CN" sz="2400" spc="-1" strike="noStrike">
                <a:solidFill>
                  <a:srgbClr val="ffffff"/>
                </a:solidFill>
                <a:latin typeface="Arial Black"/>
              </a:rPr>
              <a:t>诀：跳楼有术，虽损求生。 </a:t>
            </a:r>
            <a:br>
              <a:rPr sz="2400"/>
            </a:br>
            <a:r>
              <a:rPr b="0" lang="zh-CN" sz="2400" spc="-1" strike="noStrike">
                <a:solidFill>
                  <a:srgbClr val="ffffff"/>
                </a:solidFill>
                <a:latin typeface="Arial Black"/>
              </a:rPr>
              <a:t> 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"/>
          <p:cNvSpPr/>
          <p:nvPr/>
        </p:nvSpPr>
        <p:spPr>
          <a:xfrm>
            <a:off x="228600" y="0"/>
            <a:ext cx="8915400" cy="40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 Black"/>
              </a:rPr>
              <a:t>一、如果有避难层或疏散楼梯，可先进入避难层或由疏散楼梯撤到安全地点。 </a:t>
            </a:r>
            <a:endParaRPr b="0" lang="en-US" sz="20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zh-CN" sz="2000" spc="-1" strike="noStrike">
                <a:solidFill>
                  <a:srgbClr val="ffffff"/>
                </a:solidFill>
                <a:latin typeface="Arial Black"/>
              </a:rPr>
              <a:t>二、如果楼层已着火燃烧，但楼梯尚未烧断，火势并不十分猛烈时，可披上用水浸湿的衣被，从楼上快速冲下。 </a:t>
            </a:r>
            <a:br>
              <a:rPr sz="2000"/>
            </a:br>
            <a:endParaRPr b="0" lang="en-US" sz="20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 Black"/>
              </a:rPr>
              <a:t>三、多层建筑火灾，如楼梯已经烧断，或者火势已相当猛烈时，可利用房屋的阳台、落水管或竹竿等逃生。 </a:t>
            </a:r>
            <a:br>
              <a:rPr sz="2000"/>
            </a:br>
            <a:endParaRPr b="0" lang="en-US" sz="20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 Black"/>
              </a:rPr>
              <a:t>四、如各种逃生的路线被切断，应退居室内，关闭门窗。有条件时可向门窗上浇水，以延缓火势蔓延过程。同时，可向室外 扔出小东西，在夜晚则可向外打手电，发出求救信号。 </a:t>
            </a:r>
            <a:br>
              <a:rPr sz="2000"/>
            </a:br>
            <a:endParaRPr b="0" lang="en-US" sz="20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 Black"/>
              </a:rPr>
              <a:t> </a:t>
            </a:r>
            <a:r>
              <a:rPr b="0" lang="zh-CN" sz="2000" spc="-1" strike="noStrike">
                <a:solidFill>
                  <a:srgbClr val="ffffff"/>
                </a:solidFill>
                <a:latin typeface="Arial Black"/>
              </a:rPr>
              <a:t>五、如生命受到严重威胁，又无其它自救办法时，可用绳子或床单撕成条状连接起来，一端紧拴在牢固的门窗格或其它重物 上，再顺着绳子或布条滑下。 </a:t>
            </a:r>
            <a:br>
              <a:rPr sz="2000"/>
            </a:br>
            <a:r>
              <a:rPr b="0" lang="zh-CN" sz="2000" spc="-1" strike="noStrike">
                <a:solidFill>
                  <a:srgbClr val="ffffff"/>
                </a:solidFill>
                <a:latin typeface="Arial Black"/>
              </a:rPr>
              <a:t>六、如无条件采取上述自救办法，而时间又十分紧迫，烟火威胁严重，被迫跳楼时，可先向地面抛下一些棉被等物，以增加 缓冲，然后手扶窗台往下滑，以缩小跳楼高度，并保证双脚首先 落地。 </a:t>
            </a:r>
            <a:br>
              <a:rPr sz="2000"/>
            </a:br>
            <a:r>
              <a:rPr b="0" lang="zh-CN" sz="2000" spc="-1" strike="noStrike">
                <a:solidFill>
                  <a:srgbClr val="ffffff"/>
                </a:solidFill>
                <a:latin typeface="Arial Black"/>
              </a:rPr>
              <a:t>七、要发扬互助精神，帮助老人、小孩、病人优先疏散。对行动不便者可用被子、毛毯等包扎好，用绳子布条等吊下。 </a:t>
            </a:r>
            <a:endParaRPr b="0" lang="en-US" sz="20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"/>
          <p:cNvSpPr/>
          <p:nvPr/>
        </p:nvSpPr>
        <p:spPr>
          <a:xfrm>
            <a:off x="1908000" y="1773360"/>
            <a:ext cx="5543640" cy="39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33cc"/>
                </a:solidFill>
                <a:latin typeface="Arial Narrow"/>
                <a:ea typeface="隶书"/>
              </a:rPr>
              <a:t>谢谢收看</a:t>
            </a:r>
            <a:endParaRPr b="0" lang="en-US" sz="72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99"/>
                </a:solidFill>
                <a:latin typeface="Arial Narrow"/>
                <a:ea typeface="隶书"/>
              </a:rPr>
              <a:t>                </a:t>
            </a:r>
            <a:r>
              <a:rPr b="1" lang="zh-CN" sz="7200" spc="-1" strike="noStrike">
                <a:solidFill>
                  <a:srgbClr val="ff33cc"/>
                </a:solidFill>
                <a:latin typeface="Arial Narrow"/>
                <a:ea typeface="隶书"/>
              </a:rPr>
              <a:t>再见</a:t>
            </a:r>
            <a:endParaRPr b="0" lang="en-US" sz="72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900000" y="404640"/>
            <a:ext cx="5867640" cy="34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66"/>
                </a:solidFill>
                <a:latin typeface="Arial Narrow"/>
                <a:ea typeface="隶书"/>
              </a:rPr>
              <a:t>要知道什么</a:t>
            </a:r>
            <a:r>
              <a:rPr b="1" lang="zh-CN" sz="4000" spc="-1" strike="noStrike">
                <a:solidFill>
                  <a:srgbClr val="ffff66"/>
                </a:solidFill>
                <a:latin typeface="Arial Narrow"/>
                <a:ea typeface="隶书"/>
              </a:rPr>
              <a:t>：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93" name="Cloud"/>
          <p:cNvSpPr/>
          <p:nvPr/>
        </p:nvSpPr>
        <p:spPr>
          <a:xfrm>
            <a:off x="380880" y="2057400"/>
            <a:ext cx="7696440" cy="2909880"/>
          </a:xfrm>
          <a:prstGeom prst="pi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隶书"/>
                <a:ea typeface="隶书"/>
              </a:rPr>
              <a:t>1</a:t>
            </a:r>
            <a:r>
              <a:rPr b="1" lang="zh-CN" sz="3600" spc="-1" strike="noStrike">
                <a:solidFill>
                  <a:srgbClr val="ff33cc"/>
                </a:solidFill>
                <a:latin typeface="隶书"/>
                <a:ea typeface="隶书"/>
              </a:rPr>
              <a:t>、燃烧及条件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隶书"/>
                <a:ea typeface="隶书"/>
              </a:rPr>
              <a:t>2</a:t>
            </a:r>
            <a:r>
              <a:rPr b="1" lang="zh-CN" sz="3600" spc="-1" strike="noStrike">
                <a:solidFill>
                  <a:srgbClr val="ff33cc"/>
                </a:solidFill>
                <a:latin typeface="隶书"/>
                <a:ea typeface="隶书"/>
              </a:rPr>
              <a:t>、怎样灭火和火灾自救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/>
          <p:cNvSpPr/>
          <p:nvPr/>
        </p:nvSpPr>
        <p:spPr>
          <a:xfrm>
            <a:off x="838080" y="44280"/>
            <a:ext cx="34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1f08"/>
                </a:solidFill>
                <a:latin typeface="Times New Roman"/>
                <a:ea typeface="隶书"/>
              </a:rPr>
              <a:t>知识网络系统</a:t>
            </a:r>
            <a:r>
              <a:rPr b="1" lang="zh-CN" sz="3200" spc="-1" strike="noStrike">
                <a:solidFill>
                  <a:srgbClr val="fe1f08"/>
                </a:solidFill>
                <a:latin typeface="Times New Roman"/>
                <a:ea typeface="隶书"/>
              </a:rPr>
              <a:t>(</a:t>
            </a:r>
            <a:r>
              <a:rPr b="1" lang="zh-CN" sz="3200" spc="-1" strike="noStrike">
                <a:solidFill>
                  <a:srgbClr val="fe1f08"/>
                </a:solidFill>
                <a:latin typeface="Times New Roman"/>
                <a:ea typeface="隶书"/>
              </a:rPr>
              <a:t>一</a:t>
            </a:r>
            <a:r>
              <a:rPr b="1" lang="zh-CN" sz="3200" spc="-1" strike="noStrike">
                <a:solidFill>
                  <a:srgbClr val="fe1f08"/>
                </a:solidFill>
                <a:latin typeface="Times New Roman"/>
                <a:ea typeface="隶书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228600" y="1981080"/>
            <a:ext cx="10666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1f08"/>
                </a:solidFill>
                <a:latin typeface="Times New Roman"/>
                <a:ea typeface="华文彩云"/>
              </a:rPr>
              <a:t>1</a:t>
            </a:r>
            <a:r>
              <a:rPr b="1" lang="zh-CN" sz="2800" spc="-1" strike="noStrike">
                <a:solidFill>
                  <a:srgbClr val="fe1f08"/>
                </a:solidFill>
                <a:latin typeface="Times New Roman"/>
                <a:ea typeface="华文彩云"/>
              </a:rPr>
              <a:t>、</a:t>
            </a:r>
            <a:r>
              <a:rPr b="1" lang="zh-CN" sz="3200" spc="-1" strike="noStrike">
                <a:solidFill>
                  <a:srgbClr val="fe1f08"/>
                </a:solidFill>
                <a:latin typeface="Times New Roman"/>
                <a:ea typeface="华文彩云"/>
              </a:rPr>
              <a:t>燃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1f08"/>
                </a:solidFill>
                <a:latin typeface="Times New Roman"/>
                <a:ea typeface="华文彩云"/>
              </a:rPr>
              <a:t>烧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838080" y="1600200"/>
            <a:ext cx="358920" cy="3092400"/>
          </a:xfrm>
          <a:custGeom>
            <a:avLst/>
            <a:gdLst>
              <a:gd name="textAreaLeft" fmla="*/ 229320 w 358920"/>
              <a:gd name="textAreaRight" fmla="*/ 359280 w 358920"/>
              <a:gd name="textAreaTop" fmla="*/ 80640 h 3092400"/>
              <a:gd name="textAreaBottom" fmla="*/ 3011760 h 3092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133"/>
                </a:lnTo>
                <a:cubicBezTo>
                  <a:pt x="10800" y="10033"/>
                  <a:pt x="5400" y="10933"/>
                  <a:pt x="0" y="10933"/>
                </a:cubicBezTo>
                <a:cubicBezTo>
                  <a:pt x="5400" y="10933"/>
                  <a:pt x="10800" y="11833"/>
                  <a:pt x="10800" y="12733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1066680" y="129528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Times New Roman"/>
              </a:rPr>
              <a:t>一般可燃物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1066680" y="434340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00"/>
                </a:solidFill>
                <a:latin typeface="Times New Roman"/>
              </a:rPr>
              <a:t>化石燃料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3276720" y="380880"/>
            <a:ext cx="304560" cy="2590920"/>
          </a:xfrm>
          <a:custGeom>
            <a:avLst/>
            <a:gdLst>
              <a:gd name="textAreaLeft" fmla="*/ 194760 w 304560"/>
              <a:gd name="textAreaRight" fmla="*/ 304920 w 304560"/>
              <a:gd name="textAreaTop" fmla="*/ 67320 h 2590920"/>
              <a:gd name="textAreaBottom" fmla="*/ 2523600 h 2590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133"/>
                </a:lnTo>
                <a:cubicBezTo>
                  <a:pt x="10800" y="10033"/>
                  <a:pt x="5400" y="10933"/>
                  <a:pt x="0" y="10933"/>
                </a:cubicBezTo>
                <a:cubicBezTo>
                  <a:pt x="5400" y="10933"/>
                  <a:pt x="10800" y="11833"/>
                  <a:pt x="10800" y="12733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3505320" y="533520"/>
            <a:ext cx="2895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燃烧的条件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5029200" y="335268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灭火的原理和方法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3505320" y="198108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促进燃烧的方法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657600" y="266688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爆炸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2971800" y="3276720"/>
            <a:ext cx="358920" cy="3092400"/>
          </a:xfrm>
          <a:custGeom>
            <a:avLst/>
            <a:gdLst>
              <a:gd name="textAreaLeft" fmla="*/ 229320 w 358920"/>
              <a:gd name="textAreaRight" fmla="*/ 359280 w 358920"/>
              <a:gd name="textAreaTop" fmla="*/ 80640 h 3092400"/>
              <a:gd name="textAreaBottom" fmla="*/ 3011760 h 3092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133"/>
                </a:lnTo>
                <a:cubicBezTo>
                  <a:pt x="10800" y="10033"/>
                  <a:pt x="5400" y="10933"/>
                  <a:pt x="0" y="10933"/>
                </a:cubicBezTo>
                <a:cubicBezTo>
                  <a:pt x="5400" y="10933"/>
                  <a:pt x="10800" y="11833"/>
                  <a:pt x="10800" y="12733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352680" y="4800600"/>
            <a:ext cx="281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石油：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3429000" y="6156360"/>
            <a:ext cx="275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天然气：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3276720" y="3505320"/>
            <a:ext cx="17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煤</a:t>
            </a:r>
            <a:r>
              <a:rPr b="1" lang="en-US" sz="4000" spc="-1" strike="noStrike">
                <a:solidFill>
                  <a:srgbClr val="ffffff"/>
                </a:solidFill>
                <a:latin typeface="隶书"/>
                <a:ea typeface="隶书"/>
              </a:rPr>
              <a:t>: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4635360" y="373392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工业的“</a:t>
            </a:r>
            <a:r>
              <a:rPr b="1" lang="zh-CN" sz="3200" spc="-1" strike="noStrike">
                <a:solidFill>
                  <a:srgbClr val="ffff66"/>
                </a:solidFill>
                <a:latin typeface="Times New Roman"/>
                <a:ea typeface="隶书"/>
              </a:rPr>
              <a:t>粮食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”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4724280" y="4952880"/>
            <a:ext cx="333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工业的“</a:t>
            </a:r>
            <a:r>
              <a:rPr b="1" lang="zh-CN" sz="3200" spc="-1" strike="noStrike">
                <a:solidFill>
                  <a:srgbClr val="ffff66"/>
                </a:solidFill>
                <a:latin typeface="Times New Roman"/>
                <a:ea typeface="隶书"/>
              </a:rPr>
              <a:t>血液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”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5334120" y="6278400"/>
            <a:ext cx="28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“</a:t>
            </a:r>
            <a:r>
              <a:rPr b="1" lang="zh-CN" sz="3200" spc="-1" strike="noStrike">
                <a:solidFill>
                  <a:srgbClr val="ffff66"/>
                </a:solidFill>
                <a:latin typeface="Times New Roman"/>
                <a:ea typeface="隶书"/>
              </a:rPr>
              <a:t>西气东输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”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6324480" y="685800"/>
            <a:ext cx="519120" cy="409680"/>
          </a:xfrm>
          <a:custGeom>
            <a:avLst/>
            <a:gdLst>
              <a:gd name="textAreaLeft" fmla="*/ 64800 w 519120"/>
              <a:gd name="textAreaRight" fmla="*/ 454320 w 519120"/>
              <a:gd name="textAreaTop" fmla="*/ 102240 h 409680"/>
              <a:gd name="textAreaBottom" fmla="*/ 307440 h 4096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ccff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cc"/>
                </a:solidFill>
                <a:latin typeface="Arial Black"/>
              </a:rPr>
              <a:t>链接</a:t>
            </a:r>
            <a:endParaRPr b="0" lang="en-US" sz="1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5943600" y="1752480"/>
            <a:ext cx="519120" cy="409680"/>
          </a:xfrm>
          <a:custGeom>
            <a:avLst/>
            <a:gdLst>
              <a:gd name="textAreaLeft" fmla="*/ 64800 w 519120"/>
              <a:gd name="textAreaRight" fmla="*/ 454320 w 519120"/>
              <a:gd name="textAreaTop" fmla="*/ 102240 h 409680"/>
              <a:gd name="textAreaBottom" fmla="*/ 307440 h 4096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ccff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33cc"/>
                </a:solidFill>
                <a:latin typeface="Arial Narrow"/>
              </a:rPr>
              <a:t>链接</a:t>
            </a:r>
            <a:endParaRPr b="0" lang="en-US" sz="1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724280" y="3048120"/>
            <a:ext cx="519120" cy="409320"/>
          </a:xfrm>
          <a:custGeom>
            <a:avLst/>
            <a:gdLst>
              <a:gd name="textAreaLeft" fmla="*/ 64800 w 519120"/>
              <a:gd name="textAreaRight" fmla="*/ 454320 w 519120"/>
              <a:gd name="textAreaTop" fmla="*/ 102240 h 409320"/>
              <a:gd name="textAreaBottom" fmla="*/ 307080 h 4093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ccff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33cc"/>
                </a:solidFill>
                <a:latin typeface="Arial Narrow"/>
              </a:rPr>
              <a:t>链接</a:t>
            </a:r>
            <a:endParaRPr b="0" lang="en-US" sz="1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6781680" y="2286000"/>
            <a:ext cx="519120" cy="409680"/>
          </a:xfrm>
          <a:custGeom>
            <a:avLst/>
            <a:gdLst>
              <a:gd name="textAreaLeft" fmla="*/ 64800 w 519120"/>
              <a:gd name="textAreaRight" fmla="*/ 454320 w 519120"/>
              <a:gd name="textAreaTop" fmla="*/ 102240 h 409680"/>
              <a:gd name="textAreaBottom" fmla="*/ 307440 h 4096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ccff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33cc"/>
                </a:solidFill>
                <a:latin typeface="Arial Narrow"/>
              </a:rPr>
              <a:t>链接</a:t>
            </a:r>
            <a:endParaRPr b="0" lang="en-US" sz="1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772400" y="6448320"/>
            <a:ext cx="519120" cy="409680"/>
          </a:xfrm>
          <a:custGeom>
            <a:avLst/>
            <a:gdLst>
              <a:gd name="textAreaLeft" fmla="*/ 64800 w 519120"/>
              <a:gd name="textAreaRight" fmla="*/ 454320 w 519120"/>
              <a:gd name="textAreaTop" fmla="*/ 102240 h 409680"/>
              <a:gd name="textAreaBottom" fmla="*/ 307440 h 4096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ccff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33cc"/>
                </a:solidFill>
                <a:latin typeface="Arial Narrow"/>
              </a:rPr>
              <a:t>链接</a:t>
            </a:r>
            <a:endParaRPr b="0" lang="en-US" sz="1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620120" y="5181480"/>
            <a:ext cx="519120" cy="409680"/>
          </a:xfrm>
          <a:custGeom>
            <a:avLst/>
            <a:gdLst>
              <a:gd name="textAreaLeft" fmla="*/ 64800 w 519120"/>
              <a:gd name="textAreaRight" fmla="*/ 454320 w 519120"/>
              <a:gd name="textAreaTop" fmla="*/ 102240 h 409680"/>
              <a:gd name="textAreaBottom" fmla="*/ 307440 h 4096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ccff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33cc"/>
                </a:solidFill>
                <a:latin typeface="Arial Narrow"/>
              </a:rPr>
              <a:t>链接</a:t>
            </a:r>
            <a:endParaRPr b="0" lang="en-US" sz="1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6934320" y="4038480"/>
            <a:ext cx="519120" cy="409680"/>
          </a:xfrm>
          <a:custGeom>
            <a:avLst/>
            <a:gdLst>
              <a:gd name="textAreaLeft" fmla="*/ 64800 w 519120"/>
              <a:gd name="textAreaRight" fmla="*/ 454320 w 519120"/>
              <a:gd name="textAreaTop" fmla="*/ 102240 h 409680"/>
              <a:gd name="textAreaBottom" fmla="*/ 307440 h 4096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ccff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33cc"/>
                </a:solidFill>
                <a:latin typeface="Arial Narrow"/>
              </a:rPr>
              <a:t>链接</a:t>
            </a:r>
            <a:endParaRPr b="0" lang="en-US" sz="1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990720" y="2057400"/>
            <a:ext cx="2303280" cy="1143000"/>
          </a:xfrm>
          <a:prstGeom prst="wedgeEllipseCallout">
            <a:avLst>
              <a:gd name="adj1" fmla="val -42555"/>
              <a:gd name="adj2" fmla="val -89027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533520" y="5181480"/>
            <a:ext cx="2554200" cy="1143000"/>
          </a:xfrm>
          <a:prstGeom prst="wedgeEllipseCallout">
            <a:avLst>
              <a:gd name="adj1" fmla="val -26074"/>
              <a:gd name="adj2" fmla="val -97361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1066680" y="2286000"/>
            <a:ext cx="28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cc"/>
                </a:solidFill>
                <a:latin typeface="Arial Narrow"/>
              </a:rPr>
              <a:t>家用燃料的选择要</a:t>
            </a:r>
            <a:endParaRPr b="0" lang="en-US" sz="18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cc"/>
                </a:solidFill>
                <a:latin typeface="Arial Narrow"/>
              </a:rPr>
              <a:t>综合考虑哪些因素？</a:t>
            </a:r>
            <a:endParaRPr b="0" lang="en-US" sz="1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1068480" y="541008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cc"/>
                </a:solidFill>
                <a:latin typeface="Arial Narrow"/>
              </a:rPr>
              <a:t>化石燃料在利用的过程</a:t>
            </a:r>
            <a:endParaRPr b="0" lang="en-US" sz="18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cc"/>
                </a:solidFill>
                <a:latin typeface="Arial Narrow"/>
              </a:rPr>
              <a:t>中对环境有哪些危害？</a:t>
            </a:r>
            <a:endParaRPr b="0" lang="en-US" sz="1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2286000" y="2895480"/>
            <a:ext cx="380880" cy="204840"/>
          </a:xfrm>
          <a:prstGeom prst="rightArrow">
            <a:avLst>
              <a:gd name="adj1" fmla="val 50000"/>
              <a:gd name="adj2" fmla="val 46485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1752480" y="6019920"/>
            <a:ext cx="381240" cy="204840"/>
          </a:xfrm>
          <a:prstGeom prst="rightArrow">
            <a:avLst>
              <a:gd name="adj1" fmla="val 50000"/>
              <a:gd name="adj2" fmla="val 46529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6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1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2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7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2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2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7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2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7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4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9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4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/>
          <p:nvPr/>
        </p:nvSpPr>
        <p:spPr>
          <a:xfrm>
            <a:off x="609480" y="2362320"/>
            <a:ext cx="655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e1f08"/>
                </a:solidFill>
                <a:latin typeface="Times New Roman"/>
                <a:ea typeface="华文彩云"/>
              </a:rPr>
              <a:t>煤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1143000" y="1066680"/>
            <a:ext cx="358920" cy="3092400"/>
          </a:xfrm>
          <a:custGeom>
            <a:avLst/>
            <a:gdLst>
              <a:gd name="textAreaLeft" fmla="*/ 229320 w 358920"/>
              <a:gd name="textAreaRight" fmla="*/ 359280 w 358920"/>
              <a:gd name="textAreaTop" fmla="*/ 80640 h 3092400"/>
              <a:gd name="textAreaBottom" fmla="*/ 3011760 h 3092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133"/>
                </a:lnTo>
                <a:cubicBezTo>
                  <a:pt x="10800" y="10033"/>
                  <a:pt x="5400" y="10933"/>
                  <a:pt x="0" y="10933"/>
                </a:cubicBezTo>
                <a:cubicBezTo>
                  <a:pt x="5400" y="10933"/>
                  <a:pt x="10800" y="11833"/>
                  <a:pt x="10800" y="12733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1447920" y="609480"/>
            <a:ext cx="721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主要成分含</a:t>
            </a:r>
            <a:r>
              <a:rPr b="1" lang="zh-CN" sz="3600" spc="-1" strike="noStrike">
                <a:solidFill>
                  <a:srgbClr val="ffff66"/>
                </a:solidFill>
                <a:latin typeface="Times New Roman"/>
              </a:rPr>
              <a:t>碳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元素，还有少量的</a:t>
            </a:r>
            <a:r>
              <a:rPr b="1" lang="zh-CN" sz="3600" spc="-1" strike="noStrike">
                <a:solidFill>
                  <a:srgbClr val="ffff66"/>
                </a:solidFill>
                <a:latin typeface="Times New Roman"/>
              </a:rPr>
              <a:t>硫、氮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元素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1447920" y="3733920"/>
            <a:ext cx="449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煤的综合利用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4038480" y="3124080"/>
            <a:ext cx="304920" cy="1981440"/>
          </a:xfrm>
          <a:custGeom>
            <a:avLst/>
            <a:gdLst>
              <a:gd name="textAreaLeft" fmla="*/ 194760 w 304920"/>
              <a:gd name="textAreaRight" fmla="*/ 305280 w 304920"/>
              <a:gd name="textAreaTop" fmla="*/ 51480 h 1981440"/>
              <a:gd name="textAreaBottom" fmla="*/ 1929960 h 1981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133"/>
                </a:lnTo>
                <a:cubicBezTo>
                  <a:pt x="10800" y="10033"/>
                  <a:pt x="5400" y="10933"/>
                  <a:pt x="0" y="10933"/>
                </a:cubicBezTo>
                <a:cubicBezTo>
                  <a:pt x="5400" y="10933"/>
                  <a:pt x="10800" y="11833"/>
                  <a:pt x="10800" y="12733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4419720" y="266688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煤的</a:t>
            </a:r>
            <a:r>
              <a:rPr b="1" lang="zh-CN" sz="3200" spc="-1" strike="noStrike">
                <a:solidFill>
                  <a:srgbClr val="ffff66"/>
                </a:solidFill>
                <a:latin typeface="Times New Roman"/>
              </a:rPr>
              <a:t>干馏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：焦炭、煤焦油、焦炉气（是</a:t>
            </a:r>
            <a:r>
              <a:rPr b="1" lang="zh-CN" sz="3200" spc="-1" strike="noStrike">
                <a:solidFill>
                  <a:srgbClr val="ffff66"/>
                </a:solidFill>
                <a:latin typeface="Times New Roman"/>
              </a:rPr>
              <a:t>化学变化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4356000" y="4508640"/>
            <a:ext cx="453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煤气（主要含</a:t>
            </a:r>
            <a:r>
              <a:rPr b="1" lang="zh-CN" sz="3600" spc="-1" strike="noStrike">
                <a:solidFill>
                  <a:srgbClr val="ffff66"/>
                </a:solidFill>
                <a:latin typeface="Times New Roman"/>
              </a:rPr>
              <a:t>一氧化碳</a:t>
            </a:r>
            <a:r>
              <a:rPr b="1" lang="zh-CN" sz="3600" spc="-1" strike="noStrike">
                <a:solidFill>
                  <a:srgbClr val="ffff66"/>
                </a:solidFill>
                <a:latin typeface="Times New Roman"/>
              </a:rPr>
              <a:t>,</a:t>
            </a:r>
            <a:r>
              <a:rPr b="1" lang="zh-CN" sz="3600" spc="-1" strike="noStrike">
                <a:solidFill>
                  <a:srgbClr val="ffff66"/>
                </a:solidFill>
                <a:latin typeface="Times New Roman"/>
              </a:rPr>
              <a:t>有毒</a:t>
            </a:r>
            <a:r>
              <a:rPr b="1" lang="zh-CN" sz="3600" spc="-1" strike="noStrike">
                <a:solidFill>
                  <a:srgbClr val="ffff66"/>
                </a:solidFill>
                <a:latin typeface="Times New Roman"/>
              </a:rPr>
              <a:t>,</a:t>
            </a:r>
            <a:r>
              <a:rPr b="1" lang="zh-CN" sz="3600" spc="-1" strike="noStrike">
                <a:solidFill>
                  <a:srgbClr val="ffff66"/>
                </a:solidFill>
                <a:latin typeface="Times New Roman"/>
              </a:rPr>
              <a:t>难溶于水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）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09" name="">
            <a:hlinkClick r:id="rId1" action="ppaction://hlinksldjump"/>
          </p:cNvPr>
          <p:cNvSpPr/>
          <p:nvPr/>
        </p:nvSpPr>
        <p:spPr>
          <a:xfrm>
            <a:off x="8839080" y="65530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1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6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1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6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1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6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1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"/>
          <p:cNvSpPr/>
          <p:nvPr/>
        </p:nvSpPr>
        <p:spPr>
          <a:xfrm>
            <a:off x="457200" y="2438280"/>
            <a:ext cx="472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1f08"/>
                </a:solidFill>
                <a:latin typeface="Times New Roman"/>
                <a:ea typeface="华文彩云"/>
              </a:rPr>
              <a:t>石油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1295280" y="1447920"/>
            <a:ext cx="381240" cy="2590560"/>
          </a:xfrm>
          <a:custGeom>
            <a:avLst/>
            <a:gdLst>
              <a:gd name="textAreaLeft" fmla="*/ 243720 w 381240"/>
              <a:gd name="textAreaRight" fmla="*/ 381600 w 381240"/>
              <a:gd name="textAreaTop" fmla="*/ 67320 h 2590560"/>
              <a:gd name="textAreaBottom" fmla="*/ 2523240 h 2590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133"/>
                </a:lnTo>
                <a:cubicBezTo>
                  <a:pt x="10800" y="10033"/>
                  <a:pt x="5400" y="10933"/>
                  <a:pt x="0" y="10933"/>
                </a:cubicBezTo>
                <a:cubicBezTo>
                  <a:pt x="5400" y="10933"/>
                  <a:pt x="10800" y="11833"/>
                  <a:pt x="10800" y="12733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1600200" y="380880"/>
            <a:ext cx="662940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主要成分含</a:t>
            </a:r>
            <a:r>
              <a:rPr b="1" lang="zh-CN" sz="3200" spc="-1" strike="noStrike">
                <a:solidFill>
                  <a:srgbClr val="ffff66"/>
                </a:solidFill>
                <a:latin typeface="Times New Roman"/>
              </a:rPr>
              <a:t>碳、氢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元素，还含少量的</a:t>
            </a:r>
            <a:r>
              <a:rPr b="1" lang="zh-CN" sz="3200" spc="-1" strike="noStrike">
                <a:solidFill>
                  <a:srgbClr val="ffff66"/>
                </a:solidFill>
                <a:latin typeface="Times New Roman"/>
              </a:rPr>
              <a:t>硫、氮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等元素。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1523880" y="3124080"/>
            <a:ext cx="7151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石油的综合利用：石油的分馏利用各物质的</a:t>
            </a:r>
            <a:r>
              <a:rPr b="1" lang="zh-CN" sz="3200" spc="-1" strike="noStrike">
                <a:solidFill>
                  <a:srgbClr val="ffff66"/>
                </a:solidFill>
                <a:latin typeface="Times New Roman"/>
              </a:rPr>
              <a:t>沸点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不同得到不同的产物，例如：可得到汽油、柴油等。（是</a:t>
            </a:r>
            <a:r>
              <a:rPr b="1" lang="zh-CN" sz="3200" spc="-1" strike="noStrike">
                <a:solidFill>
                  <a:srgbClr val="ffff66"/>
                </a:solidFill>
                <a:latin typeface="Times New Roman"/>
              </a:rPr>
              <a:t>物理变化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14" name="">
            <a:hlinkClick r:id="rId1" action="ppaction://hlinksldjump"/>
          </p:cNvPr>
          <p:cNvSpPr/>
          <p:nvPr/>
        </p:nvSpPr>
        <p:spPr>
          <a:xfrm>
            <a:off x="8839080" y="6705720"/>
            <a:ext cx="304920" cy="30456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26" h="21600">
                <a:moveTo>
                  <a:pt x="0" y="0"/>
                </a:moveTo>
                <a:lnTo>
                  <a:pt x="21626" y="0"/>
                </a:lnTo>
                <a:lnTo>
                  <a:pt x="21626" y="21600"/>
                </a:lnTo>
                <a:lnTo>
                  <a:pt x="0" y="21600"/>
                </a:lnTo>
                <a:close/>
              </a:path>
              <a:path fill="lightenLess" w="21626" h="21600">
                <a:moveTo>
                  <a:pt x="0" y="0"/>
                </a:moveTo>
                <a:lnTo>
                  <a:pt x="21626" y="0"/>
                </a:lnTo>
                <a:lnTo>
                  <a:pt x="20226" y="1400"/>
                </a:lnTo>
                <a:lnTo>
                  <a:pt x="1400" y="1400"/>
                </a:lnTo>
                <a:close/>
              </a:path>
              <a:path fill="darken" w="21626" h="21600">
                <a:moveTo>
                  <a:pt x="21626" y="0"/>
                </a:moveTo>
                <a:lnTo>
                  <a:pt x="21626" y="21600"/>
                </a:lnTo>
                <a:lnTo>
                  <a:pt x="20226" y="20200"/>
                </a:lnTo>
                <a:lnTo>
                  <a:pt x="20226" y="1400"/>
                </a:lnTo>
                <a:close/>
              </a:path>
              <a:path fill="darkenLess" w="21626" h="21600">
                <a:moveTo>
                  <a:pt x="216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6" y="20200"/>
                </a:lnTo>
                <a:close/>
              </a:path>
              <a:path fill="lighten" w="216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6" h="21600">
                <a:moveTo>
                  <a:pt x="3806" y="7493"/>
                </a:moveTo>
                <a:lnTo>
                  <a:pt x="7314" y="7493"/>
                </a:lnTo>
                <a:lnTo>
                  <a:pt x="7314" y="12828"/>
                </a:lnTo>
                <a:cubicBezTo>
                  <a:pt x="7314" y="13751"/>
                  <a:pt x="8115" y="14482"/>
                  <a:pt x="9150" y="14482"/>
                </a:cubicBezTo>
                <a:lnTo>
                  <a:pt x="10813" y="14482"/>
                </a:lnTo>
                <a:cubicBezTo>
                  <a:pt x="11848" y="14482"/>
                  <a:pt x="12649" y="13751"/>
                  <a:pt x="12649" y="12828"/>
                </a:cubicBezTo>
                <a:lnTo>
                  <a:pt x="12649" y="7493"/>
                </a:lnTo>
                <a:lnTo>
                  <a:pt x="10813" y="7493"/>
                </a:lnTo>
                <a:lnTo>
                  <a:pt x="14320" y="3985"/>
                </a:lnTo>
                <a:lnTo>
                  <a:pt x="17993" y="7493"/>
                </a:lnTo>
                <a:lnTo>
                  <a:pt x="16157" y="7493"/>
                </a:lnTo>
                <a:lnTo>
                  <a:pt x="16157" y="12828"/>
                </a:lnTo>
                <a:cubicBezTo>
                  <a:pt x="16157" y="15596"/>
                  <a:pt x="13581" y="18155"/>
                  <a:pt x="10813" y="18155"/>
                </a:cubicBezTo>
                <a:lnTo>
                  <a:pt x="9150" y="18155"/>
                </a:lnTo>
                <a:cubicBezTo>
                  <a:pt x="6383" y="18155"/>
                  <a:pt x="3806" y="15596"/>
                  <a:pt x="3806" y="12828"/>
                </a:cubicBezTo>
                <a:close/>
              </a:path>
            </a:pathLst>
          </a:cu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8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3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8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3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"/>
          <p:cNvSpPr/>
          <p:nvPr/>
        </p:nvSpPr>
        <p:spPr>
          <a:xfrm>
            <a:off x="457200" y="2209680"/>
            <a:ext cx="19051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1f08"/>
                </a:solidFill>
                <a:latin typeface="Times New Roman"/>
                <a:ea typeface="华文彩云"/>
              </a:rPr>
              <a:t>天然气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1752480" y="1447920"/>
            <a:ext cx="304920" cy="1904760"/>
          </a:xfrm>
          <a:custGeom>
            <a:avLst/>
            <a:gdLst>
              <a:gd name="textAreaLeft" fmla="*/ 194760 w 304920"/>
              <a:gd name="textAreaRight" fmla="*/ 305280 w 304920"/>
              <a:gd name="textAreaTop" fmla="*/ 49680 h 1904760"/>
              <a:gd name="textAreaBottom" fmla="*/ 1855080 h 1904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133"/>
                </a:lnTo>
                <a:cubicBezTo>
                  <a:pt x="10800" y="10033"/>
                  <a:pt x="5400" y="10933"/>
                  <a:pt x="0" y="10933"/>
                </a:cubicBezTo>
                <a:cubicBezTo>
                  <a:pt x="5400" y="10933"/>
                  <a:pt x="10800" y="11833"/>
                  <a:pt x="10800" y="12733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1908000" y="1219320"/>
            <a:ext cx="670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主要成分是</a:t>
            </a:r>
            <a:r>
              <a:rPr b="1" lang="zh-CN" sz="3200" spc="-1" strike="noStrike">
                <a:solidFill>
                  <a:srgbClr val="ffff99"/>
                </a:solidFill>
                <a:latin typeface="Times New Roman"/>
              </a:rPr>
              <a:t>甲烷（</a:t>
            </a:r>
            <a:r>
              <a:rPr b="1" lang="zh-CN" sz="3200" spc="-1" strike="noStrike">
                <a:solidFill>
                  <a:srgbClr val="ffff99"/>
                </a:solidFill>
                <a:latin typeface="Times New Roman"/>
              </a:rPr>
              <a:t>CH4</a:t>
            </a:r>
            <a:r>
              <a:rPr b="1" lang="zh-CN" sz="3200" spc="-1" strike="noStrike">
                <a:solidFill>
                  <a:srgbClr val="ffff99"/>
                </a:solidFill>
                <a:latin typeface="Times New Roman"/>
              </a:rPr>
              <a:t>）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俗称</a:t>
            </a:r>
            <a:r>
              <a:rPr b="1" lang="zh-CN" sz="3200" spc="-1" strike="noStrike">
                <a:solidFill>
                  <a:srgbClr val="ffff99"/>
                </a:solidFill>
                <a:latin typeface="Times New Roman"/>
              </a:rPr>
              <a:t>“沼气”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2209680" y="3124080"/>
            <a:ext cx="624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其它：也是煤矿井中的</a:t>
            </a:r>
            <a:r>
              <a:rPr b="1" lang="zh-CN" sz="3200" spc="-1" strike="noStrike">
                <a:solidFill>
                  <a:srgbClr val="ffcc00"/>
                </a:solidFill>
                <a:latin typeface="Times New Roman"/>
              </a:rPr>
              <a:t>“</a:t>
            </a:r>
            <a:r>
              <a:rPr b="1" lang="zh-CN" sz="3200" spc="-1" strike="noStrike">
                <a:solidFill>
                  <a:srgbClr val="ffff99"/>
                </a:solidFill>
                <a:latin typeface="Times New Roman"/>
              </a:rPr>
              <a:t>瓦斯</a:t>
            </a:r>
            <a:r>
              <a:rPr b="1" lang="zh-CN" sz="3200" spc="-1" strike="noStrike">
                <a:solidFill>
                  <a:srgbClr val="ffcc00"/>
                </a:solidFill>
                <a:latin typeface="Times New Roman"/>
              </a:rPr>
              <a:t>”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的主要成分。具有</a:t>
            </a:r>
            <a:r>
              <a:rPr b="1" lang="zh-CN" sz="3200" spc="-1" strike="noStrike">
                <a:solidFill>
                  <a:srgbClr val="ffff99"/>
                </a:solidFill>
                <a:latin typeface="Times New Roman"/>
              </a:rPr>
              <a:t>可燃性</a:t>
            </a:r>
            <a:r>
              <a:rPr b="1" lang="zh-CN" sz="3200" spc="-1" strike="noStrike">
                <a:solidFill>
                  <a:srgbClr val="ffcc00"/>
                </a:solidFill>
                <a:latin typeface="Times New Roman"/>
              </a:rPr>
              <a:t>。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是一种</a:t>
            </a:r>
            <a:r>
              <a:rPr b="1" lang="zh-CN" sz="3200" spc="-1" strike="noStrike">
                <a:solidFill>
                  <a:srgbClr val="ffff66"/>
                </a:solidFill>
                <a:latin typeface="Times New Roman"/>
              </a:rPr>
              <a:t>清洁能源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19" name="">
            <a:hlinkClick r:id="rId1" action="ppaction://hlinksldjump"/>
          </p:cNvPr>
          <p:cNvSpPr/>
          <p:nvPr/>
        </p:nvSpPr>
        <p:spPr>
          <a:xfrm>
            <a:off x="8839080" y="6477120"/>
            <a:ext cx="304920" cy="3808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6975">
                <a:moveTo>
                  <a:pt x="0" y="0"/>
                </a:moveTo>
                <a:lnTo>
                  <a:pt x="21600" y="0"/>
                </a:lnTo>
                <a:lnTo>
                  <a:pt x="21600" y="26975"/>
                </a:lnTo>
                <a:lnTo>
                  <a:pt x="0" y="26975"/>
                </a:lnTo>
                <a:close/>
              </a:path>
              <a:path fill="lightenLess" w="21600" h="269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75">
                <a:moveTo>
                  <a:pt x="21600" y="0"/>
                </a:moveTo>
                <a:lnTo>
                  <a:pt x="21600" y="26975"/>
                </a:lnTo>
                <a:lnTo>
                  <a:pt x="20200" y="25575"/>
                </a:lnTo>
                <a:lnTo>
                  <a:pt x="20200" y="1400"/>
                </a:lnTo>
                <a:close/>
              </a:path>
              <a:path fill="darkenLess" w="21600" h="26975">
                <a:moveTo>
                  <a:pt x="21600" y="26975"/>
                </a:moveTo>
                <a:lnTo>
                  <a:pt x="0" y="26975"/>
                </a:lnTo>
                <a:lnTo>
                  <a:pt x="1400" y="25575"/>
                </a:lnTo>
                <a:lnTo>
                  <a:pt x="20200" y="25575"/>
                </a:lnTo>
                <a:close/>
              </a:path>
              <a:path fill="lighten" w="21600" h="26975">
                <a:moveTo>
                  <a:pt x="0" y="269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75"/>
                </a:lnTo>
                <a:close/>
              </a:path>
              <a:path fill="darken" w="21600" h="26975">
                <a:moveTo>
                  <a:pt x="3794" y="10180"/>
                </a:moveTo>
                <a:lnTo>
                  <a:pt x="7301" y="10180"/>
                </a:lnTo>
                <a:lnTo>
                  <a:pt x="7301" y="15515"/>
                </a:lnTo>
                <a:cubicBezTo>
                  <a:pt x="7301" y="16438"/>
                  <a:pt x="8102" y="17169"/>
                  <a:pt x="9138" y="17169"/>
                </a:cubicBezTo>
                <a:lnTo>
                  <a:pt x="10800" y="17169"/>
                </a:lnTo>
                <a:cubicBezTo>
                  <a:pt x="11836" y="17169"/>
                  <a:pt x="12636" y="16438"/>
                  <a:pt x="12636" y="15515"/>
                </a:cubicBezTo>
                <a:lnTo>
                  <a:pt x="12636" y="10180"/>
                </a:lnTo>
                <a:lnTo>
                  <a:pt x="10800" y="10180"/>
                </a:lnTo>
                <a:lnTo>
                  <a:pt x="14308" y="6672"/>
                </a:lnTo>
                <a:lnTo>
                  <a:pt x="17981" y="10180"/>
                </a:lnTo>
                <a:lnTo>
                  <a:pt x="16144" y="10180"/>
                </a:lnTo>
                <a:lnTo>
                  <a:pt x="16144" y="15515"/>
                </a:lnTo>
                <a:cubicBezTo>
                  <a:pt x="16144" y="18283"/>
                  <a:pt x="13568" y="20842"/>
                  <a:pt x="10800" y="20842"/>
                </a:cubicBezTo>
                <a:lnTo>
                  <a:pt x="9138" y="20842"/>
                </a:lnTo>
                <a:cubicBezTo>
                  <a:pt x="6370" y="20842"/>
                  <a:pt x="3794" y="18283"/>
                  <a:pt x="3794" y="15515"/>
                </a:cubicBezTo>
                <a:close/>
              </a:path>
            </a:pathLst>
          </a:cu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0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5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0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5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"/>
          <p:cNvSpPr/>
          <p:nvPr/>
        </p:nvSpPr>
        <p:spPr>
          <a:xfrm>
            <a:off x="762120" y="609480"/>
            <a:ext cx="9304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66"/>
                </a:solidFill>
                <a:latin typeface="Times New Roman"/>
                <a:ea typeface="华文彩云"/>
              </a:rPr>
              <a:t>化石燃料的利用过程中对环境的影响</a:t>
            </a:r>
            <a:r>
              <a:rPr b="1" lang="zh-CN" sz="3600" spc="-1" strike="noStrike">
                <a:solidFill>
                  <a:srgbClr val="ffff66"/>
                </a:solidFill>
                <a:latin typeface="Times New Roman"/>
              </a:rPr>
              <a:t>：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762120" y="182880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全球气候变化：</a:t>
            </a:r>
            <a:r>
              <a:rPr b="1" lang="zh-CN" sz="3600" spc="-1" strike="noStrike">
                <a:solidFill>
                  <a:srgbClr val="ff66ff"/>
                </a:solidFill>
                <a:latin typeface="Times New Roman"/>
              </a:rPr>
              <a:t>温室效应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1143000" y="3048120"/>
            <a:ext cx="724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热污染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会使河水中的鱼类死亡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1600200" y="4343400"/>
            <a:ext cx="6248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大气污染：产生的各种有害气体（</a:t>
            </a:r>
            <a:r>
              <a:rPr b="1" lang="zh-CN" sz="3600" spc="-1" strike="noStrike">
                <a:solidFill>
                  <a:srgbClr val="ff66ff"/>
                </a:solidFill>
                <a:latin typeface="Times New Roman"/>
              </a:rPr>
              <a:t>SO</a:t>
            </a:r>
            <a:r>
              <a:rPr b="1" lang="zh-CN" sz="28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ff66ff"/>
                </a:solidFill>
                <a:latin typeface="Times New Roman"/>
              </a:rPr>
              <a:t>、</a:t>
            </a:r>
            <a:r>
              <a:rPr b="1" lang="zh-CN" sz="3600" spc="-1" strike="noStrike">
                <a:solidFill>
                  <a:srgbClr val="ff66ff"/>
                </a:solidFill>
                <a:latin typeface="Times New Roman"/>
              </a:rPr>
              <a:t>NO</a:t>
            </a:r>
            <a:r>
              <a:rPr b="1" lang="zh-CN" sz="28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ff66ff"/>
                </a:solidFill>
                <a:latin typeface="Times New Roman"/>
              </a:rPr>
              <a:t>、</a:t>
            </a:r>
            <a:r>
              <a:rPr b="1" lang="zh-CN" sz="3600" spc="-1" strike="noStrike">
                <a:solidFill>
                  <a:srgbClr val="ff66ff"/>
                </a:solidFill>
                <a:latin typeface="Times New Roman"/>
              </a:rPr>
              <a:t>CO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）和粉尘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1371600" y="2286000"/>
            <a:ext cx="358920" cy="3092400"/>
          </a:xfrm>
          <a:custGeom>
            <a:avLst/>
            <a:gdLst>
              <a:gd name="textAreaLeft" fmla="*/ 229320 w 358920"/>
              <a:gd name="textAreaRight" fmla="*/ 359280 w 358920"/>
              <a:gd name="textAreaTop" fmla="*/ 80640 h 3092400"/>
              <a:gd name="textAreaBottom" fmla="*/ 3011760 h 3092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133"/>
                </a:lnTo>
                <a:cubicBezTo>
                  <a:pt x="10800" y="10033"/>
                  <a:pt x="5400" y="10933"/>
                  <a:pt x="0" y="10933"/>
                </a:cubicBezTo>
                <a:cubicBezTo>
                  <a:pt x="5400" y="10933"/>
                  <a:pt x="10800" y="11833"/>
                  <a:pt x="10800" y="12733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8153280" y="685800"/>
            <a:ext cx="609840" cy="533520"/>
          </a:xfrm>
          <a:custGeom>
            <a:avLst/>
            <a:gdLst>
              <a:gd name="textAreaLeft" fmla="*/ 75960 w 609840"/>
              <a:gd name="textAreaRight" fmla="*/ 533880 w 60984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26" name="">
            <a:hlinkClick r:id="rId1" action="ppaction://hlinksldjump"/>
          </p:cNvPr>
          <p:cNvSpPr/>
          <p:nvPr/>
        </p:nvSpPr>
        <p:spPr>
          <a:xfrm>
            <a:off x="7848720" y="762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cc"/>
                </a:solidFill>
                <a:latin typeface="Arial Narrow"/>
              </a:rPr>
              <a:t>练习</a:t>
            </a:r>
            <a:endParaRPr b="0" lang="en-US" sz="18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6" dur="indefinite" restart="never" nodeType="tmRoot">
          <p:childTnLst>
            <p:seq>
              <p:cTn id="527" dur="indefinite" nodeType="mainSeq">
                <p:childTnLst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1835280" y="1413000"/>
            <a:ext cx="403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2124000" y="981000"/>
            <a:ext cx="4824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1835280" y="1700280"/>
            <a:ext cx="684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1258920" y="1484280"/>
            <a:ext cx="741672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 Narrow"/>
              </a:rPr>
              <a:t>例</a:t>
            </a:r>
            <a:r>
              <a:rPr b="1" lang="zh-CN" sz="3600" spc="-1" strike="noStrike">
                <a:solidFill>
                  <a:srgbClr val="ffffff"/>
                </a:solidFill>
                <a:latin typeface="Arial Narrow"/>
              </a:rPr>
              <a:t>:</a:t>
            </a:r>
            <a:r>
              <a:rPr b="1" lang="zh-CN" sz="3600" spc="-1" strike="noStrike">
                <a:solidFill>
                  <a:srgbClr val="ffffff"/>
                </a:solidFill>
                <a:latin typeface="Arial Narrow"/>
              </a:rPr>
              <a:t>下列所造成的污染不是化石燃料造成的是          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Arial Narrow"/>
              </a:rPr>
              <a:t>(       )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 Narrow"/>
              </a:rPr>
              <a:t>(A)</a:t>
            </a:r>
            <a:r>
              <a:rPr b="1" lang="zh-CN" sz="3600" spc="-1" strike="noStrike">
                <a:solidFill>
                  <a:srgbClr val="ffffff"/>
                </a:solidFill>
                <a:latin typeface="Arial Narrow"/>
              </a:rPr>
              <a:t>温室效应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Arial Narrow"/>
              </a:rPr>
              <a:t>(B)</a:t>
            </a:r>
            <a:r>
              <a:rPr b="1" lang="zh-CN" sz="3600" spc="-1" strike="noStrike">
                <a:solidFill>
                  <a:srgbClr val="ffffff"/>
                </a:solidFill>
                <a:latin typeface="Arial Narrow"/>
              </a:rPr>
              <a:t>沙尘暴 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 Narrow"/>
              </a:rPr>
              <a:t>(C) </a:t>
            </a:r>
            <a:r>
              <a:rPr b="1" lang="zh-CN" sz="3600" spc="-1" strike="noStrike">
                <a:solidFill>
                  <a:srgbClr val="ffffff"/>
                </a:solidFill>
                <a:latin typeface="Arial Narrow"/>
              </a:rPr>
              <a:t>热污染   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Arial Narrow"/>
              </a:rPr>
              <a:t>(D)</a:t>
            </a:r>
            <a:r>
              <a:rPr b="1" lang="zh-CN" sz="3600" spc="-1" strike="noStrike">
                <a:solidFill>
                  <a:srgbClr val="ffffff"/>
                </a:solidFill>
                <a:latin typeface="Arial Narrow"/>
              </a:rPr>
              <a:t>酸雨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6588000" y="2060640"/>
            <a:ext cx="7207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Arial Narrow"/>
              </a:rPr>
              <a:t>B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32" name="">
            <a:hlinkClick r:id="rId1" action="ppaction://hlinksldjump"/>
          </p:cNvPr>
          <p:cNvSpPr/>
          <p:nvPr/>
        </p:nvSpPr>
        <p:spPr>
          <a:xfrm>
            <a:off x="8839080" y="6705720"/>
            <a:ext cx="304920" cy="30456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26" h="21600">
                <a:moveTo>
                  <a:pt x="0" y="0"/>
                </a:moveTo>
                <a:lnTo>
                  <a:pt x="21626" y="0"/>
                </a:lnTo>
                <a:lnTo>
                  <a:pt x="21626" y="21600"/>
                </a:lnTo>
                <a:lnTo>
                  <a:pt x="0" y="21600"/>
                </a:lnTo>
                <a:close/>
              </a:path>
              <a:path fill="lightenLess" w="21626" h="21600">
                <a:moveTo>
                  <a:pt x="0" y="0"/>
                </a:moveTo>
                <a:lnTo>
                  <a:pt x="21626" y="0"/>
                </a:lnTo>
                <a:lnTo>
                  <a:pt x="20226" y="1400"/>
                </a:lnTo>
                <a:lnTo>
                  <a:pt x="1400" y="1400"/>
                </a:lnTo>
                <a:close/>
              </a:path>
              <a:path fill="darken" w="21626" h="21600">
                <a:moveTo>
                  <a:pt x="21626" y="0"/>
                </a:moveTo>
                <a:lnTo>
                  <a:pt x="21626" y="21600"/>
                </a:lnTo>
                <a:lnTo>
                  <a:pt x="20226" y="20200"/>
                </a:lnTo>
                <a:lnTo>
                  <a:pt x="20226" y="1400"/>
                </a:lnTo>
                <a:close/>
              </a:path>
              <a:path fill="darkenLess" w="21626" h="21600">
                <a:moveTo>
                  <a:pt x="216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6" y="20200"/>
                </a:lnTo>
                <a:close/>
              </a:path>
              <a:path fill="lighten" w="216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6" h="21600">
                <a:moveTo>
                  <a:pt x="3806" y="7493"/>
                </a:moveTo>
                <a:lnTo>
                  <a:pt x="7314" y="7493"/>
                </a:lnTo>
                <a:lnTo>
                  <a:pt x="7314" y="12828"/>
                </a:lnTo>
                <a:cubicBezTo>
                  <a:pt x="7314" y="13751"/>
                  <a:pt x="8115" y="14482"/>
                  <a:pt x="9150" y="14482"/>
                </a:cubicBezTo>
                <a:lnTo>
                  <a:pt x="10813" y="14482"/>
                </a:lnTo>
                <a:cubicBezTo>
                  <a:pt x="11848" y="14482"/>
                  <a:pt x="12649" y="13751"/>
                  <a:pt x="12649" y="12828"/>
                </a:cubicBezTo>
                <a:lnTo>
                  <a:pt x="12649" y="7493"/>
                </a:lnTo>
                <a:lnTo>
                  <a:pt x="10813" y="7493"/>
                </a:lnTo>
                <a:lnTo>
                  <a:pt x="14320" y="3985"/>
                </a:lnTo>
                <a:lnTo>
                  <a:pt x="17993" y="7493"/>
                </a:lnTo>
                <a:lnTo>
                  <a:pt x="16157" y="7493"/>
                </a:lnTo>
                <a:lnTo>
                  <a:pt x="16157" y="12828"/>
                </a:lnTo>
                <a:cubicBezTo>
                  <a:pt x="16157" y="15596"/>
                  <a:pt x="13581" y="18155"/>
                  <a:pt x="10813" y="18155"/>
                </a:cubicBezTo>
                <a:lnTo>
                  <a:pt x="9150" y="18155"/>
                </a:lnTo>
                <a:cubicBezTo>
                  <a:pt x="6383" y="18155"/>
                  <a:pt x="3806" y="15596"/>
                  <a:pt x="3806" y="12828"/>
                </a:cubicBezTo>
                <a:close/>
              </a:path>
            </a:pathLst>
          </a:cu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4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9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1219320" y="228600"/>
            <a:ext cx="4876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1f08"/>
                </a:solidFill>
                <a:latin typeface="Times New Roman"/>
                <a:ea typeface="隶书"/>
              </a:rPr>
              <a:t>知识网络系统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228600" y="1828800"/>
            <a:ext cx="106668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1f08"/>
                </a:solidFill>
                <a:latin typeface="Times New Roman"/>
                <a:ea typeface="华文彩云"/>
              </a:rPr>
              <a:t>燃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1f08"/>
                </a:solidFill>
                <a:latin typeface="Times New Roman"/>
                <a:ea typeface="华文彩云"/>
              </a:rPr>
              <a:t>烧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1f08"/>
                </a:solidFill>
                <a:latin typeface="Times New Roman"/>
                <a:ea typeface="华文彩云"/>
              </a:rPr>
              <a:t>与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1f08"/>
                </a:solidFill>
                <a:latin typeface="Times New Roman"/>
                <a:ea typeface="华文彩云"/>
              </a:rPr>
              <a:t>灭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1f08"/>
                </a:solidFill>
                <a:latin typeface="Times New Roman"/>
                <a:ea typeface="华文彩云"/>
              </a:rPr>
              <a:t>火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1371600" y="3733920"/>
            <a:ext cx="4191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D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、燃烧的条件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447920" y="5638680"/>
            <a:ext cx="7238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F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、灭火的原理、方法及自救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1371600" y="4724280"/>
            <a:ext cx="4800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E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、促进燃烧的方法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1371600" y="1752480"/>
            <a:ext cx="2362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B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、爆炸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00" name="">
            <a:hlinkClick r:id="rId1" action="ppaction://hlinksldjump"/>
          </p:cNvPr>
          <p:cNvSpPr/>
          <p:nvPr/>
        </p:nvSpPr>
        <p:spPr>
          <a:xfrm>
            <a:off x="6324480" y="685800"/>
            <a:ext cx="519120" cy="409680"/>
          </a:xfrm>
          <a:custGeom>
            <a:avLst/>
            <a:gdLst>
              <a:gd name="textAreaLeft" fmla="*/ 64800 w 519120"/>
              <a:gd name="textAreaRight" fmla="*/ 454320 w 519120"/>
              <a:gd name="textAreaTop" fmla="*/ 102240 h 409680"/>
              <a:gd name="textAreaBottom" fmla="*/ 307440 h 4096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ccff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cc"/>
                </a:solidFill>
                <a:latin typeface="Arial Black"/>
              </a:rPr>
              <a:t>链接</a:t>
            </a:r>
            <a:endParaRPr b="0" lang="en-US" sz="1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01" name="">
            <a:hlinkClick r:id="rId2" action="ppaction://hlinksldjump"/>
          </p:cNvPr>
          <p:cNvSpPr/>
          <p:nvPr/>
        </p:nvSpPr>
        <p:spPr>
          <a:xfrm>
            <a:off x="5943600" y="1752480"/>
            <a:ext cx="519120" cy="409680"/>
          </a:xfrm>
          <a:custGeom>
            <a:avLst/>
            <a:gdLst>
              <a:gd name="textAreaLeft" fmla="*/ 64800 w 519120"/>
              <a:gd name="textAreaRight" fmla="*/ 454320 w 519120"/>
              <a:gd name="textAreaTop" fmla="*/ 102240 h 409680"/>
              <a:gd name="textAreaBottom" fmla="*/ 307440 h 4096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ccff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33cc"/>
                </a:solidFill>
                <a:latin typeface="Arial Narrow"/>
              </a:rPr>
              <a:t>链接</a:t>
            </a:r>
            <a:endParaRPr b="0" lang="en-US" sz="1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724280" y="3048120"/>
            <a:ext cx="519120" cy="409320"/>
          </a:xfrm>
          <a:custGeom>
            <a:avLst/>
            <a:gdLst>
              <a:gd name="textAreaLeft" fmla="*/ 64800 w 519120"/>
              <a:gd name="textAreaRight" fmla="*/ 454320 w 519120"/>
              <a:gd name="textAreaTop" fmla="*/ 102240 h 409320"/>
              <a:gd name="textAreaBottom" fmla="*/ 307080 h 4093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ccff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33cc"/>
                </a:solidFill>
                <a:latin typeface="Arial Narrow"/>
              </a:rPr>
              <a:t>链接</a:t>
            </a:r>
            <a:endParaRPr b="0" lang="en-US" sz="1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6781680" y="2286000"/>
            <a:ext cx="519120" cy="409680"/>
          </a:xfrm>
          <a:custGeom>
            <a:avLst/>
            <a:gdLst>
              <a:gd name="textAreaLeft" fmla="*/ 64800 w 519120"/>
              <a:gd name="textAreaRight" fmla="*/ 454320 w 519120"/>
              <a:gd name="textAreaTop" fmla="*/ 102240 h 409680"/>
              <a:gd name="textAreaBottom" fmla="*/ 307440 h 4096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ccff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33cc"/>
                </a:solidFill>
                <a:latin typeface="Arial Narrow"/>
              </a:rPr>
              <a:t>链接</a:t>
            </a:r>
            <a:endParaRPr b="0" lang="en-US" sz="1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2400" y="6448320"/>
            <a:ext cx="519120" cy="409680"/>
          </a:xfrm>
          <a:custGeom>
            <a:avLst/>
            <a:gdLst>
              <a:gd name="textAreaLeft" fmla="*/ 64800 w 519120"/>
              <a:gd name="textAreaRight" fmla="*/ 454320 w 519120"/>
              <a:gd name="textAreaTop" fmla="*/ 102240 h 409680"/>
              <a:gd name="textAreaBottom" fmla="*/ 307440 h 4096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ccff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33cc"/>
                </a:solidFill>
                <a:latin typeface="Arial Narrow"/>
              </a:rPr>
              <a:t>链接</a:t>
            </a:r>
            <a:endParaRPr b="0" lang="en-US" sz="1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7620120" y="5181480"/>
            <a:ext cx="519120" cy="409680"/>
          </a:xfrm>
          <a:custGeom>
            <a:avLst/>
            <a:gdLst>
              <a:gd name="textAreaLeft" fmla="*/ 64800 w 519120"/>
              <a:gd name="textAreaRight" fmla="*/ 454320 w 519120"/>
              <a:gd name="textAreaTop" fmla="*/ 102240 h 409680"/>
              <a:gd name="textAreaBottom" fmla="*/ 307440 h 4096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ccff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33cc"/>
                </a:solidFill>
                <a:latin typeface="Arial Narrow"/>
              </a:rPr>
              <a:t>链接</a:t>
            </a:r>
            <a:endParaRPr b="0" lang="en-US" sz="1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934320" y="4038480"/>
            <a:ext cx="519120" cy="409680"/>
          </a:xfrm>
          <a:custGeom>
            <a:avLst/>
            <a:gdLst>
              <a:gd name="textAreaLeft" fmla="*/ 64800 w 519120"/>
              <a:gd name="textAreaRight" fmla="*/ 454320 w 519120"/>
              <a:gd name="textAreaTop" fmla="*/ 102240 h 409680"/>
              <a:gd name="textAreaBottom" fmla="*/ 307440 h 4096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ccff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33cc"/>
                </a:solidFill>
                <a:latin typeface="Arial Narrow"/>
              </a:rPr>
              <a:t>链接</a:t>
            </a:r>
            <a:endParaRPr b="0" lang="en-US" sz="1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1295280" y="838080"/>
            <a:ext cx="4191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A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、燃烧的含义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1371600" y="2819520"/>
            <a:ext cx="2362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C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、自燃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09480" y="1143000"/>
            <a:ext cx="609840" cy="4952880"/>
          </a:xfrm>
          <a:custGeom>
            <a:avLst/>
            <a:gdLst>
              <a:gd name="textAreaLeft" fmla="*/ 389520 w 609840"/>
              <a:gd name="textAreaRight" fmla="*/ 610200 w 609840"/>
              <a:gd name="textAreaTop" fmla="*/ 128880 h 4952880"/>
              <a:gd name="textAreaBottom" fmla="*/ 4824000 h 4952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/>
          <p:nvPr/>
        </p:nvSpPr>
        <p:spPr>
          <a:xfrm>
            <a:off x="228600" y="228600"/>
            <a:ext cx="8153280" cy="308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1f08"/>
                </a:solidFill>
                <a:latin typeface="Times New Roman"/>
                <a:ea typeface="华文彩云"/>
              </a:rPr>
              <a:t>燃烧的条件：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（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1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）具有</a:t>
            </a:r>
            <a:r>
              <a:rPr b="1" lang="zh-CN" sz="3600" spc="-1" strike="noStrike">
                <a:solidFill>
                  <a:srgbClr val="ffff66"/>
                </a:solidFill>
                <a:latin typeface="隶书"/>
                <a:ea typeface="隶书"/>
              </a:rPr>
              <a:t>可燃性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（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2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）可燃物要</a:t>
            </a:r>
            <a:r>
              <a:rPr b="1" lang="zh-CN" sz="3600" spc="-1" strike="noStrike">
                <a:solidFill>
                  <a:srgbClr val="ffff66"/>
                </a:solidFill>
                <a:latin typeface="隶书"/>
                <a:ea typeface="隶书"/>
              </a:rPr>
              <a:t>与氧气接触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       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（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3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）温度在达到可燃物的</a:t>
            </a:r>
            <a:r>
              <a:rPr b="1" lang="zh-CN" sz="3600" spc="-1" strike="noStrike">
                <a:solidFill>
                  <a:srgbClr val="ffff66"/>
                </a:solidFill>
                <a:latin typeface="隶书"/>
                <a:ea typeface="隶书"/>
              </a:rPr>
              <a:t>着火点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1258920" y="335772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上述条件要</a:t>
            </a:r>
            <a:r>
              <a:rPr b="1" lang="zh-CN" sz="3600" spc="-1" strike="noStrike">
                <a:solidFill>
                  <a:srgbClr val="ffff66"/>
                </a:solidFill>
                <a:latin typeface="Times New Roman"/>
                <a:ea typeface="隶书"/>
              </a:rPr>
              <a:t>同时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满足物质才会燃烧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0" y="3962520"/>
            <a:ext cx="91440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若氧气量充足时，可燃物发生的是</a:t>
            </a:r>
            <a:r>
              <a:rPr b="1" lang="zh-CN" sz="3200" spc="-1" strike="noStrike">
                <a:solidFill>
                  <a:srgbClr val="ffff66"/>
                </a:solidFill>
                <a:latin typeface="Times New Roman"/>
              </a:rPr>
              <a:t>充分燃烧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若氧气量不充足 时，可燃物发生的是</a:t>
            </a:r>
            <a:r>
              <a:rPr b="1" lang="zh-CN" sz="3200" spc="-1" strike="noStrike">
                <a:solidFill>
                  <a:srgbClr val="ffff66"/>
                </a:solidFill>
                <a:latin typeface="Times New Roman"/>
              </a:rPr>
              <a:t>不充分燃烧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13" name="">
            <a:hlinkClick r:id="rId1" action="ppaction://hlinksldjump"/>
          </p:cNvPr>
          <p:cNvSpPr/>
          <p:nvPr/>
        </p:nvSpPr>
        <p:spPr>
          <a:xfrm>
            <a:off x="8748720" y="6453360"/>
            <a:ext cx="395280" cy="404640"/>
          </a:xfrm>
          <a:custGeom>
            <a:avLst/>
            <a:gdLst>
              <a:gd name="textAreaLeft" fmla="*/ 25560 w 395280"/>
              <a:gd name="textAreaRight" fmla="*/ 369720 w 395280"/>
              <a:gd name="textAreaTop" fmla="*/ 25560 h 404640"/>
              <a:gd name="textAreaBottom" fmla="*/ 379080 h 404640"/>
            </a:gdLst>
            <a:ahLst/>
            <a:rect l="textAreaLeft" t="textAreaTop" r="textAreaRight" b="textAreaBottom"/>
            <a:pathLst>
              <a:path w="21600" h="22111">
                <a:moveTo>
                  <a:pt x="0" y="0"/>
                </a:moveTo>
                <a:lnTo>
                  <a:pt x="21600" y="0"/>
                </a:lnTo>
                <a:lnTo>
                  <a:pt x="21600" y="22111"/>
                </a:lnTo>
                <a:lnTo>
                  <a:pt x="0" y="22111"/>
                </a:lnTo>
                <a:close/>
              </a:path>
              <a:path fill="lightenLess" w="21600" h="2211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111">
                <a:moveTo>
                  <a:pt x="21600" y="0"/>
                </a:moveTo>
                <a:lnTo>
                  <a:pt x="21600" y="22111"/>
                </a:lnTo>
                <a:lnTo>
                  <a:pt x="20200" y="20711"/>
                </a:lnTo>
                <a:lnTo>
                  <a:pt x="20200" y="1400"/>
                </a:lnTo>
                <a:close/>
              </a:path>
              <a:path fill="darkenLess" w="21600" h="22111">
                <a:moveTo>
                  <a:pt x="21600" y="22111"/>
                </a:moveTo>
                <a:lnTo>
                  <a:pt x="0" y="22111"/>
                </a:lnTo>
                <a:lnTo>
                  <a:pt x="1400" y="20711"/>
                </a:lnTo>
                <a:lnTo>
                  <a:pt x="20200" y="20711"/>
                </a:lnTo>
                <a:close/>
              </a:path>
              <a:path fill="lighten" w="21600" h="22111">
                <a:moveTo>
                  <a:pt x="0" y="22111"/>
                </a:moveTo>
                <a:lnTo>
                  <a:pt x="0" y="0"/>
                </a:lnTo>
                <a:lnTo>
                  <a:pt x="1400" y="1400"/>
                </a:lnTo>
                <a:lnTo>
                  <a:pt x="1400" y="20711"/>
                </a:lnTo>
                <a:close/>
              </a:path>
              <a:path fill="darken" w="21600" h="22111">
                <a:moveTo>
                  <a:pt x="3794" y="7748"/>
                </a:moveTo>
                <a:lnTo>
                  <a:pt x="7301" y="7748"/>
                </a:lnTo>
                <a:lnTo>
                  <a:pt x="7301" y="13083"/>
                </a:lnTo>
                <a:cubicBezTo>
                  <a:pt x="7301" y="14006"/>
                  <a:pt x="8102" y="14737"/>
                  <a:pt x="9138" y="14737"/>
                </a:cubicBezTo>
                <a:lnTo>
                  <a:pt x="10800" y="14737"/>
                </a:lnTo>
                <a:cubicBezTo>
                  <a:pt x="11836" y="14737"/>
                  <a:pt x="12636" y="14006"/>
                  <a:pt x="12636" y="13083"/>
                </a:cubicBezTo>
                <a:lnTo>
                  <a:pt x="12636" y="7748"/>
                </a:lnTo>
                <a:lnTo>
                  <a:pt x="10800" y="7748"/>
                </a:lnTo>
                <a:lnTo>
                  <a:pt x="14308" y="4241"/>
                </a:lnTo>
                <a:lnTo>
                  <a:pt x="17981" y="7748"/>
                </a:lnTo>
                <a:lnTo>
                  <a:pt x="16144" y="7748"/>
                </a:lnTo>
                <a:lnTo>
                  <a:pt x="16144" y="13083"/>
                </a:lnTo>
                <a:cubicBezTo>
                  <a:pt x="16144" y="15851"/>
                  <a:pt x="13568" y="18410"/>
                  <a:pt x="10800" y="18410"/>
                </a:cubicBezTo>
                <a:lnTo>
                  <a:pt x="9138" y="18410"/>
                </a:lnTo>
                <a:cubicBezTo>
                  <a:pt x="6370" y="18410"/>
                  <a:pt x="3794" y="15851"/>
                  <a:pt x="3794" y="13083"/>
                </a:cubicBezTo>
                <a:close/>
              </a:path>
            </a:pathLst>
          </a:cu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523880" y="4572000"/>
            <a:ext cx="68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Arial Narrow"/>
              </a:rPr>
              <a:t>（反应快、放热多、生成物无污染）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2666880" y="601992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Arial Narrow"/>
              </a:rPr>
              <a:t>（与上述相反）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16" name="">
            <a:hlinkClick r:id="rId2" action="ppaction://hlinksldjump"/>
          </p:cNvPr>
          <p:cNvSpPr/>
          <p:nvPr/>
        </p:nvSpPr>
        <p:spPr>
          <a:xfrm>
            <a:off x="8388360" y="3500280"/>
            <a:ext cx="431640" cy="557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66ff33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33cc"/>
                </a:solidFill>
                <a:latin typeface="Arial Black"/>
              </a:rPr>
              <a:t>链接</a:t>
            </a:r>
            <a:endParaRPr b="0" lang="en-US" sz="18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/>
          <p:nvPr/>
        </p:nvSpPr>
        <p:spPr>
          <a:xfrm>
            <a:off x="0" y="838080"/>
            <a:ext cx="8229600" cy="40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e1f08"/>
                </a:solidFill>
                <a:latin typeface="Times New Roman"/>
                <a:ea typeface="华文彩云"/>
              </a:rPr>
              <a:t>灭火的原理和方法：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）隔绝氧气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）温度要降低到可燃物的着火点以下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常见的冷却剂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1" lang="zh-CN" sz="4000" spc="-1" strike="noStrike">
                <a:solidFill>
                  <a:srgbClr val="ffff66"/>
                </a:solidFill>
                <a:latin typeface="Times New Roman"/>
              </a:rPr>
              <a:t>水、干冰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等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）使可燃物撤离燃烧区，与火源隔绝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18" name="">
            <a:hlinkClick r:id="rId1" action="ppaction://hlinksldjump"/>
          </p:cNvPr>
          <p:cNvSpPr/>
          <p:nvPr/>
        </p:nvSpPr>
        <p:spPr>
          <a:xfrm>
            <a:off x="8748720" y="6453360"/>
            <a:ext cx="395280" cy="404640"/>
          </a:xfrm>
          <a:custGeom>
            <a:avLst/>
            <a:gdLst>
              <a:gd name="textAreaLeft" fmla="*/ 25560 w 395280"/>
              <a:gd name="textAreaRight" fmla="*/ 369720 w 395280"/>
              <a:gd name="textAreaTop" fmla="*/ 25560 h 404640"/>
              <a:gd name="textAreaBottom" fmla="*/ 379080 h 404640"/>
            </a:gdLst>
            <a:ahLst/>
            <a:rect l="textAreaLeft" t="textAreaTop" r="textAreaRight" b="textAreaBottom"/>
            <a:pathLst>
              <a:path w="21600" h="22111">
                <a:moveTo>
                  <a:pt x="0" y="0"/>
                </a:moveTo>
                <a:lnTo>
                  <a:pt x="21600" y="0"/>
                </a:lnTo>
                <a:lnTo>
                  <a:pt x="21600" y="22111"/>
                </a:lnTo>
                <a:lnTo>
                  <a:pt x="0" y="22111"/>
                </a:lnTo>
                <a:close/>
              </a:path>
              <a:path fill="lightenLess" w="21600" h="2211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111">
                <a:moveTo>
                  <a:pt x="21600" y="0"/>
                </a:moveTo>
                <a:lnTo>
                  <a:pt x="21600" y="22111"/>
                </a:lnTo>
                <a:lnTo>
                  <a:pt x="20200" y="20711"/>
                </a:lnTo>
                <a:lnTo>
                  <a:pt x="20200" y="1400"/>
                </a:lnTo>
                <a:close/>
              </a:path>
              <a:path fill="darkenLess" w="21600" h="22111">
                <a:moveTo>
                  <a:pt x="21600" y="22111"/>
                </a:moveTo>
                <a:lnTo>
                  <a:pt x="0" y="22111"/>
                </a:lnTo>
                <a:lnTo>
                  <a:pt x="1400" y="20711"/>
                </a:lnTo>
                <a:lnTo>
                  <a:pt x="20200" y="20711"/>
                </a:lnTo>
                <a:close/>
              </a:path>
              <a:path fill="lighten" w="21600" h="22111">
                <a:moveTo>
                  <a:pt x="0" y="22111"/>
                </a:moveTo>
                <a:lnTo>
                  <a:pt x="0" y="0"/>
                </a:lnTo>
                <a:lnTo>
                  <a:pt x="1400" y="1400"/>
                </a:lnTo>
                <a:lnTo>
                  <a:pt x="1400" y="20711"/>
                </a:lnTo>
                <a:close/>
              </a:path>
              <a:path fill="darken" w="21600" h="22111">
                <a:moveTo>
                  <a:pt x="3794" y="7748"/>
                </a:moveTo>
                <a:lnTo>
                  <a:pt x="7301" y="7748"/>
                </a:lnTo>
                <a:lnTo>
                  <a:pt x="7301" y="13083"/>
                </a:lnTo>
                <a:cubicBezTo>
                  <a:pt x="7301" y="14006"/>
                  <a:pt x="8102" y="14737"/>
                  <a:pt x="9138" y="14737"/>
                </a:cubicBezTo>
                <a:lnTo>
                  <a:pt x="10800" y="14737"/>
                </a:lnTo>
                <a:cubicBezTo>
                  <a:pt x="11836" y="14737"/>
                  <a:pt x="12636" y="14006"/>
                  <a:pt x="12636" y="13083"/>
                </a:cubicBezTo>
                <a:lnTo>
                  <a:pt x="12636" y="7748"/>
                </a:lnTo>
                <a:lnTo>
                  <a:pt x="10800" y="7748"/>
                </a:lnTo>
                <a:lnTo>
                  <a:pt x="14308" y="4241"/>
                </a:lnTo>
                <a:lnTo>
                  <a:pt x="17981" y="7748"/>
                </a:lnTo>
                <a:lnTo>
                  <a:pt x="16144" y="7748"/>
                </a:lnTo>
                <a:lnTo>
                  <a:pt x="16144" y="13083"/>
                </a:lnTo>
                <a:cubicBezTo>
                  <a:pt x="16144" y="15851"/>
                  <a:pt x="13568" y="18410"/>
                  <a:pt x="10800" y="18410"/>
                </a:cubicBezTo>
                <a:lnTo>
                  <a:pt x="9138" y="18410"/>
                </a:lnTo>
                <a:cubicBezTo>
                  <a:pt x="6370" y="18410"/>
                  <a:pt x="3794" y="15851"/>
                  <a:pt x="3794" y="13083"/>
                </a:cubicBezTo>
                <a:close/>
              </a:path>
            </a:pathLst>
          </a:cu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19" name="">
            <a:hlinkClick r:id="rId2" action="ppaction://hlinksldjump"/>
          </p:cNvPr>
          <p:cNvSpPr/>
          <p:nvPr/>
        </p:nvSpPr>
        <p:spPr>
          <a:xfrm>
            <a:off x="7315200" y="3733920"/>
            <a:ext cx="533520" cy="485640"/>
          </a:xfrm>
          <a:custGeom>
            <a:avLst/>
            <a:gdLst>
              <a:gd name="textAreaLeft" fmla="*/ 66600 w 533520"/>
              <a:gd name="textAreaRight" fmla="*/ 466920 w 53352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33cc"/>
                </a:solidFill>
                <a:latin typeface="Arial Narrow"/>
              </a:rPr>
              <a:t>练习</a:t>
            </a:r>
            <a:endParaRPr b="0" lang="en-US" sz="1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20" name="">
            <a:hlinkClick r:id="rId3" action="ppaction://hlinksldjump"/>
          </p:cNvPr>
          <p:cNvSpPr/>
          <p:nvPr/>
        </p:nvSpPr>
        <p:spPr>
          <a:xfrm>
            <a:off x="3505320" y="2133720"/>
            <a:ext cx="533160" cy="457200"/>
          </a:xfrm>
          <a:prstGeom prst="rightArrow">
            <a:avLst>
              <a:gd name="adj1" fmla="val 50000"/>
              <a:gd name="adj2" fmla="val 29154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33cc"/>
                </a:solidFill>
                <a:latin typeface="Arial Narrow"/>
              </a:rPr>
              <a:t>练习</a:t>
            </a:r>
            <a:endParaRPr b="0" lang="en-US" sz="1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21" name="">
            <a:hlinkClick r:id="rId4" action="ppaction://hlinksldjump"/>
          </p:cNvPr>
          <p:cNvSpPr/>
          <p:nvPr/>
        </p:nvSpPr>
        <p:spPr>
          <a:xfrm>
            <a:off x="1143000" y="5257800"/>
            <a:ext cx="576360" cy="414360"/>
          </a:xfrm>
          <a:prstGeom prst="rightArrow">
            <a:avLst>
              <a:gd name="adj1" fmla="val 50000"/>
              <a:gd name="adj2" fmla="val 34774"/>
            </a:avLst>
          </a:prstGeom>
          <a:solidFill>
            <a:srgbClr val="ccff66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cc"/>
                </a:solidFill>
                <a:latin typeface="Arial Black"/>
              </a:rPr>
              <a:t>练习</a:t>
            </a:r>
            <a:endParaRPr b="0" lang="en-US" sz="18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/>
          <p:nvPr/>
        </p:nvSpPr>
        <p:spPr>
          <a:xfrm>
            <a:off x="0" y="762120"/>
            <a:ext cx="830592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e1f08"/>
                </a:solidFill>
                <a:latin typeface="Times New Roman"/>
                <a:ea typeface="华文彩云"/>
              </a:rPr>
              <a:t>促进燃烧的主要方法：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）增大氧气的</a:t>
            </a:r>
            <a:r>
              <a:rPr b="1" lang="zh-CN" sz="4000" spc="-1" strike="noStrike">
                <a:solidFill>
                  <a:srgbClr val="ffff66"/>
                </a:solidFill>
                <a:latin typeface="Times New Roman"/>
              </a:rPr>
              <a:t>浓度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氧气的浓度越大燃烧越剧烈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）增大可燃物和氧气的</a:t>
            </a:r>
            <a:r>
              <a:rPr b="1" lang="zh-CN" sz="4000" spc="-1" strike="noStrike">
                <a:solidFill>
                  <a:srgbClr val="ffff66"/>
                </a:solidFill>
                <a:latin typeface="Times New Roman"/>
              </a:rPr>
              <a:t>接触面积 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接触面积越大燃烧越剧烈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23" name="">
            <a:hlinkClick r:id="rId1" action="ppaction://hlinksldjump"/>
          </p:cNvPr>
          <p:cNvSpPr/>
          <p:nvPr/>
        </p:nvSpPr>
        <p:spPr>
          <a:xfrm>
            <a:off x="8748720" y="6453360"/>
            <a:ext cx="395280" cy="404640"/>
          </a:xfrm>
          <a:custGeom>
            <a:avLst/>
            <a:gdLst>
              <a:gd name="textAreaLeft" fmla="*/ 25560 w 395280"/>
              <a:gd name="textAreaRight" fmla="*/ 369720 w 395280"/>
              <a:gd name="textAreaTop" fmla="*/ 25560 h 404640"/>
              <a:gd name="textAreaBottom" fmla="*/ 379080 h 404640"/>
            </a:gdLst>
            <a:ahLst/>
            <a:rect l="textAreaLeft" t="textAreaTop" r="textAreaRight" b="textAreaBottom"/>
            <a:pathLst>
              <a:path w="21600" h="22111">
                <a:moveTo>
                  <a:pt x="0" y="0"/>
                </a:moveTo>
                <a:lnTo>
                  <a:pt x="21600" y="0"/>
                </a:lnTo>
                <a:lnTo>
                  <a:pt x="21600" y="22111"/>
                </a:lnTo>
                <a:lnTo>
                  <a:pt x="0" y="22111"/>
                </a:lnTo>
                <a:close/>
              </a:path>
              <a:path fill="lightenLess" w="21600" h="2211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111">
                <a:moveTo>
                  <a:pt x="21600" y="0"/>
                </a:moveTo>
                <a:lnTo>
                  <a:pt x="21600" y="22111"/>
                </a:lnTo>
                <a:lnTo>
                  <a:pt x="20200" y="20711"/>
                </a:lnTo>
                <a:lnTo>
                  <a:pt x="20200" y="1400"/>
                </a:lnTo>
                <a:close/>
              </a:path>
              <a:path fill="darkenLess" w="21600" h="22111">
                <a:moveTo>
                  <a:pt x="21600" y="22111"/>
                </a:moveTo>
                <a:lnTo>
                  <a:pt x="0" y="22111"/>
                </a:lnTo>
                <a:lnTo>
                  <a:pt x="1400" y="20711"/>
                </a:lnTo>
                <a:lnTo>
                  <a:pt x="20200" y="20711"/>
                </a:lnTo>
                <a:close/>
              </a:path>
              <a:path fill="lighten" w="21600" h="22111">
                <a:moveTo>
                  <a:pt x="0" y="22111"/>
                </a:moveTo>
                <a:lnTo>
                  <a:pt x="0" y="0"/>
                </a:lnTo>
                <a:lnTo>
                  <a:pt x="1400" y="1400"/>
                </a:lnTo>
                <a:lnTo>
                  <a:pt x="1400" y="20711"/>
                </a:lnTo>
                <a:close/>
              </a:path>
              <a:path fill="darken" w="21600" h="22111">
                <a:moveTo>
                  <a:pt x="3794" y="7748"/>
                </a:moveTo>
                <a:lnTo>
                  <a:pt x="7301" y="7748"/>
                </a:lnTo>
                <a:lnTo>
                  <a:pt x="7301" y="13083"/>
                </a:lnTo>
                <a:cubicBezTo>
                  <a:pt x="7301" y="14006"/>
                  <a:pt x="8102" y="14737"/>
                  <a:pt x="9138" y="14737"/>
                </a:cubicBezTo>
                <a:lnTo>
                  <a:pt x="10800" y="14737"/>
                </a:lnTo>
                <a:cubicBezTo>
                  <a:pt x="11836" y="14737"/>
                  <a:pt x="12636" y="14006"/>
                  <a:pt x="12636" y="13083"/>
                </a:cubicBezTo>
                <a:lnTo>
                  <a:pt x="12636" y="7748"/>
                </a:lnTo>
                <a:lnTo>
                  <a:pt x="10800" y="7748"/>
                </a:lnTo>
                <a:lnTo>
                  <a:pt x="14308" y="4241"/>
                </a:lnTo>
                <a:lnTo>
                  <a:pt x="17981" y="7748"/>
                </a:lnTo>
                <a:lnTo>
                  <a:pt x="16144" y="7748"/>
                </a:lnTo>
                <a:lnTo>
                  <a:pt x="16144" y="13083"/>
                </a:lnTo>
                <a:cubicBezTo>
                  <a:pt x="16144" y="15851"/>
                  <a:pt x="13568" y="18410"/>
                  <a:pt x="10800" y="18410"/>
                </a:cubicBezTo>
                <a:lnTo>
                  <a:pt x="9138" y="18410"/>
                </a:lnTo>
                <a:cubicBezTo>
                  <a:pt x="6370" y="18410"/>
                  <a:pt x="3794" y="15851"/>
                  <a:pt x="3794" y="13083"/>
                </a:cubicBezTo>
                <a:close/>
              </a:path>
            </a:pathLst>
          </a:cu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424" name="" descr=""/>
          <p:cNvPicPr/>
          <p:nvPr/>
        </p:nvPicPr>
        <p:blipFill>
          <a:blip r:embed="rId2"/>
          <a:stretch/>
        </p:blipFill>
        <p:spPr>
          <a:xfrm>
            <a:off x="6629400" y="4343400"/>
            <a:ext cx="2514600" cy="2043000"/>
          </a:xfrm>
          <a:prstGeom prst="rect">
            <a:avLst/>
          </a:prstGeom>
          <a:ln w="0">
            <a:noFill/>
          </a:ln>
        </p:spPr>
      </p:pic>
      <p:pic>
        <p:nvPicPr>
          <p:cNvPr id="425" name="" descr=""/>
          <p:cNvPicPr/>
          <p:nvPr/>
        </p:nvPicPr>
        <p:blipFill>
          <a:blip r:embed="rId3"/>
          <a:stretch/>
        </p:blipFill>
        <p:spPr>
          <a:xfrm>
            <a:off x="3886200" y="5310360"/>
            <a:ext cx="1905120" cy="15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/>
          <p:nvPr/>
        </p:nvSpPr>
        <p:spPr>
          <a:xfrm>
            <a:off x="0" y="2819520"/>
            <a:ext cx="867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e1f08"/>
                </a:solidFill>
                <a:latin typeface="Times New Roman"/>
                <a:ea typeface="华文彩云"/>
              </a:rPr>
              <a:t>爆炸条件：</a:t>
            </a:r>
            <a:r>
              <a:rPr b="1" lang="zh-CN" sz="3600" spc="-1" strike="noStrike">
                <a:solidFill>
                  <a:srgbClr val="66ff33"/>
                </a:solidFill>
                <a:latin typeface="Times New Roman"/>
              </a:rPr>
              <a:t>可燃性气体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lang="zh-CN" sz="3600" spc="-1" strike="noStrike">
                <a:solidFill>
                  <a:srgbClr val="ff66ff"/>
                </a:solidFill>
                <a:latin typeface="Times New Roman"/>
              </a:rPr>
              <a:t>H</a:t>
            </a:r>
            <a:r>
              <a:rPr b="1" lang="zh-CN" sz="28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ff66ff"/>
                </a:solidFill>
                <a:latin typeface="Times New Roman"/>
              </a:rPr>
              <a:t>,CO,CH</a:t>
            </a:r>
            <a:r>
              <a:rPr b="1" lang="zh-CN" sz="28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或</a:t>
            </a:r>
            <a:r>
              <a:rPr b="1" lang="zh-CN" sz="3600" spc="-1" strike="noStrike">
                <a:solidFill>
                  <a:srgbClr val="66ff33"/>
                </a:solidFill>
                <a:latin typeface="Times New Roman"/>
              </a:rPr>
              <a:t>粉尘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在空气中达到</a:t>
            </a:r>
            <a:r>
              <a:rPr b="1" lang="zh-CN" sz="3600" spc="-1" strike="noStrike">
                <a:solidFill>
                  <a:srgbClr val="ff66ff"/>
                </a:solidFill>
                <a:latin typeface="Times New Roman"/>
              </a:rPr>
              <a:t>爆炸极限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，并遇到</a:t>
            </a:r>
            <a:r>
              <a:rPr b="1" lang="zh-CN" sz="3600" spc="-1" strike="noStrike">
                <a:solidFill>
                  <a:srgbClr val="ff66ff"/>
                </a:solidFill>
                <a:latin typeface="Times New Roman"/>
              </a:rPr>
              <a:t>明火</a:t>
            </a:r>
            <a:r>
              <a:rPr b="1" lang="zh-CN" sz="3600" spc="-1" strike="noStrike">
                <a:solidFill>
                  <a:srgbClr val="ff66ff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0" y="411480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e1f08"/>
                </a:solidFill>
                <a:latin typeface="Times New Roman"/>
                <a:ea typeface="华文彩云"/>
              </a:rPr>
              <a:t>认识常见的安全消防标志：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428" name="" descr=""/>
          <p:cNvPicPr/>
          <p:nvPr/>
        </p:nvPicPr>
        <p:blipFill>
          <a:blip r:embed="rId1"/>
          <a:stretch/>
        </p:blipFill>
        <p:spPr>
          <a:xfrm>
            <a:off x="1332000" y="4692600"/>
            <a:ext cx="1787400" cy="2165400"/>
          </a:xfrm>
          <a:prstGeom prst="rect">
            <a:avLst/>
          </a:prstGeom>
          <a:ln w="0">
            <a:noFill/>
          </a:ln>
        </p:spPr>
      </p:pic>
      <p:pic>
        <p:nvPicPr>
          <p:cNvPr id="429" name="" descr=""/>
          <p:cNvPicPr/>
          <p:nvPr/>
        </p:nvPicPr>
        <p:blipFill>
          <a:blip r:embed="rId2"/>
          <a:stretch/>
        </p:blipFill>
        <p:spPr>
          <a:xfrm>
            <a:off x="3919680" y="4724280"/>
            <a:ext cx="1760400" cy="2133720"/>
          </a:xfrm>
          <a:prstGeom prst="rect">
            <a:avLst/>
          </a:prstGeom>
          <a:ln w="0">
            <a:noFill/>
          </a:ln>
        </p:spPr>
      </p:pic>
      <p:pic>
        <p:nvPicPr>
          <p:cNvPr id="430" name="" descr=""/>
          <p:cNvPicPr/>
          <p:nvPr/>
        </p:nvPicPr>
        <p:blipFill>
          <a:blip r:embed="rId3"/>
          <a:stretch/>
        </p:blipFill>
        <p:spPr>
          <a:xfrm>
            <a:off x="6372360" y="4797360"/>
            <a:ext cx="1690560" cy="2060640"/>
          </a:xfrm>
          <a:prstGeom prst="rect">
            <a:avLst/>
          </a:prstGeom>
          <a:ln w="0">
            <a:noFill/>
          </a:ln>
        </p:spPr>
      </p:pic>
      <p:sp>
        <p:nvSpPr>
          <p:cNvPr id="431" name=""/>
          <p:cNvSpPr/>
          <p:nvPr/>
        </p:nvSpPr>
        <p:spPr>
          <a:xfrm>
            <a:off x="0" y="228600"/>
            <a:ext cx="8664480" cy="23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e1f08"/>
                </a:solidFill>
                <a:latin typeface="Times New Roman"/>
                <a:ea typeface="华文彩云"/>
              </a:rPr>
              <a:t>爆炸：</a:t>
            </a:r>
            <a:r>
              <a:rPr b="1" lang="zh-CN" sz="3600" spc="-1" strike="noStrike">
                <a:solidFill>
                  <a:srgbClr val="66ff33"/>
                </a:solidFill>
                <a:latin typeface="Arial Narrow"/>
              </a:rPr>
              <a:t>爆炸</a:t>
            </a:r>
            <a:r>
              <a:rPr b="1" lang="zh-CN" sz="3600" spc="-1" strike="noStrike">
                <a:solidFill>
                  <a:srgbClr val="ffffff"/>
                </a:solidFill>
                <a:latin typeface="Arial Narrow"/>
              </a:rPr>
              <a:t>不一定都是化学变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 Narrow"/>
              </a:rPr>
              <a:t>化</a:t>
            </a:r>
            <a:r>
              <a:rPr b="1" lang="zh-CN" sz="3600" spc="-1" strike="noStrike">
                <a:solidFill>
                  <a:srgbClr val="ffffff"/>
                </a:solidFill>
                <a:latin typeface="Arial Narrow"/>
              </a:rPr>
              <a:t>,</a:t>
            </a:r>
            <a:r>
              <a:rPr b="1" lang="zh-CN" sz="3600" spc="-1" strike="noStrike">
                <a:solidFill>
                  <a:srgbClr val="ffffff"/>
                </a:solidFill>
                <a:latin typeface="Arial Narrow"/>
              </a:rPr>
              <a:t>有的爆炸是物理变化</a:t>
            </a:r>
            <a:r>
              <a:rPr b="1" lang="zh-CN" sz="3600" spc="-1" strike="noStrike">
                <a:solidFill>
                  <a:srgbClr val="ffffff"/>
                </a:solidFill>
                <a:latin typeface="Arial Narrow"/>
              </a:rPr>
              <a:t>,</a:t>
            </a:r>
            <a:r>
              <a:rPr b="1" lang="zh-CN" sz="3600" spc="-1" strike="noStrike">
                <a:solidFill>
                  <a:srgbClr val="ffffff"/>
                </a:solidFill>
                <a:latin typeface="Arial Narrow"/>
              </a:rPr>
              <a:t>如气球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 Narrow"/>
              </a:rPr>
              <a:t>爆炸 锅炉爆炸等都是物理变化</a:t>
            </a:r>
            <a:r>
              <a:rPr b="1" lang="zh-CN" sz="3600" spc="-1" strike="noStrike">
                <a:solidFill>
                  <a:srgbClr val="ffffff"/>
                </a:solidFill>
                <a:latin typeface="Arial Narrow"/>
              </a:rPr>
              <a:t>.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32" name="">
            <a:hlinkClick r:id="rId4" action="ppaction://hlinksldjump"/>
          </p:cNvPr>
          <p:cNvSpPr/>
          <p:nvPr/>
        </p:nvSpPr>
        <p:spPr>
          <a:xfrm flipH="1">
            <a:off x="8748720" y="6453360"/>
            <a:ext cx="395280" cy="404640"/>
          </a:xfrm>
          <a:custGeom>
            <a:avLst/>
            <a:gdLst>
              <a:gd name="textAreaLeft" fmla="*/ 25560 w 395280"/>
              <a:gd name="textAreaRight" fmla="*/ 369720 w 395280"/>
              <a:gd name="textAreaTop" fmla="*/ 25560 h 404640"/>
              <a:gd name="textAreaBottom" fmla="*/ 379080 h 404640"/>
            </a:gdLst>
            <a:ahLst/>
            <a:rect l="textAreaLeft" t="textAreaTop" r="textAreaRight" b="textAreaBottom"/>
            <a:pathLst>
              <a:path w="21600" h="22111">
                <a:moveTo>
                  <a:pt x="0" y="0"/>
                </a:moveTo>
                <a:lnTo>
                  <a:pt x="21600" y="0"/>
                </a:lnTo>
                <a:lnTo>
                  <a:pt x="21600" y="22111"/>
                </a:lnTo>
                <a:lnTo>
                  <a:pt x="0" y="22111"/>
                </a:lnTo>
                <a:close/>
              </a:path>
              <a:path fill="lightenLess" w="21600" h="2211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111">
                <a:moveTo>
                  <a:pt x="21600" y="0"/>
                </a:moveTo>
                <a:lnTo>
                  <a:pt x="21600" y="22111"/>
                </a:lnTo>
                <a:lnTo>
                  <a:pt x="20200" y="20711"/>
                </a:lnTo>
                <a:lnTo>
                  <a:pt x="20200" y="1400"/>
                </a:lnTo>
                <a:close/>
              </a:path>
              <a:path fill="darkenLess" w="21600" h="22111">
                <a:moveTo>
                  <a:pt x="21600" y="22111"/>
                </a:moveTo>
                <a:lnTo>
                  <a:pt x="0" y="22111"/>
                </a:lnTo>
                <a:lnTo>
                  <a:pt x="1400" y="20711"/>
                </a:lnTo>
                <a:lnTo>
                  <a:pt x="20200" y="20711"/>
                </a:lnTo>
                <a:close/>
              </a:path>
              <a:path fill="lighten" w="21600" h="22111">
                <a:moveTo>
                  <a:pt x="0" y="22111"/>
                </a:moveTo>
                <a:lnTo>
                  <a:pt x="0" y="0"/>
                </a:lnTo>
                <a:lnTo>
                  <a:pt x="1400" y="1400"/>
                </a:lnTo>
                <a:lnTo>
                  <a:pt x="1400" y="20711"/>
                </a:lnTo>
                <a:close/>
              </a:path>
              <a:path fill="darken" w="21600" h="22111">
                <a:moveTo>
                  <a:pt x="3794" y="7748"/>
                </a:moveTo>
                <a:lnTo>
                  <a:pt x="7301" y="7748"/>
                </a:lnTo>
                <a:lnTo>
                  <a:pt x="7301" y="13083"/>
                </a:lnTo>
                <a:cubicBezTo>
                  <a:pt x="7301" y="14006"/>
                  <a:pt x="8102" y="14737"/>
                  <a:pt x="9138" y="14737"/>
                </a:cubicBezTo>
                <a:lnTo>
                  <a:pt x="10800" y="14737"/>
                </a:lnTo>
                <a:cubicBezTo>
                  <a:pt x="11836" y="14737"/>
                  <a:pt x="12636" y="14006"/>
                  <a:pt x="12636" y="13083"/>
                </a:cubicBezTo>
                <a:lnTo>
                  <a:pt x="12636" y="7748"/>
                </a:lnTo>
                <a:lnTo>
                  <a:pt x="10800" y="7748"/>
                </a:lnTo>
                <a:lnTo>
                  <a:pt x="14308" y="4241"/>
                </a:lnTo>
                <a:lnTo>
                  <a:pt x="17981" y="7748"/>
                </a:lnTo>
                <a:lnTo>
                  <a:pt x="16144" y="7748"/>
                </a:lnTo>
                <a:lnTo>
                  <a:pt x="16144" y="13083"/>
                </a:lnTo>
                <a:cubicBezTo>
                  <a:pt x="16144" y="15851"/>
                  <a:pt x="13568" y="18410"/>
                  <a:pt x="10800" y="18410"/>
                </a:cubicBezTo>
                <a:lnTo>
                  <a:pt x="9138" y="18410"/>
                </a:lnTo>
                <a:cubicBezTo>
                  <a:pt x="6370" y="18410"/>
                  <a:pt x="3794" y="15851"/>
                  <a:pt x="3794" y="13083"/>
                </a:cubicBezTo>
                <a:close/>
              </a:path>
            </a:pathLst>
          </a:cu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33" name="">
            <a:hlinkClick r:id="rId5" action="ppaction://hlinksldjump"/>
          </p:cNvPr>
          <p:cNvSpPr/>
          <p:nvPr/>
        </p:nvSpPr>
        <p:spPr>
          <a:xfrm>
            <a:off x="7772400" y="3352680"/>
            <a:ext cx="990720" cy="685800"/>
          </a:xfrm>
          <a:custGeom>
            <a:avLst/>
            <a:gdLst>
              <a:gd name="textAreaLeft" fmla="*/ 123840 w 990720"/>
              <a:gd name="textAreaRight" fmla="*/ 866880 w 99072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cc"/>
                </a:solidFill>
                <a:latin typeface="Arial Narrow"/>
              </a:rPr>
              <a:t>练习</a:t>
            </a:r>
            <a:endParaRPr b="0" lang="en-US" sz="1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34" name="">
            <a:hlinkClick r:id="rId6" action="ppaction://hlinksldjump"/>
          </p:cNvPr>
          <p:cNvSpPr/>
          <p:nvPr/>
        </p:nvSpPr>
        <p:spPr>
          <a:xfrm>
            <a:off x="7956720" y="4149720"/>
            <a:ext cx="730080" cy="650880"/>
          </a:xfrm>
          <a:prstGeom prst="rightArrow">
            <a:avLst>
              <a:gd name="adj1" fmla="val 50000"/>
              <a:gd name="adj2" fmla="val 28042"/>
            </a:avLst>
          </a:prstGeom>
          <a:solidFill>
            <a:srgbClr val="66ff33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cc"/>
                </a:solidFill>
                <a:latin typeface="Arial Black"/>
              </a:rPr>
              <a:t>练习</a:t>
            </a:r>
            <a:endParaRPr b="0" lang="en-US" sz="18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228600" y="914400"/>
            <a:ext cx="8610480" cy="56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00"/>
                </a:solidFill>
                <a:latin typeface="Arial Narrow"/>
              </a:rPr>
              <a:t>例</a:t>
            </a:r>
            <a:r>
              <a:rPr b="1" lang="zh-CN" sz="3600" spc="-1" strike="noStrike">
                <a:solidFill>
                  <a:srgbClr val="ffcc00"/>
                </a:solidFill>
                <a:latin typeface="Arial Narrow"/>
              </a:rPr>
              <a:t>:</a:t>
            </a:r>
            <a:r>
              <a:rPr b="1" lang="zh-CN" sz="3600" spc="-1" strike="noStrike">
                <a:solidFill>
                  <a:srgbClr val="ffffff"/>
                </a:solidFill>
                <a:latin typeface="Arial Narrow"/>
              </a:rPr>
              <a:t>住宅、商场等地发生火灾</a:t>
            </a:r>
            <a:r>
              <a:rPr b="1" lang="zh-CN" sz="3600" spc="-1" strike="noStrike">
                <a:solidFill>
                  <a:srgbClr val="ffffff"/>
                </a:solidFill>
                <a:latin typeface="Arial Narrow"/>
              </a:rPr>
              <a:t>,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 Narrow"/>
              </a:rPr>
              <a:t>消防人员用高压水枪喷水来灭火</a:t>
            </a:r>
            <a:r>
              <a:rPr b="1" lang="zh-CN" sz="3600" spc="-1" strike="noStrike">
                <a:solidFill>
                  <a:srgbClr val="ffffff"/>
                </a:solidFill>
                <a:latin typeface="Arial Narrow"/>
              </a:rPr>
              <a:t>,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 Narrow"/>
              </a:rPr>
              <a:t>水在灭火中的主要作用    </a:t>
            </a:r>
            <a:r>
              <a:rPr b="1" lang="zh-CN" sz="3600" spc="-1" strike="noStrike">
                <a:solidFill>
                  <a:srgbClr val="ffffff"/>
                </a:solidFill>
                <a:latin typeface="Arial Narrow"/>
              </a:rPr>
              <a:t>(     )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 Narrow"/>
              </a:rPr>
              <a:t>(A)</a:t>
            </a:r>
            <a:r>
              <a:rPr b="1" lang="zh-CN" sz="3600" spc="-1" strike="noStrike">
                <a:solidFill>
                  <a:srgbClr val="ffffff"/>
                </a:solidFill>
                <a:latin typeface="Arial Narrow"/>
              </a:rPr>
              <a:t>水能分解出不能助燃的物质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 Narrow"/>
              </a:rPr>
              <a:t>(B) </a:t>
            </a:r>
            <a:r>
              <a:rPr b="1" lang="zh-CN" sz="3600" spc="-1" strike="noStrike">
                <a:solidFill>
                  <a:srgbClr val="ffffff"/>
                </a:solidFill>
                <a:latin typeface="Arial Narrow"/>
              </a:rPr>
              <a:t>降低温度到可燃物的着火点以下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 Narrow"/>
              </a:rPr>
              <a:t>(C)</a:t>
            </a:r>
            <a:r>
              <a:rPr b="1" lang="zh-CN" sz="3600" spc="-1" strike="noStrike">
                <a:solidFill>
                  <a:srgbClr val="ffffff"/>
                </a:solidFill>
                <a:latin typeface="Arial Narrow"/>
              </a:rPr>
              <a:t>降低可燃物的着火点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 Narrow"/>
              </a:rPr>
              <a:t>(D)</a:t>
            </a:r>
            <a:r>
              <a:rPr b="1" lang="zh-CN" sz="3600" spc="-1" strike="noStrike">
                <a:solidFill>
                  <a:srgbClr val="ffffff"/>
                </a:solidFill>
                <a:latin typeface="Arial Narrow"/>
              </a:rPr>
              <a:t>使空气中的氧气和二氧化碳分离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410080" y="2590920"/>
            <a:ext cx="649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Arial Narrow"/>
              </a:rPr>
              <a:t>B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37" name="">
            <a:hlinkClick r:id="rId1" action="ppaction://hlinksldjump"/>
          </p:cNvPr>
          <p:cNvSpPr/>
          <p:nvPr/>
        </p:nvSpPr>
        <p:spPr>
          <a:xfrm>
            <a:off x="8839080" y="65530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8" name="" descr=""/>
          <p:cNvPicPr/>
          <p:nvPr/>
        </p:nvPicPr>
        <p:blipFill>
          <a:blip r:embed="rId1"/>
          <a:stretch/>
        </p:blipFill>
        <p:spPr>
          <a:xfrm>
            <a:off x="533520" y="1905120"/>
            <a:ext cx="6553080" cy="4689360"/>
          </a:xfrm>
          <a:prstGeom prst="rect">
            <a:avLst/>
          </a:prstGeom>
          <a:ln w="0">
            <a:noFill/>
          </a:ln>
        </p:spPr>
      </p:pic>
      <p:sp>
        <p:nvSpPr>
          <p:cNvPr id="439" name=""/>
          <p:cNvSpPr/>
          <p:nvPr/>
        </p:nvSpPr>
        <p:spPr>
          <a:xfrm>
            <a:off x="304920" y="304920"/>
            <a:ext cx="693396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 Narrow"/>
              </a:rPr>
              <a:t>若油锅着火，最简单的灭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 Narrow"/>
              </a:rPr>
              <a:t>火方法是什么？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40" name="">
            <a:hlinkClick r:id="rId2" action="ppaction://hlinksldjump"/>
          </p:cNvPr>
          <p:cNvSpPr/>
          <p:nvPr/>
        </p:nvSpPr>
        <p:spPr>
          <a:xfrm>
            <a:off x="8839080" y="6576840"/>
            <a:ext cx="304920" cy="281160"/>
          </a:xfrm>
          <a:custGeom>
            <a:avLst/>
            <a:gdLst>
              <a:gd name="textAreaLeft" fmla="*/ 18000 w 304920"/>
              <a:gd name="textAreaRight" fmla="*/ 286920 w 304920"/>
              <a:gd name="textAreaTop" fmla="*/ 18000 h 281160"/>
              <a:gd name="textAreaBottom" fmla="*/ 263160 h 281160"/>
            </a:gdLst>
            <a:ahLst/>
            <a:rect l="textAreaLeft" t="textAreaTop" r="textAreaRight" b="textAreaBottom"/>
            <a:pathLst>
              <a:path w="23423" h="21600">
                <a:moveTo>
                  <a:pt x="0" y="0"/>
                </a:moveTo>
                <a:lnTo>
                  <a:pt x="23423" y="0"/>
                </a:lnTo>
                <a:lnTo>
                  <a:pt x="23423" y="21600"/>
                </a:lnTo>
                <a:lnTo>
                  <a:pt x="0" y="21600"/>
                </a:lnTo>
                <a:close/>
              </a:path>
              <a:path fill="lightenLess" w="23423" h="21600">
                <a:moveTo>
                  <a:pt x="0" y="0"/>
                </a:moveTo>
                <a:lnTo>
                  <a:pt x="23423" y="0"/>
                </a:lnTo>
                <a:lnTo>
                  <a:pt x="22023" y="1400"/>
                </a:lnTo>
                <a:lnTo>
                  <a:pt x="1400" y="1400"/>
                </a:lnTo>
                <a:close/>
              </a:path>
              <a:path fill="darken" w="23423" h="21600">
                <a:moveTo>
                  <a:pt x="23423" y="0"/>
                </a:moveTo>
                <a:lnTo>
                  <a:pt x="23423" y="21600"/>
                </a:lnTo>
                <a:lnTo>
                  <a:pt x="22023" y="20200"/>
                </a:lnTo>
                <a:lnTo>
                  <a:pt x="22023" y="1400"/>
                </a:lnTo>
                <a:close/>
              </a:path>
              <a:path fill="darkenLess" w="23423" h="21600">
                <a:moveTo>
                  <a:pt x="234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23" y="20200"/>
                </a:lnTo>
                <a:close/>
              </a:path>
              <a:path fill="lighten" w="234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23" h="21600">
                <a:moveTo>
                  <a:pt x="4705" y="7493"/>
                </a:moveTo>
                <a:lnTo>
                  <a:pt x="8213" y="7493"/>
                </a:lnTo>
                <a:lnTo>
                  <a:pt x="8213" y="12828"/>
                </a:lnTo>
                <a:cubicBezTo>
                  <a:pt x="8213" y="13751"/>
                  <a:pt x="9013" y="14482"/>
                  <a:pt x="10049" y="14482"/>
                </a:cubicBezTo>
                <a:lnTo>
                  <a:pt x="11712" y="14482"/>
                </a:lnTo>
                <a:cubicBezTo>
                  <a:pt x="12747" y="14482"/>
                  <a:pt x="13548" y="13751"/>
                  <a:pt x="13548" y="12828"/>
                </a:cubicBezTo>
                <a:lnTo>
                  <a:pt x="13548" y="7493"/>
                </a:lnTo>
                <a:lnTo>
                  <a:pt x="11712" y="7493"/>
                </a:lnTo>
                <a:lnTo>
                  <a:pt x="15219" y="3985"/>
                </a:lnTo>
                <a:lnTo>
                  <a:pt x="18892" y="7493"/>
                </a:lnTo>
                <a:lnTo>
                  <a:pt x="17056" y="7493"/>
                </a:lnTo>
                <a:lnTo>
                  <a:pt x="17056" y="12828"/>
                </a:lnTo>
                <a:cubicBezTo>
                  <a:pt x="17056" y="15596"/>
                  <a:pt x="14479" y="18155"/>
                  <a:pt x="11712" y="18155"/>
                </a:cubicBezTo>
                <a:lnTo>
                  <a:pt x="10049" y="18155"/>
                </a:lnTo>
                <a:cubicBezTo>
                  <a:pt x="7281" y="18155"/>
                  <a:pt x="4705" y="15596"/>
                  <a:pt x="4705" y="12828"/>
                </a:cubicBezTo>
                <a:close/>
              </a:path>
            </a:pathLst>
          </a:cu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7T06:26:44Z</dcterms:created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4T01:42:44Z</dcterms:modified>
  <cp:revision>165</cp:revision>
  <dc:subject>主题班会课件(分28大类): http://shop62905894.taobao.com</dc:subject>
  <dc:title>主题班会课件(分28大类): http://shop62905894.taobao.com</dc:title>
</cp:coreProperties>
</file>