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9D23-3C28-4754-B8A9-1E327B8B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41E-726F-4257-AE7F-363D157F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418-D07A-44A2-8178-FE8E0944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AAF-D03B-47B7-80C2-0AA821E1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005-564C-4080-9A0F-41347993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106-D6B2-404A-B7CF-5D97E7E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3C2-50BD-4826-BA55-A55B9C9C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3B7-8316-435F-9F4F-EE807BC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6EF-E19C-44F2-8652-F73B2BB2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9B6-BE6B-4476-B162-A13D97D1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80C-2C9D-4C59-95C5-573FB513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AE9-6CA0-48D0-AEDD-D607809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5E71-1D54-4CB8-90FE-3620C3BB4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C:/Documents%20and%20Settings/Administrator/Local%20Settings/Temp/Rar$DI00.844/&#19978;&#28023;&#21830;&#23398;&#38498;&#28779;&#28798;&#21407;&#22240;.doc" TargetMode="External"/><Relationship Id="rId3" Type="http://schemas.openxmlformats.org/officeDocument/2006/relationships/hyperlink" Target="file:///C:/Documents%20and%20Settings/Administrator/Local%20Settings/Temp/Rar$DI00.844/&#28781;&#28779;&#24120;&#35782;&#36867;&#29983;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53953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74560" y="1341360"/>
            <a:ext cx="8569440" cy="252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上海商学院火灾：生命没有</a:t>
            </a:r>
            <a:r>
              <a:rPr b="0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"</a:t>
            </a:r>
            <a:r>
              <a:rPr b="0" lang="zh-CN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如果</a:t>
            </a:r>
            <a:r>
              <a:rPr b="0" lang="en-US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" </a:t>
            </a:r>
            <a:endParaRPr b="0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注意消防安全</a:t>
            </a:r>
            <a:endParaRPr b="0" lang="en-US" sz="4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88000" y="602136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高二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583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425760" y="61650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一名女生在火灾后从宿舍向外搬运行李。新华社记者 裴鑫 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火灾原因</a:t>
            </a:r>
            <a:br>
              <a:rPr sz="4000"/>
            </a:b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消防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68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2440" y="649044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海商学院失火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名女生跳楼身亡。 图源：新民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6320" y="187920"/>
            <a:ext cx="44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海商学院宿舍楼发生火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名学生死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33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 rot="10728000">
            <a:off x="1692360" y="6489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消防人员正在清理火灾发生现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021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6307920"/>
            <a:ext cx="72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发生火灾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0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宿舍阳台被大火熏黑。新华社记者 裴鑫 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07760" y="6236640"/>
            <a:ext cx="20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宿舍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层的大部分楼道被大火熏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45080" y="6307920"/>
            <a:ext cx="17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消防人员正在勘测火灾现场。新华社记者 裴鑫 摄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08000" y="6216120"/>
            <a:ext cx="16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消防人员正在火灾现场调查事故发生原因。新华社记者 裴鑫 摄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905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686040" y="630792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上海商学院的学生在学校门口焦急地打电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587760" y="623664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，消防人员正在清理楼道。新华社记者 裴鑫 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07:43:1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0:14Z</dcterms:modified>
  <cp:revision>13</cp:revision>
  <dc:subject>主题班会课件(分28大类): http://shop62905894.taobao.com</dc:subject>
  <dc:title>主题班会课件(分28大类): http://shop62905894.taobao.com</dc:title>
</cp:coreProperties>
</file>