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34.jpeg" ContentType="image/jpeg"/>
  <Override PartName="/ppt/media/image45.png" ContentType="image/png"/>
  <Override PartName="/ppt/media/image33.jpeg" ContentType="image/jpeg"/>
  <Override PartName="/ppt/media/image46.png" ContentType="image/png"/>
  <Override PartName="/ppt/media/image43.png" ContentType="image/png"/>
  <Override PartName="/ppt/media/image53.jpeg" ContentType="image/jpeg"/>
  <Override PartName="/ppt/media/image47.jpeg" ContentType="image/jpeg"/>
  <Override PartName="/ppt/media/image31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png" ContentType="image/png"/>
  <Override PartName="/ppt/media/image30.jpeg" ContentType="image/jpeg"/>
  <Override PartName="/ppt/media/image12.jpeg" ContentType="image/jpeg"/>
  <Override PartName="/ppt/media/image4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38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2F5D-3E71-4F9E-83F9-6C4960AFD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6646-391F-45B9-B62D-1AA965D4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AD87-5582-4D1C-984C-33701DBAB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6042-11D6-46E3-9CDF-4EE2A3C33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46AA-8C8F-42D2-8F1A-F52F7342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91F7-3854-4DB0-B877-0C37CF1E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6EC5-6B02-427C-9358-244ADAF1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3276-238F-4C6D-98FD-3C97ABBC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ECB8-78B7-4931-9016-6C462BFF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FC7E-F2D6-48AB-B4D6-6AAEC630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6528-20CA-4C7C-89F9-6B66917F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6283-F3AE-4399-B8F1-E33B7F67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9FE8-5515-46A6-AF6B-B2107A68A6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http://zh.wikipedia.org/w/index.php?title=Image:2008_Sichuan_earthquake_map_no_labels.svg&amp;variant=zh-hk" TargetMode="External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zh.wikipedia.org/w/index.php?title=Image:2008_Sichuan_earthquake_map_no_labels.svg&amp;variant=zh-hk" TargetMode="External"/><Relationship Id="rId2" Type="http://schemas.openxmlformats.org/officeDocument/2006/relationships/image" Target="../media/image48.pn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427640" y="2565360"/>
            <a:ext cx="4106880" cy="38098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4572000" cy="3789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24000" y="69228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行楷"/>
              </a:rPr>
              <a:t>校园防火防震安全知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彩云"/>
              </a:rPr>
              <a:t>第二章 消防设施器材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 rot="5400000">
            <a:off x="2128680" y="3423960"/>
            <a:ext cx="4599000" cy="865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隶书"/>
              </a:rPr>
              <a:t>如何使用灭火器？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隶书"/>
              <a:ea typeface="华文隶书"/>
            </a:endParaRPr>
          </a:p>
        </p:txBody>
      </p:sp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灭火器的使用方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泡沫灭火器的使用方法 ：主要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于扑救各种油类火灾、木材、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维、橡胶等固体可燃物火灾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93240" y="324576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3357720"/>
            <a:ext cx="2484360" cy="3097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6367320"/>
            <a:ext cx="50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手握着压把，左手托着灭火器底部，轻轻地取下灭火器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843280" y="3500280"/>
            <a:ext cx="2663640" cy="3059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148360" y="6508080"/>
            <a:ext cx="34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华文新魏"/>
              </a:rPr>
              <a:t>右手提着灭火器到现场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156360" y="1844640"/>
            <a:ext cx="2808360" cy="2743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H="1" flipV="1">
            <a:off x="5363640" y="6165360"/>
            <a:ext cx="576360" cy="3589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80000" y="50054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右手捂住喷嘴，左手执筒底边缘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1547640" y="5949720"/>
            <a:ext cx="21600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804000" y="4149720"/>
            <a:ext cx="0" cy="79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3384360" cy="4681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0920" y="62888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灭火器颠倒过来呈垂直状态，用劲上下晃动几下，然后放开喷嘴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708360" y="620640"/>
            <a:ext cx="4392720" cy="3068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851280" y="3789360"/>
            <a:ext cx="3887640" cy="244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 flipV="1">
            <a:off x="2050920" y="5157360"/>
            <a:ext cx="0" cy="107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干粉灭火器的使用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1988640"/>
            <a:ext cx="54356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适用范围：适用于扑救各种易燃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燃液体和易燃、可燃气体火灾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以及电器设备火灾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0920" y="3638520"/>
            <a:ext cx="2340000" cy="3219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059280" y="3695760"/>
            <a:ext cx="3600360" cy="31622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084720" y="2492280"/>
            <a:ext cx="2808360" cy="31528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708360" y="3357720"/>
            <a:ext cx="4103640" cy="2735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8360" y="907920"/>
            <a:ext cx="3168720" cy="35290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 flipV="1" rot="11098200">
            <a:off x="531360" y="508212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拔掉保险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1547280" y="4365360"/>
            <a:ext cx="287640" cy="863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708360" y="692280"/>
            <a:ext cx="4392720" cy="26654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205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彩云"/>
              </a:rPr>
              <a:t>第三章 校园防火灭火常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172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、报火警的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发现火灾后应立即拨打火警电话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19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并讲清起火的详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地址、起火部位、着火物质、火势大小，报警人姓名及电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号码，并到路口迎候消防车。消防队救火不收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、火场逃生注意事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火场逃生要迅速，动作要快，要树立时间就是生命、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生第一的思想。逃生时必须冷静，认准安全出口，沿疏散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示标志逃出。在逃生时要防止中毒，尽量避免大声呼喊，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止烟雾进入口腔；用水打湿衣服后捂住口鼻，一时找不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水，可用饮料来打湿衣服代替；并采取低姿行走或匍匐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进，减少烟气对人体的危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351640" cy="6597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619280" y="6021360"/>
            <a:ext cx="216000" cy="1443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cc66"/>
                </a:solidFill>
                <a:latin typeface="Verdana"/>
              </a:rPr>
              <a:t>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4533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7705800" cy="6524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700360" y="2492280"/>
            <a:ext cx="32781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经典综艺体简"/>
              </a:rPr>
              <a:t>防火篇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经典综艺体简"/>
              <a:ea typeface="经典综艺体简"/>
            </a:endParaRPr>
          </a:p>
        </p:txBody>
      </p:sp>
    </p:spTree>
  </p:cSld>
  <p:transition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7559640" cy="6381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921800" cy="64533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7991280" cy="6524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280360" cy="6453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7632720" cy="6264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逃生自救常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7775640" cy="5661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6597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63374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669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6597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彩云"/>
              </a:rPr>
              <a:t>第一章 火灾案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207280" cy="6524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65977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404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064360" cy="6524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6769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252360" y="-36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彩云"/>
              </a:rPr>
              <a:t>第四章 火灾自救与逃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403236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一、逃生基本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要树立良好的消防意识。在日常生活中，无论进入或居住哪一栋建筑物，都应事先有个心理准备，万一起火该如何逃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二是当被火灾围困时，要行动果断迅速。火灾发生时，烟气和火焰的蔓延速度非常快，所以，赢得时间是逃生的重要保证，万万不可因为找取钱物而失去宝贵的时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990720" y="4572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可用湿毛巾捂住脸部，用毛毯裹住头部，防止或减少吸入有毒烟气，并匍匐前进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467480" cy="46483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14040" y="-360"/>
            <a:ext cx="38098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在开房门之前，应先用手触摸门板，如果门板发热或发现烟从门缝窜入，说明对面己经着火，不要打开房门，应从其它出口逃脱。即使房门不热，也要小心打开，并做好准备，万一开门后迎面碰上烟或热浪，随手迅速关门防止烟气流通，助长火势蔓延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1发现室外着火，门已发烫时，能开门吗？" descr=""/>
          <p:cNvPicPr/>
          <p:nvPr/>
        </p:nvPicPr>
        <p:blipFill>
          <a:blip r:embed="rId1"/>
          <a:stretch/>
        </p:blipFill>
        <p:spPr>
          <a:xfrm>
            <a:off x="4495680" y="304920"/>
            <a:ext cx="4267440" cy="62481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371240" y="571464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86080" y="77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5867280"/>
            <a:ext cx="63025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228600"/>
            <a:ext cx="739152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当安全通道被火焰所阻时，最需要的是冷静。可用绳子或将床单撕开连成长条，一头固定在门窗上，顺着绳子下滑。如果确实无法逃生时，要关紧门窗，用湿床单塞住门的缝隙，往门上泼水，以阻止烟气和火焰侵入。同时，向外大声呼救，或向外投掷东西，用手电向外照射，以引起消防救援人员的注意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4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5若所有逃生线路被大火封锁，可用打手电筒、挥舞衣物、呼叫等方式向窗外发送求救信号，等待救援？" descr=""/>
          <p:cNvPicPr/>
          <p:nvPr/>
        </p:nvPicPr>
        <p:blipFill>
          <a:blip r:embed="rId1"/>
          <a:stretch/>
        </p:blipFill>
        <p:spPr>
          <a:xfrm>
            <a:off x="1295280" y="3048120"/>
            <a:ext cx="6934320" cy="350496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480024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火灾时不可乘坐电梯逃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因火灾情况下，一般会断电，反面被困电梯井里，电梯井里烟雾、高温、热气很容易涌入，因而危及生命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42960" y="7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4遇火灾不可乘坐电梯？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7315200" cy="43434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118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8920" y="549000"/>
            <a:ext cx="442764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华文新魏"/>
                <a:ea typeface="华文新魏"/>
              </a:rPr>
              <a:t>2004</a:t>
            </a:r>
            <a:r>
              <a:rPr b="0" lang="zh-CN" sz="2800" spc="-1" strike="noStrike">
                <a:solidFill>
                  <a:srgbClr val="800080"/>
                </a:solidFill>
                <a:latin typeface="华文新魏"/>
                <a:ea typeface="华文新魏"/>
              </a:rPr>
              <a:t>年</a:t>
            </a:r>
            <a:r>
              <a:rPr b="0" lang="zh-CN" sz="2800" spc="-1" strike="noStrike">
                <a:solidFill>
                  <a:srgbClr val="800080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800080"/>
                </a:solidFill>
                <a:latin typeface="华文新魏"/>
                <a:ea typeface="华文新魏"/>
              </a:rPr>
              <a:t>月</a:t>
            </a:r>
            <a:r>
              <a:rPr b="0" lang="zh-CN" sz="2800" spc="-1" strike="noStrike">
                <a:solidFill>
                  <a:srgbClr val="800080"/>
                </a:solidFill>
                <a:latin typeface="华文新魏"/>
                <a:ea typeface="华文新魏"/>
              </a:rPr>
              <a:t>14</a:t>
            </a:r>
            <a:r>
              <a:rPr b="0" lang="zh-CN" sz="2800" spc="-1" strike="noStrike">
                <a:solidFill>
                  <a:srgbClr val="800080"/>
                </a:solidFill>
                <a:latin typeface="华文新魏"/>
                <a:ea typeface="华文新魏"/>
              </a:rPr>
              <a:t>日印度南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华文新魏"/>
                <a:ea typeface="华文新魏"/>
              </a:rPr>
              <a:t>泰米尔纳德邦的一所中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华文新魏"/>
                <a:ea typeface="华文新魏"/>
              </a:rPr>
              <a:t>发生火灾，造成</a:t>
            </a:r>
            <a:r>
              <a:rPr b="0" lang="zh-CN" sz="2800" spc="-1" strike="noStrike">
                <a:solidFill>
                  <a:srgbClr val="800080"/>
                </a:solidFill>
                <a:latin typeface="华文新魏"/>
                <a:ea typeface="华文新魏"/>
              </a:rPr>
              <a:t>175</a:t>
            </a:r>
            <a:r>
              <a:rPr b="0" lang="zh-CN" sz="2800" spc="-1" strike="noStrike">
                <a:solidFill>
                  <a:srgbClr val="800080"/>
                </a:solidFill>
                <a:latin typeface="华文新魏"/>
                <a:ea typeface="华文新魏"/>
              </a:rPr>
              <a:t>名师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华文新魏"/>
                <a:ea typeface="华文新魏"/>
              </a:rPr>
              <a:t>伤亡。其中绝大部分是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华文新魏"/>
                <a:ea typeface="华文新魏"/>
              </a:rPr>
              <a:t>生，数名教师也在火灾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华文新魏"/>
                <a:ea typeface="华文新魏"/>
              </a:rPr>
              <a:t>死亡。另外还有</a:t>
            </a:r>
            <a:r>
              <a:rPr b="0" lang="zh-CN" sz="2800" spc="-1" strike="noStrike">
                <a:solidFill>
                  <a:srgbClr val="800080"/>
                </a:solidFill>
                <a:latin typeface="华文新魏"/>
                <a:ea typeface="华文新魏"/>
              </a:rPr>
              <a:t>100</a:t>
            </a:r>
            <a:r>
              <a:rPr b="0" lang="zh-CN" sz="2800" spc="-1" strike="noStrike">
                <a:solidFill>
                  <a:srgbClr val="800080"/>
                </a:solidFill>
                <a:latin typeface="华文新魏"/>
                <a:ea typeface="华文新魏"/>
              </a:rPr>
              <a:t>人受伤</a:t>
            </a:r>
            <a:r>
              <a:rPr b="0" lang="zh-CN" sz="2400" spc="-1" strike="noStrike">
                <a:solidFill>
                  <a:srgbClr val="80008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427640" y="836640"/>
            <a:ext cx="4259160" cy="3541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3573360"/>
            <a:ext cx="4500720" cy="3284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64000" y="4867920"/>
            <a:ext cx="34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华文新魏"/>
              </a:rPr>
              <a:t>发生火灾的现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48360" y="602064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  <a:ea typeface="华文新魏"/>
              </a:rPr>
              <a:t>这是消防队员救人的情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7093080" y="4365720"/>
            <a:ext cx="0" cy="720720"/>
          </a:xfrm>
          <a:prstGeom prst="line">
            <a:avLst/>
          </a:prstGeom>
          <a:ln w="2844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4500720" y="6308640"/>
            <a:ext cx="86328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132000" y="1989000"/>
            <a:ext cx="3494160" cy="224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经典综艺体简"/>
              </a:rPr>
              <a:t>防震篇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经典综艺体简"/>
              <a:ea typeface="经典综艺体简"/>
            </a:endParaRPr>
          </a:p>
        </p:txBody>
      </p:sp>
    </p:spTree>
  </p:cSld>
  <p:transition>
    <p:comb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"/>
          <p:cNvSpPr/>
          <p:nvPr/>
        </p:nvSpPr>
        <p:spPr>
          <a:xfrm>
            <a:off x="755640" y="9079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5050"/>
          </a:solidFill>
          <a:ln w="93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1092600" y="302400"/>
            <a:ext cx="419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標楷體"/>
              </a:rPr>
              <a:t>2008</a:t>
            </a:r>
            <a:r>
              <a:rPr b="1" lang="zh-TW" sz="3200" spc="-1" strike="noStrike">
                <a:solidFill>
                  <a:srgbClr val="660066"/>
                </a:solidFill>
                <a:latin typeface="Arial"/>
                <a:ea typeface="標楷體"/>
              </a:rPr>
              <a:t>年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標楷體"/>
              </a:rPr>
              <a:t>5</a:t>
            </a:r>
            <a:r>
              <a:rPr b="1" lang="zh-TW" sz="3200" spc="-1" strike="noStrike">
                <a:solidFill>
                  <a:srgbClr val="660066"/>
                </a:solidFill>
                <a:latin typeface="Arial"/>
                <a:ea typeface="標楷體"/>
              </a:rPr>
              <a:t>月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標楷體"/>
              </a:rPr>
              <a:t>12</a:t>
            </a:r>
            <a:r>
              <a:rPr b="1" lang="zh-TW" sz="3200" spc="-1" strike="noStrike">
                <a:solidFill>
                  <a:srgbClr val="660066"/>
                </a:solidFill>
                <a:latin typeface="Arial"/>
                <a:ea typeface="標楷體"/>
              </a:rPr>
              <a:t>日汶川大地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救援人員正在搶救聚源中學學生"/>
          <p:cNvPicPr/>
          <p:nvPr/>
        </p:nvPicPr>
        <p:blipFill>
          <a:blip r:embed="rId1"/>
          <a:stretch/>
        </p:blipFill>
        <p:spPr>
          <a:xfrm>
            <a:off x="5651640" y="3933720"/>
            <a:ext cx="3024000" cy="2521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240px-2008_Sichuan_earthquake_map_no_label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84720" y="1628640"/>
            <a:ext cx="1656000" cy="14097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9"/>
          <p:cNvSpPr/>
          <p:nvPr/>
        </p:nvSpPr>
        <p:spPr>
          <a:xfrm>
            <a:off x="539640" y="2612880"/>
            <a:ext cx="511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地震發生時正值上課時間，地震造成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標楷體"/>
              </a:rPr>
              <a:t>21.6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萬間房屋倒塌，其中包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標楷體"/>
              </a:rPr>
              <a:t>6,898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標楷體"/>
              </a:rPr>
              <a:t>間校舍，當中仍未包括汶川、北川等重災區，大量學生死亡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2"/>
          <p:cNvSpPr/>
          <p:nvPr/>
        </p:nvSpPr>
        <p:spPr>
          <a:xfrm>
            <a:off x="755640" y="9079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5050"/>
          </a:solidFill>
          <a:ln w="93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"/>
          <p:cNvSpPr/>
          <p:nvPr/>
        </p:nvSpPr>
        <p:spPr>
          <a:xfrm>
            <a:off x="179280" y="6597720"/>
            <a:ext cx="3168720" cy="0"/>
          </a:xfrm>
          <a:prstGeom prst="line">
            <a:avLst/>
          </a:prstGeom>
          <a:ln w="3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042560" y="332640"/>
            <a:ext cx="37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標楷體"/>
              </a:rPr>
              <a:t>2008</a:t>
            </a:r>
            <a:r>
              <a:rPr b="1" lang="zh-TW" sz="2800" spc="-1" strike="noStrike">
                <a:solidFill>
                  <a:srgbClr val="660066"/>
                </a:solidFill>
                <a:latin typeface="Arial"/>
                <a:ea typeface="標楷體"/>
              </a:rPr>
              <a:t>年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標楷體"/>
              </a:rPr>
              <a:t>5</a:t>
            </a:r>
            <a:r>
              <a:rPr b="1" lang="zh-TW" sz="2800" spc="-1" strike="noStrike">
                <a:solidFill>
                  <a:srgbClr val="660066"/>
                </a:solidFill>
                <a:latin typeface="Arial"/>
                <a:ea typeface="標楷體"/>
              </a:rPr>
              <a:t>月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標楷體"/>
              </a:rPr>
              <a:t>12</a:t>
            </a:r>
            <a:r>
              <a:rPr b="1" lang="zh-TW" sz="2800" spc="-1" strike="noStrike">
                <a:solidFill>
                  <a:srgbClr val="660066"/>
                </a:solidFill>
                <a:latin typeface="Arial"/>
                <a:ea typeface="標楷體"/>
              </a:rPr>
              <a:t>日汶川大地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240px-2008_Sichuan_earthquake_map_no_label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484280"/>
            <a:ext cx="1657080" cy="140976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8"/>
          <p:cNvSpPr/>
          <p:nvPr/>
        </p:nvSpPr>
        <p:spPr>
          <a:xfrm>
            <a:off x="2843280" y="97992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0000"/>
                </a:solidFill>
                <a:latin typeface="Arial"/>
                <a:ea typeface="標楷體"/>
              </a:rPr>
              <a:t>校長創抗震奇跡：四川安縣桑棗中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c0000"/>
                </a:solidFill>
                <a:uFillTx/>
                <a:latin typeface="Arial"/>
                <a:ea typeface="標楷體"/>
              </a:rPr>
              <a:t>2,300</a:t>
            </a:r>
            <a:r>
              <a:rPr b="1" i="1" lang="zh-TW" sz="3200" spc="-1" strike="noStrike" u="sng">
                <a:solidFill>
                  <a:srgbClr val="cc0000"/>
                </a:solidFill>
                <a:uFillTx/>
                <a:latin typeface="Arial"/>
                <a:ea typeface="標楷體"/>
              </a:rPr>
              <a:t>位師生無一傷亡</a:t>
            </a:r>
            <a:r>
              <a:rPr b="1" lang="zh-TW" sz="2400" spc="-1" strike="noStrike">
                <a:solidFill>
                  <a:srgbClr val="cc0000"/>
                </a:solidFill>
                <a:latin typeface="Arial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9" descr="102521_school"/>
          <p:cNvPicPr/>
          <p:nvPr/>
        </p:nvPicPr>
        <p:blipFill>
          <a:blip r:embed="rId3"/>
          <a:stretch/>
        </p:blipFill>
        <p:spPr>
          <a:xfrm>
            <a:off x="324000" y="4562640"/>
            <a:ext cx="1871640" cy="1220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xin_262060516145904691903"/>
          <p:cNvPicPr/>
          <p:nvPr/>
        </p:nvPicPr>
        <p:blipFill>
          <a:blip r:embed="rId4"/>
          <a:stretch/>
        </p:blipFill>
        <p:spPr>
          <a:xfrm>
            <a:off x="611280" y="3068640"/>
            <a:ext cx="1584360" cy="136044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1"/>
          <p:cNvSpPr/>
          <p:nvPr/>
        </p:nvSpPr>
        <p:spPr>
          <a:xfrm>
            <a:off x="2340000" y="3049920"/>
            <a:ext cx="662292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4600" indent="-174600">
              <a:buClr>
                <a:srgbClr val="000000"/>
              </a:buClr>
              <a:buFont typeface="Wingdings" charset="2"/>
              <a:buChar char="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校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葉志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籌經費強化校舍結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實驗教學樓，建築時才花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17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萬元，光加固就花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40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多萬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Wingdings" charset="2"/>
              <a:buChar char="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2005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年開始，每學期在全校組織一次緊急疏散演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Wingdings" charset="2"/>
              <a:buChar char="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學生已經被教育好疏散該由前後門疏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依教室座位排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Wingdings" charset="2"/>
              <a:buChar char="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每週二是該校的安全教育時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ff0000"/>
              </a:buClr>
              <a:buFont typeface="Wingdings" charset="2"/>
              <a:buChar char="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Arial"/>
                <a:ea typeface="標楷體"/>
              </a:rPr>
              <a:t>地震當天，全校疏散花了</a:t>
            </a: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"/>
                <a:ea typeface="標楷體"/>
              </a:rPr>
              <a:t>1</a:t>
            </a:r>
            <a:r>
              <a:rPr b="1" i="1" lang="zh-TW" sz="4400" spc="-1" strike="noStrike" u="sng">
                <a:solidFill>
                  <a:srgbClr val="ff0000"/>
                </a:solidFill>
                <a:uFillTx/>
                <a:latin typeface="Arial"/>
                <a:ea typeface="標楷體"/>
              </a:rPr>
              <a:t>分</a:t>
            </a: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"/>
                <a:ea typeface="標楷體"/>
              </a:rPr>
              <a:t>36</a:t>
            </a:r>
            <a:r>
              <a:rPr b="1" i="1" lang="zh-TW" sz="4400" spc="-1" strike="noStrike" u="sng">
                <a:solidFill>
                  <a:srgbClr val="ff0000"/>
                </a:solidFill>
                <a:uFillTx/>
                <a:latin typeface="Arial"/>
                <a:ea typeface="標楷體"/>
              </a:rPr>
              <a:t>秒</a:t>
            </a:r>
            <a:r>
              <a:rPr b="1" lang="zh-TW" sz="4400" spc="-1" strike="noStrike">
                <a:solidFill>
                  <a:srgbClr val="ff0000"/>
                </a:solidFill>
                <a:latin typeface="Arial"/>
                <a:ea typeface="標楷體"/>
              </a:rPr>
              <a:t>就到操場集合避難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835280" y="189000"/>
            <a:ext cx="69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地震有哪些预兆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71640" y="105264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地下水异常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地震有哪些预兆"/>
          <p:cNvPicPr/>
          <p:nvPr/>
        </p:nvPicPr>
        <p:blipFill>
          <a:blip r:embed="rId1"/>
          <a:stretch/>
        </p:blipFill>
        <p:spPr>
          <a:xfrm>
            <a:off x="4540320" y="1557360"/>
            <a:ext cx="4118040" cy="48243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042920" y="2349360"/>
            <a:ext cx="2952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井水是个宝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前兆来得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无雨水质浑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天旱井水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水位变化大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翻花冒气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有的变颜色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有的变味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971640" y="78012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动物异常：震前动物有预兆，密切监视最重要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地震有哪些预兆"/>
          <p:cNvPicPr/>
          <p:nvPr/>
        </p:nvPicPr>
        <p:blipFill>
          <a:blip r:embed="rId1"/>
          <a:stretch/>
        </p:blipFill>
        <p:spPr>
          <a:xfrm>
            <a:off x="4284720" y="1989000"/>
            <a:ext cx="4572000" cy="4689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95280" y="3423960"/>
            <a:ext cx="3968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骡马牛羊不进圈，鸭不下水狗狂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老鼠搬家往外逃，鸽子惊飞不回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冰天雪地蛇出洞， 鱼儿惊惶水面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地震有哪些预兆"/>
          <p:cNvPicPr/>
          <p:nvPr/>
        </p:nvPicPr>
        <p:blipFill>
          <a:blip r:embed="rId1"/>
          <a:stretch/>
        </p:blipFill>
        <p:spPr>
          <a:xfrm>
            <a:off x="3672000" y="2276640"/>
            <a:ext cx="5472000" cy="43923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24000" y="1052640"/>
            <a:ext cx="37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地光和地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069000"/>
            <a:ext cx="406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Arial"/>
              </a:rPr>
              <a:t>临震前，一瞬间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Arial"/>
              </a:rPr>
              <a:t>地声隆隆地光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Arial"/>
              </a:rPr>
              <a:t>大震将至要果断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Arial"/>
              </a:rPr>
              <a:t>迅速行动快避险。</a:t>
            </a:r>
            <a:r>
              <a:rPr b="0" lang="zh-CN" sz="36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333360"/>
            <a:ext cx="48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地光和地声是地震前或地震时从地下或地面发出的光亮及声音，是重要的临震预报。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268360" y="189000"/>
            <a:ext cx="46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Arial"/>
              </a:rPr>
              <a:t>地震发生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4360" y="1125360"/>
            <a:ext cx="838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为了您自己和家人的人身安全请躲在桌子等坚固家具的下面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如在一二楼层居住，要及时冲出楼道，到开阔的地面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002200" y="3789360"/>
            <a:ext cx="3457440" cy="2664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684360" y="4076640"/>
            <a:ext cx="2735280" cy="2376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24000" y="189000"/>
            <a:ext cx="84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摇晃时立即关火，失火时立即灭火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205080" y="2133720"/>
            <a:ext cx="5688000" cy="43923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68360" y="154944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地震发生后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慌慌张张地向外跑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碎玻璃、屋顶上的砖瓦、广告牌等掉下来砸在身上，是很危险的。此外，水泥预制板墙、自动售货机等也有倒塌的危险，不要靠近这些物体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33336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不要慌张地向户外跑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39640" y="189000"/>
            <a:ext cx="80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将门打开，确保出口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1052640"/>
            <a:ext cx="813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钢筋水泥结构的房屋等，由于地震的晃动会造成门窗错位，打不开门，曾经发生有人被封闭在屋子里的事例。请将门打开，确保出口。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平时要事先想好万一被关在屋子里，如何逃脱的方法，准备好梯子、绳索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3640" y="475920"/>
            <a:ext cx="31683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隔不到两天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日，印度南部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尔纳德邦贡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戈讷姆市一所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立学校发生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灾，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名学生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场突如其来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大火烧死，另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被烧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987640" y="404640"/>
            <a:ext cx="6156360" cy="6453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68360" y="53992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Verdana"/>
              </a:rPr>
              <a:t>这是发生火灾后的现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11280" y="566100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24000" y="19692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户外的场合，要保护好头部，避开危险之处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" y="1838160"/>
            <a:ext cx="813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当大地剧烈摇晃，站立不稳的时候，人们都会有扶、抓住什么的心理。身边的门柱、墙壁大多会成为扶着的对象。但是，这些看上去挺结实牢固的东西，实际上却是危险的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87280" y="412920"/>
            <a:ext cx="89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６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务必注意山崩、断崖落石或海啸。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5280" y="204804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山边、陡峭的倾斜地段，有发生山崩、断崖落石的危险，应迅速到安全的场所避难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500"/>
                            </p:stCondLst>
                            <p:childTnLst>
                              <p:par>
                                <p:cTn id="1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７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不要听信谣言，不要轻举妄动。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从携带的收音机等中，把握正确的信息。相信从政府、警察、消防等防灾机构直接得到的信息，决不轻信不负责任的流言蜚语，不要轻举妄动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4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50920" y="260280"/>
            <a:ext cx="46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大地震中自救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8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" y="11588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尽量用湿毛巾、衣物或其他布料捂住口、鼻和头部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252576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尽量活动手脚，清除脸上的灰土和压在身上的物件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396720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用周围可以挪动的物品支撑身体上方的重物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663000" y="5413320"/>
            <a:ext cx="12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扩大活动空间，保持足够空 气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50920" y="260280"/>
            <a:ext cx="8675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33336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寻找和开辟通道，朝着有光亮、更安全宽敞的地方移动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177336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要节约使用代用品和水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4000" y="266076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要尽量节省气力，可用砖、铁管等物敲打墙壁，向外界传递消息，当确定不远处有人时再呼救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4000" y="472428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几个人同时被压埋时，要互相鼓励，共同计划，团结配合，必要时采取脱险行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539640" y="1052640"/>
            <a:ext cx="7920000" cy="133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隶书"/>
              </a:rPr>
              <a:t>希望同学们认真学习有关防火防震知识！</a:t>
            </a:r>
            <a:r>
              <a:rPr b="1" lang="en-US" sz="1800" spc="1" strike="noStrike">
                <a:ln w="12600">
                  <a:solidFill>
                    <a:srgbClr val="ffff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隶书"/>
              </a:rPr>
              <a:t>~~</a:t>
            </a:r>
            <a:endParaRPr b="1" lang="en-US" sz="1800" spc="1" strike="noStrike">
              <a:ln w="12600">
                <a:solidFill>
                  <a:srgbClr val="ffff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隶书"/>
              <a:ea typeface="华文隶书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619280" y="3573360"/>
            <a:ext cx="3903480" cy="139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谢谢大家！</a:t>
            </a:r>
            <a:endParaRPr b="1" lang="en-US" sz="1800" spc="1" strike="noStrike">
              <a:ln w="1908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118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50752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8-03-14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日，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南京东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大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一办公楼发生火灾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356000" y="836640"/>
            <a:ext cx="4788000" cy="424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2205000"/>
            <a:ext cx="4427640" cy="4653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572000" y="55166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66"/>
                </a:solidFill>
                <a:latin typeface="华文新魏"/>
                <a:ea typeface="华文新魏"/>
              </a:rPr>
              <a:t>受灾面积达</a:t>
            </a:r>
            <a:r>
              <a:rPr b="0" lang="zh-CN" sz="2400" spc="-1" strike="noStrike">
                <a:solidFill>
                  <a:srgbClr val="00cc66"/>
                </a:solidFill>
                <a:latin typeface="华文新魏"/>
                <a:ea typeface="华文新魏"/>
              </a:rPr>
              <a:t>1000</a:t>
            </a:r>
            <a:r>
              <a:rPr b="0" lang="zh-CN" sz="2400" spc="-1" strike="noStrike">
                <a:solidFill>
                  <a:srgbClr val="00cc66"/>
                </a:solidFill>
                <a:latin typeface="华文新魏"/>
                <a:ea typeface="华文新魏"/>
              </a:rPr>
              <a:t>平方米，消防部门出动</a:t>
            </a:r>
            <a:r>
              <a:rPr b="0" lang="zh-CN" sz="2400" spc="-1" strike="noStrike">
                <a:solidFill>
                  <a:srgbClr val="00cc66"/>
                </a:solidFill>
                <a:latin typeface="华文新魏"/>
                <a:ea typeface="华文新魏"/>
              </a:rPr>
              <a:t>10</a:t>
            </a:r>
            <a:r>
              <a:rPr b="0" lang="zh-CN" sz="2400" spc="-1" strike="noStrike">
                <a:solidFill>
                  <a:srgbClr val="00cc66"/>
                </a:solidFill>
                <a:latin typeface="华文新魏"/>
                <a:ea typeface="华文新魏"/>
              </a:rPr>
              <a:t>余辆消防车</a:t>
            </a:r>
            <a:r>
              <a:rPr b="0" lang="zh-CN" sz="2400" spc="-1" strike="noStrike">
                <a:solidFill>
                  <a:srgbClr val="00cc66"/>
                </a:solidFill>
                <a:latin typeface="华文新魏"/>
                <a:ea typeface="华文新魏"/>
              </a:rPr>
              <a:t>150</a:t>
            </a:r>
            <a:r>
              <a:rPr b="0" lang="zh-CN" sz="2400" spc="-1" strike="noStrike">
                <a:solidFill>
                  <a:srgbClr val="00cc66"/>
                </a:solidFill>
                <a:latin typeface="华文新魏"/>
                <a:ea typeface="华文新魏"/>
              </a:rPr>
              <a:t>人扑救，大火经过</a:t>
            </a:r>
            <a:r>
              <a:rPr b="0" lang="zh-CN" sz="2400" spc="-1" strike="noStrike">
                <a:solidFill>
                  <a:srgbClr val="00cc66"/>
                </a:solidFill>
                <a:latin typeface="华文新魏"/>
                <a:ea typeface="华文新魏"/>
              </a:rPr>
              <a:t>7</a:t>
            </a:r>
            <a:r>
              <a:rPr b="0" lang="zh-CN" sz="2400" spc="-1" strike="noStrike">
                <a:solidFill>
                  <a:srgbClr val="00cc66"/>
                </a:solidFill>
                <a:latin typeface="华文新魏"/>
                <a:ea typeface="华文新魏"/>
              </a:rPr>
              <a:t>个多小时被朴灭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042560" y="3933720"/>
            <a:ext cx="76201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上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，上海商学院中山西路校区宿舍发生大火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女生慌不择路从六楼跳下当场身亡。火灾系因使用“热得快” 引起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050920" y="692280"/>
            <a:ext cx="4762800" cy="33051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385128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现火灾的宿舍大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4753080" cy="2916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276720" y="3429000"/>
            <a:ext cx="5472000" cy="3179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114960" y="299736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上海商学院被烧学生宿舍现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36352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发生这么多惨不忍睹的火灾事故，学校内应组织教职员工建立义务消防组织，并组织开展消防业务学习和灭火技能训练，提高预防和扑救火灾的能力。同时，应加强各义务消防组织的协同灭火能力，定期组织演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851280" y="115920"/>
            <a:ext cx="5076720" cy="3095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851280" y="3357720"/>
            <a:ext cx="5076720" cy="3284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308720" y="6237360"/>
            <a:ext cx="865440" cy="431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164360" y="2924280"/>
            <a:ext cx="71928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09:46:19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1:50:24Z</dcterms:modified>
  <cp:revision>1</cp:revision>
  <dc:subject>主题班会课件(分28大类): http://shop62905894.taobao.com</dc:subject>
  <dc:title>主题班会课件(分28大类): http://shop62905894.taobao.com</dc:title>
</cp:coreProperties>
</file>