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gif" ContentType="image/gif"/>
  <Override PartName="/ppt/media/image17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8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9DC-1D94-4C87-971F-651115C2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37C-F813-4308-8C0E-70FEA78D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D4C-B00A-4BC5-8261-E7C2EC60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9A0E-BBD6-433E-BE37-B18E0CAF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C3DF-BB30-4886-B681-26A788E4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8AF4-54A8-45C3-B9A8-15C10025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D861-6EAE-4FDB-BF75-9F7B87FF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F1AF-42C4-40E1-BB53-78138CC6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224F-C938-4B69-A25F-30491312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95C0-96B8-4AFF-A3C3-8497A096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E9CB-2714-4805-9AC8-CE8945BF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5D02-4397-4F80-829C-EBF1066D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D6C2-3FDD-4DC3-96C1-66B98856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86EE-7220-404D-A653-E5091422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308E-1FFC-4BB1-8D9C-904B17C2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DD65-0817-4086-805E-9016812B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865C-1549-4047-992A-99F16385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180A-42F3-40AD-8B28-41FA19CA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7BA-04F7-450A-B721-BB2020B7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034-2BD5-4803-8A03-4782329E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2BB-A6EF-4580-9715-27F50306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752F-B9EE-4640-8AD7-634026A3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20F7-32EF-4717-B4B8-3774EB8F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54C7-2C32-4603-BE74-13EDBE03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C4A7-AF8C-4495-8E35-5AC44126677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6C7F-82E0-4232-9A02-7354F54ADDE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09480" y="762120"/>
            <a:ext cx="8001000" cy="22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28440">
                  <a:solidFill>
                    <a:srgbClr val="cc99ff"/>
                  </a:solidFill>
                  <a:prstDash val="dash"/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秩序就是生命</a:t>
            </a:r>
            <a:endParaRPr b="1" lang="en-US" sz="8000" spc="1" strike="noStrike">
              <a:ln w="28440">
                <a:solidFill>
                  <a:srgbClr val="cc99ff"/>
                </a:solidFill>
                <a:prstDash val="dash"/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8088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105520" y="4343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419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91600" y="4037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校园安全主题班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0866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4267080" cy="3352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3049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进出教室要有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、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要推挤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tebulb"/>
          <p:cNvSpPr/>
          <p:nvPr/>
        </p:nvSpPr>
        <p:spPr>
          <a:xfrm>
            <a:off x="304920" y="380880"/>
            <a:ext cx="457200" cy="762120"/>
          </a:xfrm>
          <a:prstGeom prst="pie">
            <a:avLst/>
          </a:prstGeom>
          <a:solidFill>
            <a:srgbClr val="b7e7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04920" y="1447920"/>
            <a:ext cx="4190760" cy="2895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486400" y="1600200"/>
            <a:ext cx="32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有序进出，顺利又迅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1828800"/>
            <a:ext cx="609840" cy="533520"/>
          </a:xfrm>
          <a:custGeom>
            <a:avLst/>
            <a:gdLst>
              <a:gd name="textAreaLeft" fmla="*/ 95040 w 609840"/>
              <a:gd name="textAreaRight" fmla="*/ 495720 w 609840"/>
              <a:gd name="textAreaTop" fmla="*/ 152280 h 533520"/>
              <a:gd name="textAreaBottom" fmla="*/ 38124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6171"/>
                </a:moveTo>
                <a:lnTo>
                  <a:pt x="12150" y="6171"/>
                </a:lnTo>
                <a:lnTo>
                  <a:pt x="12150" y="0"/>
                </a:lnTo>
                <a:lnTo>
                  <a:pt x="21600" y="10800"/>
                </a:lnTo>
                <a:lnTo>
                  <a:pt x="12150" y="21600"/>
                </a:lnTo>
                <a:lnTo>
                  <a:pt x="12150" y="15429"/>
                </a:lnTo>
                <a:lnTo>
                  <a:pt x="3375" y="15429"/>
                </a:lnTo>
                <a:close/>
              </a:path>
              <a:path w="21600" h="21600">
                <a:moveTo>
                  <a:pt x="0" y="6171"/>
                </a:moveTo>
                <a:lnTo>
                  <a:pt x="675" y="6171"/>
                </a:lnTo>
                <a:lnTo>
                  <a:pt x="675" y="15429"/>
                </a:lnTo>
                <a:lnTo>
                  <a:pt x="0" y="15429"/>
                </a:lnTo>
                <a:close/>
              </a:path>
              <a:path w="21600" h="21600">
                <a:moveTo>
                  <a:pt x="1350" y="6171"/>
                </a:moveTo>
                <a:lnTo>
                  <a:pt x="2700" y="6171"/>
                </a:lnTo>
                <a:lnTo>
                  <a:pt x="2700" y="15429"/>
                </a:lnTo>
                <a:lnTo>
                  <a:pt x="1350" y="15429"/>
                </a:lnTo>
                <a:close/>
              </a:path>
            </a:pathLst>
          </a:custGeom>
          <a:solidFill>
            <a:srgbClr val="0000a4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3885840" y="5029200"/>
            <a:ext cx="609480" cy="533520"/>
          </a:xfrm>
          <a:custGeom>
            <a:avLst/>
            <a:gdLst>
              <a:gd name="textAreaLeft" fmla="*/ 95040 w 609480"/>
              <a:gd name="textAreaRight" fmla="*/ 495360 w 609480"/>
              <a:gd name="textAreaTop" fmla="*/ 152280 h 533520"/>
              <a:gd name="textAreaBottom" fmla="*/ 38124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6171"/>
                </a:moveTo>
                <a:lnTo>
                  <a:pt x="12150" y="6171"/>
                </a:lnTo>
                <a:lnTo>
                  <a:pt x="12150" y="0"/>
                </a:lnTo>
                <a:lnTo>
                  <a:pt x="21600" y="10800"/>
                </a:lnTo>
                <a:lnTo>
                  <a:pt x="12150" y="21600"/>
                </a:lnTo>
                <a:lnTo>
                  <a:pt x="12150" y="15429"/>
                </a:lnTo>
                <a:lnTo>
                  <a:pt x="3375" y="15429"/>
                </a:lnTo>
                <a:close/>
              </a:path>
              <a:path w="21600" h="21600">
                <a:moveTo>
                  <a:pt x="0" y="6171"/>
                </a:moveTo>
                <a:lnTo>
                  <a:pt x="675" y="6171"/>
                </a:lnTo>
                <a:lnTo>
                  <a:pt x="675" y="15429"/>
                </a:lnTo>
                <a:lnTo>
                  <a:pt x="0" y="15429"/>
                </a:lnTo>
                <a:close/>
              </a:path>
              <a:path w="21600" h="21600">
                <a:moveTo>
                  <a:pt x="1350" y="6171"/>
                </a:moveTo>
                <a:lnTo>
                  <a:pt x="2700" y="6171"/>
                </a:lnTo>
                <a:lnTo>
                  <a:pt x="2700" y="15429"/>
                </a:lnTo>
                <a:lnTo>
                  <a:pt x="1350" y="15429"/>
                </a:lnTo>
                <a:close/>
              </a:path>
            </a:pathLst>
          </a:custGeom>
          <a:solidFill>
            <a:srgbClr val="0000a4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495680"/>
            <a:ext cx="358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推挤容易产生意外，出入也不顺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75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75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52480" y="30492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上下楼梯时…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5238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尽量靠边行走、不要奔跑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8153280" cy="3733920"/>
          </a:xfrm>
          <a:prstGeom prst="rect">
            <a:avLst/>
          </a:prstGeom>
          <a:ln w="0">
            <a:noFill/>
          </a:ln>
        </p:spPr>
      </p:pic>
      <p:sp>
        <p:nvSpPr>
          <p:cNvPr id="117" name="Litebulb"/>
          <p:cNvSpPr/>
          <p:nvPr/>
        </p:nvSpPr>
        <p:spPr>
          <a:xfrm>
            <a:off x="914400" y="380880"/>
            <a:ext cx="457200" cy="762120"/>
          </a:xfrm>
          <a:prstGeom prst="pie">
            <a:avLst/>
          </a:prstGeom>
          <a:solidFill>
            <a:srgbClr val="b7e7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3352680"/>
            <a:ext cx="3657600" cy="3124440"/>
          </a:xfrm>
          <a:custGeom>
            <a:avLst/>
            <a:gdLst>
              <a:gd name="textAreaLeft" fmla="*/ 849600 w 3657600"/>
              <a:gd name="textAreaRight" fmla="*/ 2808000 w 3657600"/>
              <a:gd name="textAreaTop" fmla="*/ 725760 h 3124440"/>
              <a:gd name="textAreaBottom" fmla="*/ 2398680 h 312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73" y="12360"/>
                </a:lnTo>
                <a:lnTo>
                  <a:pt x="786" y="14846"/>
                </a:lnTo>
                <a:lnTo>
                  <a:pt x="3942" y="15254"/>
                </a:lnTo>
                <a:lnTo>
                  <a:pt x="3163" y="18437"/>
                </a:lnTo>
                <a:lnTo>
                  <a:pt x="6227" y="17579"/>
                </a:lnTo>
                <a:lnTo>
                  <a:pt x="6580" y="20741"/>
                </a:lnTo>
                <a:lnTo>
                  <a:pt x="9100" y="18798"/>
                </a:lnTo>
                <a:lnTo>
                  <a:pt x="10800" y="21600"/>
                </a:lnTo>
                <a:lnTo>
                  <a:pt x="12360" y="18827"/>
                </a:lnTo>
                <a:lnTo>
                  <a:pt x="14846" y="20814"/>
                </a:lnTo>
                <a:lnTo>
                  <a:pt x="15254" y="17658"/>
                </a:lnTo>
                <a:lnTo>
                  <a:pt x="18437" y="18437"/>
                </a:lnTo>
                <a:lnTo>
                  <a:pt x="17579" y="15373"/>
                </a:lnTo>
                <a:lnTo>
                  <a:pt x="20741" y="15020"/>
                </a:lnTo>
                <a:lnTo>
                  <a:pt x="18798" y="12500"/>
                </a:lnTo>
                <a:lnTo>
                  <a:pt x="21600" y="10800"/>
                </a:lnTo>
                <a:lnTo>
                  <a:pt x="18827" y="9240"/>
                </a:lnTo>
                <a:lnTo>
                  <a:pt x="20814" y="6754"/>
                </a:lnTo>
                <a:lnTo>
                  <a:pt x="17658" y="6346"/>
                </a:lnTo>
                <a:lnTo>
                  <a:pt x="18437" y="3163"/>
                </a:lnTo>
                <a:lnTo>
                  <a:pt x="15373" y="4021"/>
                </a:lnTo>
                <a:lnTo>
                  <a:pt x="15020" y="859"/>
                </a:lnTo>
                <a:lnTo>
                  <a:pt x="12500" y="2802"/>
                </a:lnTo>
                <a:lnTo>
                  <a:pt x="10800" y="0"/>
                </a:lnTo>
                <a:lnTo>
                  <a:pt x="9240" y="2773"/>
                </a:lnTo>
                <a:lnTo>
                  <a:pt x="6754" y="786"/>
                </a:lnTo>
                <a:lnTo>
                  <a:pt x="6346" y="3942"/>
                </a:lnTo>
                <a:lnTo>
                  <a:pt x="3163" y="3163"/>
                </a:lnTo>
                <a:lnTo>
                  <a:pt x="4021" y="6227"/>
                </a:lnTo>
                <a:lnTo>
                  <a:pt x="859" y="6580"/>
                </a:lnTo>
                <a:lnTo>
                  <a:pt x="2802" y="91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cap="sq"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267080" y="3505320"/>
          <a:ext cx="4648320" cy="30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3505320"/>
                    <a:ext cx="464832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219320" y="38088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体育课、室外活动时…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6765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正确使用运动器材、注意听从老师指挥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tebulb"/>
          <p:cNvSpPr/>
          <p:nvPr/>
        </p:nvSpPr>
        <p:spPr>
          <a:xfrm>
            <a:off x="533520" y="457200"/>
            <a:ext cx="457200" cy="762120"/>
          </a:xfrm>
          <a:prstGeom prst="pie">
            <a:avLst/>
          </a:prstGeom>
          <a:solidFill>
            <a:srgbClr val="b7e7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411480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注意周围同学动向，不要进入其活动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685800"/>
            <a:ext cx="72388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在校内意外受伤的原因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在走廊、楼道里踢球、追逐打闹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集体上下楼时，不讲秩序、互相拥挤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拿小石子或其他小物件互相丢着玩，或者打来打去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攀高并从高处往下跳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趴阳台，从阳台上往下扔东西，高空抛物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进食堂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爬墙、玩铁门、教室门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上体育课时在教室里逗留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6156360"/>
            <a:ext cx="60948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 rot="5400000">
            <a:off x="5722920" y="1516320"/>
            <a:ext cx="3657600" cy="123480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Down">
              <a:avLst>
                <a:gd name="adj" fmla="val 20712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>
                        <a:alpha val="50196"/>
                      </a:srgbClr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80">
                      <a:alpha val="50000"/>
                    </a:srgbClr>
                  </a:outerShdw>
                </a:effectLst>
                <a:latin typeface="黑体"/>
              </a:rPr>
              <a:t>从身边做起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>
                      <a:alpha val="50196"/>
                    </a:srgbClr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07932" dir="18900000" blurRad="0" rotWithShape="0">
                  <a:srgbClr val="000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09480"/>
            <a:ext cx="6400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一、校园活动安全常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4f20"/>
                </a:solidFill>
                <a:latin typeface="黑体"/>
                <a:ea typeface="黑体"/>
              </a:rPr>
              <a:t>１、校园内和教室里都不追跑哄闹，不攀爬翻越。在走廊上，拐角处和进出教室时都要慢行，防止碰撞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4f20"/>
                </a:solidFill>
                <a:latin typeface="黑体"/>
                <a:ea typeface="黑体"/>
              </a:rPr>
              <a:t>２、上下楼梯靠右行，逐层上下，不跑，不跳，不推搡，不起哄，不在楼梯扶手上滑行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 rot="5834400">
            <a:off x="6810480" y="4474080"/>
            <a:ext cx="2895840" cy="21132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81068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66ffff">
                        <a:alpha val="60392"/>
                      </a:srgbClr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80">
                      <a:alpha val="50000"/>
                    </a:srgbClr>
                  </a:outerShdw>
                </a:effectLst>
                <a:latin typeface="黑体"/>
              </a:rPr>
              <a:t>切记不犯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ffff">
                      <a:alpha val="60392"/>
                    </a:srgbClr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107932" dir="18900000" blurRad="0" rotWithShape="0">
                  <a:srgbClr val="000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685800"/>
            <a:ext cx="5867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4f20"/>
                </a:solidFill>
                <a:latin typeface="Arial"/>
                <a:ea typeface="黑体"/>
              </a:rPr>
              <a:t>３、在学校不玩有伤害性的玩具，课间校内不踢球，不投掷。不触摸有电的地方。自觉遵守校园警示牌的要求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4f20"/>
                </a:solidFill>
                <a:latin typeface="Arial"/>
                <a:ea typeface="黑体"/>
              </a:rPr>
              <a:t>４、上学期间不经老师同意不得出校门。遇到陌生人来找时要及时报告老师，不得私自跟随出去</a:t>
            </a:r>
            <a:r>
              <a:rPr b="0" lang="zh-CN" sz="3600" spc="-1" strike="noStrike">
                <a:solidFill>
                  <a:srgbClr val="fc4f2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5722920" y="1516320"/>
            <a:ext cx="3657600" cy="123480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Down">
              <a:avLst>
                <a:gd name="adj" fmla="val 20712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>
                        <a:alpha val="50196"/>
                      </a:srgbClr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80">
                      <a:alpha val="50000"/>
                    </a:srgbClr>
                  </a:outerShdw>
                </a:effectLst>
                <a:latin typeface="黑体"/>
              </a:rPr>
              <a:t>从身边做起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>
                      <a:alpha val="50196"/>
                    </a:srgbClr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07932" dir="18900000" blurRad="0" rotWithShape="0">
                  <a:srgbClr val="000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2" name=""/>
          <p:cNvSpPr txBox="1"/>
          <p:nvPr/>
        </p:nvSpPr>
        <p:spPr>
          <a:xfrm rot="5834400">
            <a:off x="6810480" y="4474080"/>
            <a:ext cx="2895840" cy="21132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81068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66ffff">
                        <a:alpha val="60392"/>
                      </a:srgbClr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80">
                      <a:alpha val="50000"/>
                    </a:srgbClr>
                  </a:outerShdw>
                </a:effectLst>
                <a:latin typeface="黑体"/>
              </a:rPr>
              <a:t>切记不犯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ffff">
                      <a:alpha val="60392"/>
                    </a:srgbClr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107932" dir="18900000" blurRad="0" rotWithShape="0">
                  <a:srgbClr val="000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0880" y="609480"/>
            <a:ext cx="62485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4f20"/>
                </a:solidFill>
                <a:latin typeface="黑体"/>
                <a:ea typeface="黑体"/>
              </a:rPr>
              <a:t>５、活动时要有序，不打闹，不做危险动作。万一遇到危险时，要学会避让，学会护住头、脸、脑等部位，防止向后跌倒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4f20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fc4f20"/>
                </a:solidFill>
                <a:latin typeface="黑体"/>
                <a:ea typeface="黑体"/>
              </a:rPr>
              <a:t>、如遇特殊情况需离开校园的，应先到班主任请假，将班主任批准的请假条交给门卫后方可出校，并在规定的时间内返校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5400000">
            <a:off x="5722920" y="1516320"/>
            <a:ext cx="3657600" cy="123480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Down">
              <a:avLst>
                <a:gd name="adj" fmla="val 207120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>
                        <a:alpha val="50196"/>
                      </a:srgbClr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80">
                      <a:alpha val="50000"/>
                    </a:srgbClr>
                  </a:outerShdw>
                </a:effectLst>
                <a:latin typeface="黑体"/>
              </a:rPr>
              <a:t>从身边做起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>
                      <a:alpha val="50196"/>
                    </a:srgbClr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107932" dir="18900000" blurRad="0" rotWithShape="0">
                  <a:srgbClr val="000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5" name=""/>
          <p:cNvSpPr txBox="1"/>
          <p:nvPr/>
        </p:nvSpPr>
        <p:spPr>
          <a:xfrm rot="5834400">
            <a:off x="6810480" y="4474080"/>
            <a:ext cx="2895840" cy="21132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81068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66ffff">
                        <a:alpha val="60392"/>
                      </a:srgbClr>
                    </a:gs>
                    <a:gs pos="100000">
                      <a:srgbClr val="66ff33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000080">
                      <a:alpha val="50000"/>
                    </a:srgbClr>
                  </a:outerShdw>
                </a:effectLst>
                <a:latin typeface="黑体"/>
              </a:rPr>
              <a:t>切记不犯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ffff">
                      <a:alpha val="60392"/>
                    </a:srgbClr>
                  </a:gs>
                  <a:gs pos="100000">
                    <a:srgbClr val="66ff33"/>
                  </a:gs>
                </a:gsLst>
                <a:lin ang="5400000"/>
              </a:gradFill>
              <a:effectLst>
                <a:outerShdw dist="107932" dir="18900000" blurRad="0" rotWithShape="0">
                  <a:srgbClr val="000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0880" y="1371600"/>
            <a:ext cx="8229600" cy="2971800"/>
          </a:xfrm>
          <a:prstGeom prst="horizontalScroll">
            <a:avLst>
              <a:gd name="adj" fmla="val 12500"/>
            </a:avLst>
          </a:prstGeom>
          <a:solidFill>
            <a:srgbClr val="800080">
              <a:alpha val="5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828800" y="2209680"/>
            <a:ext cx="55627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同学说身边存在的安全隐患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45720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判断题 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．不带与体育课无关的物品，如别针、小刀等金属、硬物上体育课。                                                                          （     ）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．干粉灭火器用于扑救图书档案、珍贵设备、精密仪器、和其它一般物质的初起火灾。                                             （     ） 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．火灾逃跑时，遇到浓烟，应直立行走。                     （     ） 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．用煤气时，火被吹灭，不要马上关煤气。                 （     ） 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．如在室内发现煤气味，要立即开窗。                        （     ） 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．起火时，可以往身上浇水，以免引火烧身。             （     ） 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．游泳时千万不要在水中打闹，以免呛水或受伤。      （     ） 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．技巧练习要在海绵垫上进行。                                   （     ） </a:t>
            </a:r>
            <a:br>
              <a:rPr sz="2400"/>
            </a:b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．上体育课时，穿不穿运动衣和运动鞋无所谓。  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 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．郊游时发生突发事件，要镇定，服从老师指挥，尽快到安全地带。                                                                          （     ）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96080" y="510552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ffff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√</a:t>
            </a:r>
            <a:endParaRPr b="0" lang="en-US" sz="1800" spc="1" strike="noStrike">
              <a:ln w="50760">
                <a:solidFill>
                  <a:srgbClr val="ffff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772400" y="114300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ffff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√</a:t>
            </a:r>
            <a:endParaRPr b="0" lang="en-US" sz="1800" spc="1" strike="noStrike">
              <a:ln w="50760">
                <a:solidFill>
                  <a:srgbClr val="ffff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077320" y="1981080"/>
            <a:ext cx="466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×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077320" y="2362320"/>
            <a:ext cx="4665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×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077320" y="2743200"/>
            <a:ext cx="466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×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696080" y="297180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ffff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√</a:t>
            </a:r>
            <a:endParaRPr b="0" lang="en-US" sz="1800" spc="1" strike="noStrike">
              <a:ln w="50760">
                <a:solidFill>
                  <a:srgbClr val="ffff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696080" y="335268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ffff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√</a:t>
            </a:r>
            <a:endParaRPr b="0" lang="en-US" sz="1800" spc="1" strike="noStrike">
              <a:ln w="50760">
                <a:solidFill>
                  <a:srgbClr val="ffff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696080" y="373392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ffff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√</a:t>
            </a:r>
            <a:endParaRPr b="0" lang="en-US" sz="1800" spc="1" strike="noStrike">
              <a:ln w="50760">
                <a:solidFill>
                  <a:srgbClr val="ffff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696080" y="4114800"/>
            <a:ext cx="6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ffff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√</a:t>
            </a:r>
            <a:endParaRPr b="0" lang="en-US" sz="1800" spc="1" strike="noStrike">
              <a:ln w="50760">
                <a:solidFill>
                  <a:srgbClr val="ffff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8001000" y="4572000"/>
            <a:ext cx="466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×</a:t>
            </a:r>
            <a:endParaRPr b="1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2286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发生意外时的自我保护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29718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若在逃生的途中被推倒在地，失去平衡的话，要设法靠近墙壁，身体蜷成球状，面向墙壁，双手紧扣置于颈后，这样手指、背部和双腿可能受伤，但保护了最脆弱的部位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943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平时注意培养自我保护意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066680"/>
            <a:ext cx="8534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遭遇意外时，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一定要</a:t>
            </a:r>
            <a:r>
              <a:rPr b="1" lang="zh-CN" sz="4000" spc="-1" strike="noStrike">
                <a:solidFill>
                  <a:srgbClr val="b7e7ff"/>
                </a:solidFill>
                <a:latin typeface="华文彩云"/>
                <a:ea typeface="华文彩云"/>
              </a:rPr>
              <a:t>保持镇定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Times New Roman"/>
              </a:rPr>
              <a:t>不要盲目逃生，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只有保持冷静的情绪，理智应对，才能有序撤离危机现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75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75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75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75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7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7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9480" y="21337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在漫长的人生路中，总要有许多难以预料的事情。你是否注意到身边的危险。“防险之心不可无”。你是否知道注意安全，自救险情的重要性。恶魔总是来找无知的人。今天，通过班会，我们要为我们生命买一份保险，为我们的安全加一把锁吧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905120" y="609480"/>
            <a:ext cx="44193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班会目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3048120"/>
            <a:ext cx="8077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如果教室里发生地震你会怎么办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38280" y="762120"/>
            <a:ext cx="3962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讨论一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219320" y="2057400"/>
            <a:ext cx="70102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火灾来了怎么办？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724280" y="3505320"/>
            <a:ext cx="4419720" cy="335268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0" y="0"/>
            <a:ext cx="4724280" cy="3505320"/>
            <a:chOff x="0" y="0"/>
            <a:chExt cx="4724280" cy="3505320"/>
          </a:xfrm>
        </p:grpSpPr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7242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0" y="2743200"/>
              <a:ext cx="4495680" cy="685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52280" y="213372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家中一旦起火，不要惊慌失措，如果火势不大，应迅速利用家中备有的简易灭火器材，采取有效措施控制和扑灭火灾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724280" y="0"/>
            <a:ext cx="4419720" cy="3505320"/>
            <a:chOff x="4724280" y="0"/>
            <a:chExt cx="4419720" cy="3505320"/>
          </a:xfrm>
        </p:grpSpPr>
        <p:pic>
          <p:nvPicPr>
            <p:cNvPr id="162" name="" descr=""/>
            <p:cNvPicPr/>
            <p:nvPr/>
          </p:nvPicPr>
          <p:blipFill>
            <a:blip r:embed="rId4"/>
            <a:stretch/>
          </p:blipFill>
          <p:spPr>
            <a:xfrm>
              <a:off x="4724280" y="0"/>
              <a:ext cx="44197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876920" y="2514600"/>
              <a:ext cx="403848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724280" y="2133720"/>
            <a:ext cx="4419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发现火灾迅速拨打火警电话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119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。报警时要讲清详细地址、起火部位、着火物质、火势大小、报警人姓名及电话号码，并派人到路口迎候消防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3505320"/>
            <a:ext cx="4724280" cy="3352680"/>
            <a:chOff x="0" y="3505320"/>
            <a:chExt cx="4724280" cy="3352680"/>
          </a:xfrm>
        </p:grpSpPr>
        <p:pic>
          <p:nvPicPr>
            <p:cNvPr id="166" name="" descr=""/>
            <p:cNvPicPr/>
            <p:nvPr/>
          </p:nvPicPr>
          <p:blipFill>
            <a:blip r:embed="rId5"/>
            <a:stretch/>
          </p:blipFill>
          <p:spPr>
            <a:xfrm>
              <a:off x="0" y="3505320"/>
              <a:ext cx="472428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0" y="5638680"/>
              <a:ext cx="4724280" cy="1219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28600" y="5851440"/>
            <a:ext cx="396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家庭成员平时就要了解掌握火灾逃生的基本方法，熟悉几条逃生路线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37180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不要贪恋财物，逃命要紧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7242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0" y="0"/>
            <a:ext cx="4724280" cy="3429000"/>
            <a:chOff x="0" y="0"/>
            <a:chExt cx="4724280" cy="3429000"/>
          </a:xfrm>
        </p:grpSpPr>
        <p:pic>
          <p:nvPicPr>
            <p:cNvPr id="17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72428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0" y="2362320"/>
              <a:ext cx="4648320" cy="990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33520" y="2362320"/>
            <a:ext cx="3809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受到火势威胁时，要当机立断披上浸湿的衣物、被褥等向安全出口方向冲去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724280" y="0"/>
            <a:ext cx="4419720" cy="3429000"/>
            <a:chOff x="4724280" y="0"/>
            <a:chExt cx="4419720" cy="3429000"/>
          </a:xfrm>
        </p:grpSpPr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4724280" y="0"/>
              <a:ext cx="44197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029200" y="2438280"/>
              <a:ext cx="396252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105520" y="2514600"/>
            <a:ext cx="3886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穿过浓烟逃生时，要尽量使身体贴近地面，并用湿毛巾捂住口鼻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724280" y="3429000"/>
            <a:ext cx="4419720" cy="3429000"/>
            <a:chOff x="4724280" y="3429000"/>
            <a:chExt cx="4419720" cy="3429000"/>
          </a:xfrm>
        </p:grpSpPr>
        <p:pic>
          <p:nvPicPr>
            <p:cNvPr id="180" name="" descr=""/>
            <p:cNvPicPr/>
            <p:nvPr/>
          </p:nvPicPr>
          <p:blipFill>
            <a:blip r:embed="rId5"/>
            <a:stretch/>
          </p:blipFill>
          <p:spPr>
            <a:xfrm>
              <a:off x="4724280" y="3429000"/>
              <a:ext cx="441972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800600" y="5867280"/>
              <a:ext cx="4191120" cy="990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876920" y="5867280"/>
            <a:ext cx="4038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身上着火，千万不要奔跑，可就地打滚或用厚重的衣物压灭火苗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0"/>
            <a:ext cx="4819680" cy="3352680"/>
            <a:chOff x="0" y="0"/>
            <a:chExt cx="4819680" cy="3352680"/>
          </a:xfrm>
        </p:grpSpPr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81968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2133720"/>
              <a:ext cx="4800600" cy="12189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8600" y="2209680"/>
            <a:ext cx="41911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窗外着火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门已发烫时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千万不要开门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以防大火蹿入室内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.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要用浸湿的被褥、衣物等堵塞门窗缝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并泼水降温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800600" y="0"/>
            <a:ext cx="4343400" cy="6858000"/>
            <a:chOff x="4800600" y="0"/>
            <a:chExt cx="4343400" cy="6858000"/>
          </a:xfrm>
        </p:grpSpPr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4800600" y="0"/>
              <a:ext cx="4343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781680" y="0"/>
              <a:ext cx="2362320" cy="68580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781680" y="457200"/>
            <a:ext cx="2362320" cy="41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千万不要盲目跳楼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可利用疏散楼梯、阳台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落水管等逃生自救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也可用绳子或把床单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被套撕成条状连成绳索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紧栓在窗框、暖气管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铁栏杆等固定物上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用毛巾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布条等保护手心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顺绳滑下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或下到未着火的楼层脱离险境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0" y="3352680"/>
            <a:ext cx="4800600" cy="3505320"/>
            <a:chOff x="0" y="3352680"/>
            <a:chExt cx="4800600" cy="3505320"/>
          </a:xfrm>
        </p:grpSpPr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0" y="3352680"/>
              <a:ext cx="480060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0" y="5867280"/>
              <a:ext cx="4724280" cy="990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0" y="5851440"/>
            <a:ext cx="4800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若所有逃生线路被大火封锁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要立即退回室内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用打手电筒、挥舞衣物、呼叫等方式向窗外发送求救信号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,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等待救援</a:t>
            </a:r>
            <a:r>
              <a:rPr b="0" lang="zh-CN" sz="20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219320" y="2057400"/>
            <a:ext cx="72388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8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消防器材你会用吗？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0880" y="2666880"/>
            <a:ext cx="87631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闻到了煤气味……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762120" y="2666880"/>
            <a:ext cx="784836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069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ffff"/>
                </a:solidFill>
                <a:latin typeface="宋体"/>
              </a:rPr>
              <a:t>珍爱生命 共创明天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295280" y="2666880"/>
            <a:ext cx="66675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b7e7ff">
                    <a:alpha val="7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感谢参加</a:t>
            </a:r>
            <a:endParaRPr b="1" lang="en-US" sz="1800" spc="1" strike="noStrike">
              <a:ln w="0">
                <a:noFill/>
              </a:ln>
              <a:solidFill>
                <a:srgbClr val="b7e7ff">
                  <a:alpha val="7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352680" y="4572000"/>
            <a:ext cx="221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29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9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1680" y="1676520"/>
            <a:ext cx="6880320" cy="17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黑体"/>
                <a:ea typeface="黑体"/>
              </a:rPr>
              <a:t>一个小小的过错，有时会酿成无法挽回的损失，甚至令花季中的孩子过早凋谢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21340200">
            <a:off x="151920" y="228600"/>
            <a:ext cx="3218040" cy="1293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429000" y="4572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-152280" y="0"/>
            <a:ext cx="944856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05120" y="19051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d4d4d"/>
                </a:solidFill>
                <a:latin typeface="Times New Roman"/>
                <a:ea typeface="华文隶书"/>
              </a:rPr>
              <a:t>一、校园安全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5029200" y="2590920"/>
          <a:ext cx="3809880" cy="396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9200" y="2590920"/>
                    <a:ext cx="380988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600200" y="30492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不要在教室追逐玩耍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447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宋体"/>
              </a:rPr>
              <a:t>活动空间狭小、安全隐患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2514600"/>
          <a:ext cx="4038480" cy="4038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2514600"/>
                    <a:ext cx="40384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tebulb"/>
          <p:cNvSpPr/>
          <p:nvPr/>
        </p:nvSpPr>
        <p:spPr>
          <a:xfrm>
            <a:off x="914400" y="380880"/>
            <a:ext cx="457200" cy="762120"/>
          </a:xfrm>
          <a:prstGeom prst="pie">
            <a:avLst/>
          </a:prstGeom>
          <a:solidFill>
            <a:srgbClr val="b7e7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13:31Z</dcterms:modified>
  <cp:revision>18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