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hammer.wav" ContentType="audio/x-wav"/>
  <Override PartName="/ppt/media/image1.jpeg" ContentType="image/jpeg"/>
  <Override PartName="/ppt/media/image2.jpeg" ContentType="image/jpeg"/>
  <Override PartName="/ppt/media/applause.wav" ContentType="audio/x-wav"/>
  <Override PartName="/ppt/media/image6.jpeg" ContentType="image/jpeg"/>
  <Override PartName="/ppt/media/drumroll.wav" ContentType="audio/x-wav"/>
  <Override PartName="/ppt/media/image3.jpeg" ContentType="image/jpeg"/>
  <Override PartName="/ppt/media/image4.jpeg" ContentType="image/jpeg"/>
  <Override PartName="/ppt/media/chimes.wav" ContentType="audio/x-wav"/>
  <Override PartName="/ppt/media/wind.wav" ContentType="audio/x-wav"/>
  <Override PartName="/ppt/media/image7.jpeg" ContentType="image/jpeg"/>
  <Override PartName="/ppt/media/image5.jpeg" ContentType="image/jpeg"/>
  <Override PartName="/ppt/media/type.wav" ContentType="audio/x-wav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EE5-F8EA-4B0D-A8CA-7B12E666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F3D-F745-44CC-ACBA-C4493D89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371-36F9-411F-8248-433BA480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D1F-F40C-4F25-903F-6AE7EB99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3FB5D-A17B-40D3-B3C4-43366714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5BF6A-A8EA-44E0-92EF-1AFF7FE9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919D5-4EBA-46E5-B67E-46F6D876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16756-6B24-4F17-8F59-672ED32A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B7CD2-60E1-43C8-9F8A-37C3BE36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FE229-D44C-4D17-A532-FE345E4D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56C79-A93B-4483-AEFD-48BE6A1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6DC-62F0-496C-B20D-EBF56953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91BBA-F0B4-4198-BAA7-F3FCA91F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DF2E7-BAA8-421A-9D2C-D7E7957B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F4147-E365-4630-9B50-54927C49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CBF81-829C-4DDE-9883-9DA739EE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405DE-93D9-4CCD-AA07-21A31A79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8C4-D0A4-4C08-B3D4-DF0AE678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42B-CBB9-4DC5-878F-5D98ACDD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49E-1DFA-400A-8898-EC334CC6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919-D6D9-45E8-B2C1-00F8719D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37D-5227-4466-A96C-789D11E0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8B6-D9A9-4B02-91F5-2E880D1E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9D1-157A-434F-B0F3-E9FFCA44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102-27F1-479A-B670-A0A9C0ED89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6366-D600-4F36-9B0D-9A1A1796E3D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拒绝马路摊食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珍爱自身的健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915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马路餐桌一般没有防蚊蝇等防护设施，老鼠、蟑螂、蚊蝇等有害动物会直接污染食物，对就餐者健康危害极大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由于露天马路餐桌的从业人员未进行健康体检和卫生知识培训，他们有可能是痢疾、肝炎、肺结核等传染性疾病的患者，或是病毒携带者，很可能把疾病传播给就餐者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马路餐桌经营者最大限度追求经济利益，采购的食品原辅料来路不明，不符合《食品卫生法》中的索证要求，有可能是病死的畜禽肉、污染的水产品、农药超标的蔬菜，危害非常大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马路餐桌从业人员缺乏必要的食品卫生专业知识，加工食品时生熟交叉污染，对烧熟煮透等关键环节没有有效控制手段，食物中毒隐患非常高，食品安全无法保证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0920" y="34920"/>
            <a:ext cx="8642160" cy="67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88800"/>
            <a:ext cx="9540720" cy="6343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3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严格靠近马路小吃摊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爱护自己的身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马路摊食品现状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7591320" cy="5191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66600"/>
            <a:ext cx="8280360" cy="678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3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358920"/>
            <a:ext cx="9144000" cy="614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393840"/>
            <a:ext cx="8893080" cy="6246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危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卫生防疫部门：一些生产厂家放入食品袋中的塑料小玩具大多没有经过严格消毒，而且还涂有鲜艳的色彩，其涂料中含有毒性较强的金属离子化合物，容易污染食品。反复使用的油炸食品中含有致癌物质，是癌症的诱发因素。烤红薯使用的火炉都是由装过化学药品的废弃铁桶改装而成，在高温烘烤下，残留的化学物质会挥发并污染红薯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危害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露天制售食品时，会受到大量环境中如结核杆菌、贺氏、沙门氏菌等致病性微生物的威胁，加上汽车尾气、人流、风力将周围环境中的尘土、杂物等带起，致病性微生物和空气中的有毒有害物质完全被露天食物吸收，如果人们长期食用这些食品会造成传染性腹泻、癌症等疾病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0:11:00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05:00Z</dcterms:modified>
  <cp:revision>2</cp:revision>
  <dc:subject>主题班会课件(分28大类): http://shop62905894.taobao.com</dc:subject>
  <dc:title>主题班会课件(分28大类): http://shop62905894.taobao.com</dc:title>
</cp:coreProperties>
</file>