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DFE-4C85-49AB-B2B8-0580B88C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210-CCAE-4EB4-BCA0-527F744A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FF4-C8BF-454D-9F9A-C1AAD263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230-F137-4899-9BC1-11075E98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DC7A-6907-4524-A804-967D25EA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68CD-0736-45B0-B53B-9F98F58B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5122-2E15-4F8F-BF19-C12024F6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4231-A68D-48E5-B557-AD454A9A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F4E0-ADD4-4EBD-A1E2-D63DD221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89A3-43B1-4A05-8C72-991F8277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0E14-6A54-411B-B0A1-4D02FA7B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050-7FA3-4789-8D6A-FDC346C9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16A2-18BD-4E7F-A197-0A16A467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8BF5-4413-487B-AC8F-191CEFBF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F00D-F7B8-4BA0-B3E9-3072DAE9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DA7A-CF51-4D28-9B27-029288F1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4C55-EF50-4DB0-A0B7-E59094A9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0A85-C89C-4BC8-86A1-0647B442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3F9F-06C3-4384-819F-B581B361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F45D-618D-4885-B03D-B01D3D1F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624B1-E3A4-406D-993A-CC384530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989B-B6E9-4982-8EB9-60EED9A5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F03-C5A7-4245-BAA2-9E55D950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86B5-7CED-421F-B027-B52311AD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BF4F-8F4A-4493-ADF1-3C29C5B7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97FAB-ABD9-42B1-941E-DFDDAADF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43E1-8538-46F0-8BFC-EF65D4BC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C3E24-F02B-4FDA-ADF1-57951BF1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C09D-E68F-47D8-B430-03409B96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DC56-97B1-466D-BB43-C0D3B9C4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0081D-56F3-49EE-AE6B-981CCB4A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70C9F3-4F14-4BF1-8570-945C045C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76225-4AC1-4D4E-9F1F-67EF4CD1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C323-BC9D-49EE-A01F-2E1F7DE1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9F74E-E0FA-4C0B-BFB6-BDDC374C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B67A7-979C-4AD4-92C1-867A7F6D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30B67-7D1F-4DA1-83D2-510493E1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8C697-1123-4804-BB5C-943495FB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1FF32-238A-493B-936A-B41433AD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78B2B-D7CB-4BCC-A3DC-3C145A05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0103C3-54E4-439B-94C4-CC82A4A2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B4660-A82A-4135-9A7A-19A61BCA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B803F8-D01D-4D87-A680-F219DA4C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1241C-4C3E-44E1-A79F-6E415C3C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66D-53EB-447A-BFB7-12E25D3E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8249-0354-45A7-843A-FB9FC803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19B02-B67F-4C48-9E88-EDF3E142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483CE-01D9-47EE-9C3A-80EC566A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1B6CD-E5C6-440E-98EF-CEBC7FB8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9D826-20F3-44E7-AE75-732F274A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FF6AA-E82A-4F44-8B9F-59D2F585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BBD4-37A9-478C-AE55-4FBCAB08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03667-7B00-4EC1-9870-85A2E0FA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EA8E2-B410-4450-8148-F0E3F707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FEAF4-C28D-4629-9552-7F990490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1AE-8E91-46E9-AE54-CEBF0022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EC4EA-F8A2-4ED0-88A3-6821BA0F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3DE84-1668-456A-84BA-2292BD0D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5343C-94C3-4FC2-9295-7C50122F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0DE3E-CB24-4371-B57B-1CC602E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8155D-C3F3-4003-A545-D34D0576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12B0F-C69C-4CA6-B8D1-6B091186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034F9-1324-4066-A56F-C028BD5F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59BC5-844C-44B6-8A22-F82D4334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8C37C-5600-4557-B27E-01F9928F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E4D2A-2EB7-4310-A70B-2630AC77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8EE-C247-4B75-9AF4-4C893B85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15997-9CE0-42F1-A02E-04735915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58381-82E2-4D40-B32D-5BAE4F6B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8867-38B3-468E-80DD-A2D229CD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AD2A6-A692-4091-A73C-3930BEDC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4C782-5970-4C14-B1C4-AEE5AFC3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5A47C-2FC8-441C-8287-90902E41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D4E40-1D87-441B-B55F-C6A53181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E165B-B7EA-49E5-929E-D375BC48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1AEE1-71B7-434A-BCEA-0279773F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5B11E-87F9-4D98-90A9-AFBFAA00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6F8-E8C4-47F8-B4FA-0D62C773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0B3F1-0143-4BD3-AC77-770F4E1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E8BF4-AFCF-4F25-A8AA-EB5523AC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8216F-49B0-4D95-BFCC-CBD70E28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F429C-BD6B-4966-9482-AFFC55EA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78205-9E56-4B9C-B1BB-E30FC8F9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5AF48-1497-44E3-869D-2ED210B5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FE590-B5A4-4D6E-A453-6F7AD733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EC09A-EC04-4BD7-BD5E-9610FF47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A3BB2-55A0-4CDE-A4F6-9B6FAD1B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1932B-5AFE-49C7-A61A-CF6F00D8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2B2-B8C2-498E-B94E-1E29FC20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528AA-4BB3-44A2-B103-79FC27C7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E079B-C515-43AB-9AB6-A7A00392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15D4C-685F-4F1D-B40A-7F5B4EB1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30763-ADCA-4A6F-B083-0A8F7550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1B1EC-D0F3-418C-BC41-7C7D92E3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8B3D6-7B92-4EBC-883E-B6BA1571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2E349-0CFB-4015-85D7-8B142EA54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D478-18F4-426E-BB30-48A92A06163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D8B9-C429-4523-AB6D-29F69BDDCF2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3484-F808-4CD3-AC4C-5C0388691D4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4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0FD3-A190-4E2C-98EA-FE3C5774B27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0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0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0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77E3-DA9D-4FEA-BFFA-AF0C4B4D5CC0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7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8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3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5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6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6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7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7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8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8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9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17FF-3D8F-452E-848D-C62140C0EDBB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9697-E369-4D8B-BCD4-22ADC7F504D5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012D-D465-4D40-9BCF-37C62D39EF70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zhongguocz/album/item/d10ad18bd29ac401c8fc7add.html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295280" y="4495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榕江一中    石庆慧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762120" y="990720"/>
            <a:ext cx="74674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当灾难突如其来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5334120" y="5334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汶川县映秀镇的震后景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602680" y="304920"/>
            <a:ext cx="1896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地震了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我们美丽的家园成为废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761760" y="6248160"/>
            <a:ext cx="4724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ahoma"/>
              </a:rPr>
              <a:t>被地震摧毁的村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7058160" cy="506268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地震了，我们美丽的家园成为废墟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ffff"/>
                </a:solidFill>
                <a:latin typeface="Tahoma"/>
              </a:rPr>
              <a:t>地震了，我们美丽的家园成为废墟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3" name="" descr="图文：被震裂的道路"/>
          <p:cNvPicPr/>
          <p:nvPr/>
        </p:nvPicPr>
        <p:blipFill>
          <a:blip r:embed="rId2"/>
          <a:stretch/>
        </p:blipFill>
        <p:spPr>
          <a:xfrm>
            <a:off x="838080" y="1143000"/>
            <a:ext cx="7543800" cy="50626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1143000" y="6172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被震裂的道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ahoma"/>
              </a:rPr>
              <a:t>地震后，我们无家可归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6" name="" descr="图文：四川北川地震灾区一位老人坐在垮塌房屋旁"/>
          <p:cNvPicPr/>
          <p:nvPr/>
        </p:nvPicPr>
        <p:blipFill>
          <a:blip r:embed="rId2"/>
          <a:stretch/>
        </p:blipFill>
        <p:spPr>
          <a:xfrm>
            <a:off x="1143000" y="1066680"/>
            <a:ext cx="6629400" cy="459108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838080" y="5638680"/>
            <a:ext cx="74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记者从四川省绵阳市抗震救灾指挥部了解到，受灾特别严重的北川县老县城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80%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、新县城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60%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以上建筑物垮塌，县城周边发生大面积山体滑坡。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/>
          </p:nvPr>
        </p:nvSpPr>
        <p:spPr>
          <a:xfrm>
            <a:off x="4495320" y="586692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再看一眼曾经的家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ahoma"/>
              </a:rPr>
              <a:t>地震后，我们无家可归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0" name="" descr="图文：灾民在看成为废墟的家园"/>
          <p:cNvPicPr/>
          <p:nvPr/>
        </p:nvPicPr>
        <p:blipFill>
          <a:blip r:embed="rId2"/>
          <a:stretch/>
        </p:blipFill>
        <p:spPr>
          <a:xfrm>
            <a:off x="228600" y="990720"/>
            <a:ext cx="7086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ece32"/>
                </a:solidFill>
                <a:latin typeface="Tahoma"/>
              </a:rPr>
              <a:t>地震吞噬了多少美好的生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62120" y="6019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都江堰聚源中学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300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多名学生被掩埋在废墟之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6858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5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acc0a"/>
                </a:solidFill>
                <a:latin typeface="Tahoma"/>
              </a:rPr>
              <a:t>地震吞噬了多少美好的生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772400" cy="517356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北川曲山小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0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多名师生仅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人生还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457200" y="6248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地震了，我的同学就在我的身边死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acc0a"/>
                </a:solidFill>
                <a:latin typeface="Tahoma"/>
              </a:rPr>
              <a:t>地震吞噬了多少美好的生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1532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ece32"/>
                </a:solidFill>
                <a:latin typeface="Tahoma"/>
              </a:rPr>
              <a:t>地震吞噬了多少美好的生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6324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留下你的脚步，送孩子们一程吧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地震前</a:t>
            </a: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24</a:t>
            </a: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小时的北川中学在这一时刻定格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7696080" cy="54514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143000" y="64008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6324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昨天，他们和我们一样笑靥如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008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日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，我坐在电脑桌前制作课件，忽然，我的身体抖动起来，我怀疑我在突然之间遭遇了某种怪病，心里掠过一丝恐慌。可是，我立刻发现颤抖的不只我，还有地板，接着，电脑在晃动，窗玻璃哗哗作响，文件柜也跟着摇晃。其他同事也都惊觉了，疑惑地望向窗外：难道刮了极大的风吗？还是这楼的质量出了问题？主任果断决定：迅速撤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走出办公楼，楼前的空坪上已经挤满了学生，看来教学楼也在摇晃。同学们叽叽喳喳，有的莫名其妙，有的满脸兴奋，还有许多学生傍在楼道上看着下边颤动的人头嘻笑。几分钟之后，同学们返回教室上课，一切又归于平静，仿佛刚才只是一个幻觉、一个闹剧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有个同事说，肯定附近哪儿地震了。地震？这个遥远的词会让我们亲身体验吗？不到半个小时，网上就发布了四川汶川县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7.8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级地震的消息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当灾难突如其来，</a:t>
            </a:r>
            <a:br>
              <a:rPr sz="4400"/>
            </a:b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             我们应该如何面对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地震前</a:t>
            </a: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24</a:t>
            </a: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小时的北川中学在这一时刻定格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1143000" y="64008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6324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昨天，他们和我们一样笑靥如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6960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地震前</a:t>
            </a: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24</a:t>
            </a: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小时的北川中学在这一时刻定格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1143000" y="64008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64008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昨天，他们和我们生龙活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79246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地震前</a:t>
            </a: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24</a:t>
            </a: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小时的北川中学在这一时刻定格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1143000" y="64008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64008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昨天，他们和我们生龙活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78487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838080" y="60357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今天，他们却躺在冰冷的废墟之中，永远消失了笑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38080" y="3808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" y="7621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地震后的北川中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838080" y="838080"/>
            <a:ext cx="701064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1371600" y="990720"/>
            <a:ext cx="6400800" cy="504504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1066680" y="60357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今天，他们却躺在冰冷的废墟之中，永远消失了笑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38080" y="3808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" y="7621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地震后的北川中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6553080" cy="49305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地震后的北川中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1143000" y="603576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今天，他们却躺在冰冷的废墟之中，永远消失了笑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920" y="2362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让我们为那些在灾难中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逝去的生命默哀一分钟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bfbad"/>
                </a:solidFill>
                <a:latin typeface="Tahoma"/>
              </a:rPr>
              <a:t>你的疼痛是我的悲伤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724280" y="4419720"/>
            <a:ext cx="403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51055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bfbad"/>
                </a:solidFill>
                <a:latin typeface="Tahoma"/>
              </a:rPr>
              <a:t>你的疼痛是我的悲伤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5181120"/>
            <a:ext cx="4114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6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岁的男子陈坚在废墟下等待援救。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日晚上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时，经过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小时的营救他被救出，但由于伤势严重没能活下来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/>
          <p:nvPr/>
        </p:nvSpPr>
        <p:spPr>
          <a:xfrm>
            <a:off x="4724280" y="4419720"/>
            <a:ext cx="403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3"/>
          <a:stretch/>
        </p:blipFill>
        <p:spPr>
          <a:xfrm>
            <a:off x="4902120" y="507960"/>
            <a:ext cx="424188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bfbad"/>
                </a:solidFill>
                <a:latin typeface="Tahoma"/>
              </a:rPr>
              <a:t>你的悲伤是我的疼痛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562720" y="243792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失去父母的婴孩在救护人员怀里哭泣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5562720" y="3824280"/>
            <a:ext cx="3581280" cy="246240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3"/>
          <a:stretch/>
        </p:blipFill>
        <p:spPr>
          <a:xfrm>
            <a:off x="5486400" y="0"/>
            <a:ext cx="3505320" cy="240984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4"/>
          <a:stretch/>
        </p:blipFill>
        <p:spPr>
          <a:xfrm>
            <a:off x="0" y="762120"/>
            <a:ext cx="3733920" cy="25668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3432240" y="914400"/>
            <a:ext cx="1400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痛失孩子的父母相拥着撕心裂肺地哭喊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5"/>
          <a:stretch/>
        </p:blipFill>
        <p:spPr>
          <a:xfrm>
            <a:off x="0" y="381492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0" y="649116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穿越灾难的亲人在废墟上抱头痛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29200" y="6324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心有余悸的幸存者眼里泛着酸楚的泪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6"/>
          <a:stretch/>
        </p:blipFill>
        <p:spPr>
          <a:xfrm>
            <a:off x="3276720" y="2905200"/>
            <a:ext cx="2514600" cy="172872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3581280" y="4724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播报灾情的主持人也不禁潸然泪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85800"/>
            <a:ext cx="6477120" cy="5419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6781680" y="1600200"/>
            <a:ext cx="213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2008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时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28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分，四川汶川县发生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7.8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级地震。截止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时，死亡人数已达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2888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余人，受伤人数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98347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余人，估计遇难人数将在五万人以上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baf4"/>
                </a:solidFill>
                <a:latin typeface="Tahoma"/>
              </a:rPr>
              <a:t>抱住你的瞬间我泪流满面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3505320" cy="23335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6497640" y="2895480"/>
            <a:ext cx="2646360" cy="396252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4"/>
          <a:stretch/>
        </p:blipFill>
        <p:spPr>
          <a:xfrm>
            <a:off x="304920" y="4016520"/>
            <a:ext cx="3733560" cy="268920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5"/>
          <a:stretch/>
        </p:blipFill>
        <p:spPr>
          <a:xfrm>
            <a:off x="5638680" y="0"/>
            <a:ext cx="3505320" cy="246060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6"/>
          <a:stretch/>
        </p:blipFill>
        <p:spPr>
          <a:xfrm>
            <a:off x="2895480" y="16002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4038480" y="4724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日，国务院总理温家宝抵达地震灾区四川省都江堰市，指挥抗震救灾工作。这是温家宝在安慰一位受灾群众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这些时刻，生命突显着神奇的光芒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震中汶川县映秀小学倒塌的废墟中，有两位老师在被挖出来的时候，已经没有了呼吸，但是，在他们的臂弯之下，四名小学生却活了下来。这两位老师，在生命的最后一刻，用自己的身体，挡住了垮塌的砖石，保护了自己的学生。请费神记住这两位老师的名字，他们一个叫张来亚，一个叫联芳，两个最普通的乡村教师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2286000" y="1295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ahoma"/>
              </a:rPr>
              <a:t>在震中，中这样两位老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baf4"/>
                </a:solidFill>
                <a:latin typeface="Tahoma"/>
              </a:rPr>
              <a:t>三位女教师生命最后时刻用躯体护住女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-360" y="15228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d91"/>
                </a:solidFill>
                <a:latin typeface="Tahoma"/>
              </a:rPr>
              <a:t>这些时刻，生命突显着神奇的光芒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5" name="" descr="三位女教师生命最后时刻用躯体护住女孩"/>
          <p:cNvPicPr/>
          <p:nvPr/>
        </p:nvPicPr>
        <p:blipFill>
          <a:blip r:embed="rId2"/>
          <a:stretch/>
        </p:blipFill>
        <p:spPr>
          <a:xfrm>
            <a:off x="304920" y="2286000"/>
            <a:ext cx="4286160" cy="318132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4648320" y="2019240"/>
            <a:ext cx="419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当两个孩子被救出来后，战士被眼前的场景惊呆了——在孩子身边，竟紧紧地围着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个雕像般凝固的女老师。她们没有下意识地自我保护动作，而全伸着手臂。显然，她们在生命最后的时刻，用自己的躯体保护住了孩子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团政委时天聃站在废墟前热泪盈眶地对战士们说：面对这样的生命，面对这样的高尚，大家明白什么叫舍生忘死了吗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-2667240" y="1752120"/>
            <a:ext cx="6019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fec8"/>
                </a:solidFill>
                <a:latin typeface="Tahoma"/>
              </a:rPr>
              <a:t>这些时刻，生命突显着神奇的光芒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2400480"/>
            <a:ext cx="3200400" cy="44575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0" y="1447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一个母亲双膝跪地，以匍匐的身姿为她的孩子设置了一只承载生命的摇篮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809880" y="431640"/>
            <a:ext cx="533412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抢救人员发现她的时候，她已经死了，是被垮塌下来的房子压死的，透过那一堆废墟的的间隙可以看到她死亡的姿势，双膝跪着，整个上身向前匍匐着，双手扶着地支撑着身体，有些象古人行跪拜礼，只是身体被压的变形了，看上去有些诡异。救援人员从废墟的空隙伸手进去确认了她已经死亡，又冲着废墟喊了几声，用撬棍在在砖头上敲了几下，里面没有任何回应。当人群走到下一个建筑物的时候，救援队长忽然往回跑，边跑边喊“快过来”。他又来到她的尸体前，费力的把手伸进女人的身子底下摸索，他摸了几下高声的喊“有人，有个孩子 ，还活着”。 经过一番努力，人们小心的把挡着她的废墟清理开，在她的身体下面躺着她的孩子，包在一个红色带黄花的小被子里，大概有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个月大，因为母亲身体庇护着，他毫发未伤，抱出来的时候，他还安静的睡着，他熟睡的脸让所有在场的人感到很温暖。 随行的医生过来解开被子准备做些检查，发现有一部手机塞在被子里，医生下意识的看了下手机屏幕，发现屏幕上是一条已经写好的短信“亲爱的宝贝，如果你能活着，一定要记住妈妈爱你！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fec8"/>
                </a:solidFill>
                <a:latin typeface="Tahoma"/>
              </a:rPr>
              <a:t>这些时刻，</a:t>
            </a:r>
            <a:br>
              <a:rPr sz="3200"/>
            </a:br>
            <a:r>
              <a:rPr b="1" lang="zh-CN" sz="3200" spc="-1" strike="noStrike">
                <a:solidFill>
                  <a:srgbClr val="9cfec8"/>
                </a:solidFill>
                <a:latin typeface="Tahoma"/>
              </a:rPr>
              <a:t>生命突显着神奇的光芒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733920" cy="52293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4114800" y="36504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在一所学校的救援现场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片一片的废墟，到处是哭喊的声音，救援队发了疯一样的救人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学校的主教学楼坍塌了大半，当时正在上课，几乎有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00</a:t>
            </a: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多个孩子被压在了下面。然而就在抢救到最关键的时候，突然教学楼的废墟因为余震和机吊操作发生了移动，随时有可能发生再次坍塌，再进入废墟救援十分的危险，几乎等于送死，当时的消防指挥下了死命令，让钻入废墟的人马上撤出来，要等到坍塌稳定后再进入，然而此时，几个刚才废墟出来的战士大叫又发现了孩子。  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　　几个战士听见了就不管了，转头又要往里钻，这时坍塌就发生了，一块巨大的混凝土块眼看就在往下陷，那几个往里转的战士马上给其他的战士死死拖住，两帮人在上面拉扯，最后废墟上的战士们被人拖到了安全地带，一个刚从废墟中带出了一个孩子的战士就跪了下来大哭，对拖着他的人说你们让我再去救一个，求求你们让我再去救一个！我还能再救一个！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ff"/>
                </a:solidFill>
                <a:latin typeface="Tahoma"/>
              </a:rPr>
              <a:t>生命的奇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6ecc"/>
                </a:solidFill>
                <a:latin typeface="Tahoma"/>
              </a:rPr>
              <a:t>为了生命，他们不得不锯掉双腿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7" name="" descr="图文：女学生截肢后被营救"/>
          <p:cNvPicPr/>
          <p:nvPr/>
        </p:nvPicPr>
        <p:blipFill>
          <a:blip r:embed="rId2"/>
          <a:stretch/>
        </p:blipFill>
        <p:spPr>
          <a:xfrm>
            <a:off x="0" y="1676520"/>
            <a:ext cx="5238720" cy="34956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228600" y="5334120"/>
            <a:ext cx="41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日上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5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时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绵竹市汉旺镇东汽中学的抢救现场，在地震后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68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小时，女学生杨柳在截肢后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62720" y="1828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一个女孩说：叔叔，别锯我的腿，我哥哥是残废，我将来还要挣钱养我的父母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34120" y="32004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一个男子必须锯断一只腿才能获救，但是由于身体虚弱打麻药会有失去生命的危险，在救护人员不忍下手时，他说，不怕，我自己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86400" y="525780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妻子的尸体在他身下腐烂，而稍微移动不当，整栋楼都可能坍塌，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46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岁男子被困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29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小时后截肢保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9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5334120" cy="338940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491040" y="533412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3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岁女工被埋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124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小时生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74a5"/>
                </a:solidFill>
                <a:latin typeface="Tahoma"/>
              </a:rPr>
              <a:t>为了生命，他们在废墟之下与死神搏斗</a:t>
            </a:r>
            <a:r>
              <a:rPr b="1" lang="zh-CN" sz="2800" spc="-1" strike="noStrike">
                <a:solidFill>
                  <a:srgbClr val="f474a5"/>
                </a:solidFill>
                <a:latin typeface="Tahoma"/>
              </a:rPr>
              <a:t>100</a:t>
            </a:r>
            <a:r>
              <a:rPr b="1" lang="zh-CN" sz="2800" spc="-1" strike="noStrike">
                <a:solidFill>
                  <a:srgbClr val="f474a5"/>
                </a:solidFill>
                <a:latin typeface="Tahoma"/>
              </a:rPr>
              <a:t>多个小时．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5" name=""/>
          <p:cNvSpPr/>
          <p:nvPr/>
        </p:nvSpPr>
        <p:spPr>
          <a:xfrm>
            <a:off x="5562720" y="35038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8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时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分，救援人员从北川县医院废墟中救出幸存者唐雄，从被困到救出已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39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小时。他神志清醒，只有些皮外伤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095880" y="12193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位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6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岁老人被困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3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个小时后由俄罗斯救援队成功救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791320" y="5410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男子在被困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46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小时后成功获救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5257440" y="0"/>
            <a:ext cx="3886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74a5"/>
                </a:solidFill>
                <a:latin typeface="Tahoma"/>
              </a:rPr>
              <a:t>为了生命，他们把双手当作了挖掘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-360" y="60955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Tahoma"/>
              </a:rPr>
              <a:t>为了生命…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22716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74a5"/>
                </a:solidFill>
                <a:latin typeface="Tahoma"/>
              </a:rPr>
              <a:t>为了生命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474a5"/>
                </a:solidFill>
                <a:latin typeface="Tahoma"/>
              </a:rPr>
              <a:t>他们连续奋战</a:t>
            </a:r>
            <a:r>
              <a:rPr b="1" lang="zh-CN" sz="2400" spc="-1" strike="noStrike">
                <a:solidFill>
                  <a:srgbClr val="f474a5"/>
                </a:solidFill>
                <a:latin typeface="Tahoma"/>
              </a:rPr>
              <a:t>100</a:t>
            </a:r>
            <a:r>
              <a:rPr b="1" lang="zh-CN" sz="2400" spc="-1" strike="noStrike">
                <a:solidFill>
                  <a:srgbClr val="f474a5"/>
                </a:solidFill>
                <a:latin typeface="Tahoma"/>
              </a:rPr>
              <a:t>多个小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57400" y="4922640"/>
            <a:ext cx="27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只要有一线希望，我们就尽百倍努力！这是生命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号召！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257800" y="1676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灾难突如其来，在绵竹北方中心小学的建筑残骸中，一个幸运的孩子从死神的魔掌中逃出，而赐予她第二次生命的，不是别人，正是用双手不停挖了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个小时的父亲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4762440" cy="317196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4857840" y="3724200"/>
            <a:ext cx="42861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baf4"/>
                </a:solidFill>
                <a:latin typeface="Tahoma"/>
              </a:rPr>
              <a:t>灾难无情，人间有爱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温总理发话：需要多少人力就调动多少人力，需要多少物资就运送多少物资。救死扶伤的医疗队来了，鱼水情深的子弟兵来了，自发组织的人民大众来了。人们纷纷卷起袖管，献出自己宝贵的血液；人们纷纷慷慨解囊，奉上自己的一片赤诚爱心。全国有爱心的人们都在行动，全球有爱心的人们都在行动。每天，捐助榜上都会增加无数个名字，那些不断上升的捐资的数目让人感到无比温暖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9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2b5fd"/>
                </a:solidFill>
                <a:latin typeface="Tahoma"/>
              </a:rPr>
              <a:t>截至</a:t>
            </a:r>
            <a:r>
              <a:rPr b="1" lang="zh-CN" sz="4000" spc="-1" strike="noStrike">
                <a:solidFill>
                  <a:srgbClr val="e2b5fd"/>
                </a:solidFill>
                <a:latin typeface="Tahoma"/>
              </a:rPr>
              <a:t>17</a:t>
            </a:r>
            <a:r>
              <a:rPr b="1" lang="zh-CN" sz="4000" spc="-1" strike="noStrike">
                <a:solidFill>
                  <a:srgbClr val="e2b5fd"/>
                </a:solidFill>
                <a:latin typeface="Tahoma"/>
              </a:rPr>
              <a:t>日</a:t>
            </a:r>
            <a:r>
              <a:rPr b="1" lang="zh-CN" sz="4000" spc="-1" strike="noStrike">
                <a:solidFill>
                  <a:srgbClr val="e2b5fd"/>
                </a:solidFill>
                <a:latin typeface="Tahoma"/>
              </a:rPr>
              <a:t>13</a:t>
            </a:r>
            <a:r>
              <a:rPr b="1" lang="zh-CN" sz="4000" spc="-1" strike="noStrike">
                <a:solidFill>
                  <a:srgbClr val="e2b5fd"/>
                </a:solidFill>
                <a:latin typeface="Tahoma"/>
              </a:rPr>
              <a:t>时全国共接收捐赠款物</a:t>
            </a:r>
            <a:r>
              <a:rPr b="1" lang="zh-CN" sz="4000" spc="-1" strike="noStrike">
                <a:solidFill>
                  <a:srgbClr val="e2b5fd"/>
                </a:solidFill>
                <a:latin typeface="Tahoma"/>
              </a:rPr>
              <a:t>60.23</a:t>
            </a:r>
            <a:r>
              <a:rPr b="1" lang="zh-CN" sz="4000" spc="-1" strike="noStrike">
                <a:solidFill>
                  <a:srgbClr val="e2b5fd"/>
                </a:solidFill>
                <a:latin typeface="Tahoma"/>
              </a:rPr>
              <a:t>亿元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-22860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" y="1600200"/>
            <a:ext cx="822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据民政部统计，截至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17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日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13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时，全国共接收国内外社会各界捐赠款物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含物折款，下同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)60.23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，其中捐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51.83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，物资折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8.4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　　接收国内捐助款物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49.05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捐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41.85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，物资折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7.2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。其中，民政部接收捐款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1.22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；中国红十字会总会接收捐赠款物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11.55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捐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8.5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、物资折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3.05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；中华慈善总会接收捐赠款物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4.5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捐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4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、物资折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0.5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；各省市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包括各省市政府、部分企业及有关社会团体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拟向受灾省份捐助款物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31.78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其中捐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28.13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、物资折价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3.65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　　 国外和港澳台地区捐助部分款物折合人民币共计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11.18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人民币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捐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9.98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、物资折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1.2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，其中港澳台地区捐赠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5.58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、物资折款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0.22</a:t>
            </a:r>
            <a:r>
              <a:rPr b="1" lang="zh-CN" sz="2400" spc="-1" strike="noStrike">
                <a:solidFill>
                  <a:srgbClr val="f6fca6"/>
                </a:solidFill>
                <a:latin typeface="Tahoma"/>
              </a:rPr>
              <a:t>亿元。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9cfec8"/>
                </a:solidFill>
                <a:latin typeface="Tahoma"/>
              </a:rPr>
              <a:t>地震前美丽的汶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4724280" y="762120"/>
            <a:ext cx="4267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一名约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6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岁的老人来到了募捐点，他头发花白，穿一件蓝色衣服，胸前的补丁起码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个，背后的则不计其数，衣服下摆已经破烂，脚上穿一双破烂的凉鞋，手中还拿着一个讨饭碗。老人端着碗，在宣传牌前止步，看了一会，哆哆嗦嗦地从口袋里掏出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元钱，放进募捐箱，然后步履艰难地离开了。下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点，老人再一次出现，这次，他掏出了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00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元，塞进了募捐箱。工作人员问他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为什么那么艰难却要来两次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?“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我上午就想多捐一点，但钱太零碎了全是讨来的一毛两毛还有一些硬币，不好意思拿出来，特地利用中午凑了凑，接着到银行，将全身的零钱兑换出了一张一百元。 ”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0" y="15228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baf4"/>
                </a:solidFill>
                <a:latin typeface="Tahoma"/>
              </a:rPr>
              <a:t>灾难无情，人间有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4572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6b80"/>
                </a:solidFill>
                <a:latin typeface="Tahoma"/>
              </a:rPr>
              <a:t>让我们为灾区人民祈祷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5181480" y="3949560"/>
            <a:ext cx="3962520" cy="29084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4495680" cy="29988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4"/>
          <a:stretch/>
        </p:blipFill>
        <p:spPr>
          <a:xfrm>
            <a:off x="4876920" y="762120"/>
            <a:ext cx="3733560" cy="251136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4800600" y="33526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市民用蜡烛摆成心形为灾区人民祈祷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7200" y="533412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五月十七日，在汶川大地震中垮塌的灌县聚源中学废墟上，生存的同学把白花系在扭曲的教学楼钢筋上，沉痛悼念失去生命的五十多位师生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092600" y="454644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小手托起对灾区的祝福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b898"/>
                </a:solidFill>
                <a:latin typeface="Tahoma"/>
              </a:rPr>
              <a:t>灾难之后，我们应该…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3651120" cy="493380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855000" y="61722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获救小朋友向解放军战士行队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4286160" y="2286000"/>
            <a:ext cx="4857840" cy="354168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5334120" y="59119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80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岁受灾村民手捧谢字感谢各界救援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9144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懂得感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410080" y="15238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懂得珍惜生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eb898"/>
                </a:solidFill>
                <a:latin typeface="Tahoma"/>
              </a:rPr>
              <a:t>灾难之后，我们应该…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地震之后，一个朋友说，生死如此，人生还有什么不如意的。是啊，灾难之后，我们应该更加懂得珍惜生命。生命充满变数，说不定哪个时候什么灾难又会突如其来地向我们袭击，在我们还能够去为一切未知作努力的时候，就应当不惜汗水不惜智慧地尽可能让自己强大，在我们还能够真切的感受生命存在着的时候，就应当珍惜每一个时刻尽量让生命精彩；在我们还在这个世界上自由存活的时候，就应当尽早展现我们生命的价值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Tahoma"/>
              </a:rPr>
              <a:t>心灵的叩问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　　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我亲爱的同学们，假如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日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4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时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2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分的时候，你们所感觉到的不是从汶川那里传过来的余震，而是我们的教学楼在瞬间轰塌，这些事发生在你们的身上，你们会怎么样呢？你有足够的勇气足够的坚强来面对吗？你能够没有遗憾的突然离去吗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　　　　庆幸我们还活着吧，庆幸我们还有时间去弥补我们曾留下的遗憾，让幸存下来的我们在灾难之后保持生命的清醒。灾难之后，我们有太多的问题值得思考；灾难之后，我们有太多的东西应该去珍惜；灾难之后，我们有太多的事情需要去完成；灾难之后，请把你的生命当作两个人的，一个是于灾难中逝去的生命，一个是你自己原来的生命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所以，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活着的我们，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要加倍地努力。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献给不屈的生命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4800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大地在颤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天空在哭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五月十二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魔鬼在地层中抖动着它的身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嘶吼着，向人间展现它残忍的暴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只在那短短的一瞬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它把我们的亲人深深掩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它把我们的家园夷为平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它阻隔了道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它切断了亲人们的消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这一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汶川在哭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四川在哭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全中国在哭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勤劳善良的巴蜀儿女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我的姐妹兄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你们要坚持，不要放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ahoma"/>
              </a:rPr>
              <a:t>全国的人民与你们在一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4267080" y="0"/>
            <a:ext cx="5105520" cy="70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你们的痛苦就是我们的痛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你们的亲人就是我们的亲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此时，我们都是汶川人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坚持就是胜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我的父老乡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我们在和时间赛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我们在和死神角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为的是那些在瓦砾下每一个幸存的生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坚持就是胜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我的父老乡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不要放弃活下去的勇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你是否看见我伸出的手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我已经听见了你微弱的呼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只要有一线生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我们就要百倍的努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这是我们的宣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我们决不放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灾情就是集结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灾情就是动员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ff"/>
                </a:solidFill>
                <a:latin typeface="Tahoma"/>
              </a:rPr>
              <a:t>　　这号令在全中国每一个地方响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　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609480" y="762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-380880" y="0"/>
            <a:ext cx="57150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无论是天涯海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还是塞北极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无论是宝岛台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还是高原雪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更有香江民众和濠江儿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还有千千万万的海外赤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此时此刻，我们万众一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看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救死扶伤的医疗队来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看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鱼水情深的子弟兵来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看呐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血肉相连的共产党来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看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与人民同甘共苦的温总理也来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他老人家眼里闪动的泪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打湿了全国人民的脸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那一刻，神州各地泪如雨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悲痛的眼泪还没有擦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热血已在我们胸腔沸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无情的灾难可以摧毁我们的身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但是，再大的压力也压不弯我们的脊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4fc72"/>
                </a:solidFill>
                <a:latin typeface="Tahoma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14800" y="193680"/>
            <a:ext cx="5181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我们不怕，我们不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一方有难，八方支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我们不怕，我们不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万众一心，众志成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我们都是华夏儿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我们都是炎黄子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我们血管里流淌的是祖先给我们不屈的生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我们胸腔里沸腾的是我们顽强的灵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伸出我的手，拉住你的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无论是地裂山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伸出你的手，拉住我的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无论是暴雪狂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只要我们心手相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4fc72"/>
                </a:solidFill>
                <a:latin typeface="Tahoma"/>
              </a:rPr>
              <a:t>所有的灾难我们都有信心能够战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632448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风萧萧兮 岷水寒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壮士入川兮，得胜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还有无数的志士仁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已化成滚滚的洪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向着巴蜀大地涌来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有他们无私的援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就有我们必胜的信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虽然现在还是急风暴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虽然现在还是路途艰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但是，你可否看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希望的太阳正在升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因为，我们正在用我们的双手把真情传</a:t>
            </a:r>
            <a:r>
              <a:rPr b="0" lang="zh-CN" sz="2400" spc="-1" strike="noStrike">
                <a:solidFill>
                  <a:srgbClr val="00ffff"/>
                </a:solidFill>
                <a:latin typeface="Tahoma"/>
              </a:rPr>
              <a:t>递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2971800" y="0"/>
            <a:ext cx="6400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痛苦不会是永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灾难很快会过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擦干眼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别再叹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只有我们顽强的活下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才能告慰那些在灾难中故去的亲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只有我们重新建好自己的家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才是对抗灾难最后的胜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胜利，永远属于不屈服的人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</a:t>
            </a: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2008</a:t>
            </a: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，共和国的历史将永远牢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我们正用我们的青春的热血和沸腾的生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书写着中华民族的不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                                  </a:t>
            </a:r>
            <a:r>
              <a:rPr b="1" lang="zh-CN" sz="2400" spc="-1" strike="noStrike">
                <a:solidFill>
                  <a:srgbClr val="00ffff"/>
                </a:solidFill>
                <a:latin typeface="Tahoma"/>
              </a:rPr>
              <a:t>弓刀雪 草于北京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457200" y="5716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cfec8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9cfec8"/>
                </a:solidFill>
                <a:latin typeface="Tahoma"/>
              </a:rPr>
              <a:t>地震前美丽的汶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9cfec8"/>
                </a:solidFill>
                <a:latin typeface="Tahoma"/>
              </a:rPr>
              <a:t>地震前美丽的汶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228600" y="712800"/>
            <a:ext cx="861048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9cfec8"/>
                </a:solidFill>
                <a:latin typeface="Tahoma"/>
              </a:rPr>
              <a:t>地震前美丽的汶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380880" y="57168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9cfec8"/>
                </a:solidFill>
                <a:latin typeface="Tahoma"/>
              </a:rPr>
              <a:t>地震前美丽的汶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ffff"/>
                </a:solidFill>
                <a:latin typeface="Tahoma"/>
              </a:rPr>
              <a:t>地震了，我们美丽的家园成为废墟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619760" cy="48927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143000" y="6095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月</a:t>
            </a: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14</a:t>
            </a:r>
            <a:r>
              <a:rPr b="1" lang="zh-CN" sz="2400" spc="-1" strike="noStrike">
                <a:solidFill>
                  <a:srgbClr val="ffcc00"/>
                </a:solidFill>
                <a:latin typeface="Tahoma"/>
              </a:rPr>
              <a:t>日航拍的地震后汶川县映秀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09:26Z</dcterms:modified>
  <cp:revision>3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