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explode.wav" ContentType="audio/x-wav"/>
  <Override PartName="/ppt/media/glas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490-45A0-4638-8C3E-D3AFE4F4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2D2-2EC5-40AD-AF50-08652146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86D-7D0F-4362-88C2-D101E91F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3F4-D6B3-45D0-A7A7-A159D171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4CD-47C1-44C8-93AF-FA3C3B2D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9F0-9D6E-4542-97AB-AEDD29BD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0EA-0563-4554-B426-4AD88D88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5E1-18C2-47CA-A407-8E51926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718-CE27-476A-BEB7-40742F96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96A-1BB9-4B37-8C1D-65936609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DFD-8D20-455F-A86D-98001AB1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65B-E657-45D3-8A11-1818C536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E197-D736-45BF-BC26-31583A0BC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&#39640;&#20013;&#35821;&#25991;&#19979;&#36733;/mnbj.swf" TargetMode="External"/><Relationship Id="rId2" Type="http://schemas.openxmlformats.org/officeDocument/2006/relationships/audio" Target="../media/explod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676520"/>
            <a:ext cx="4952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4646"/>
                    </a:gs>
                    <a:gs pos="5000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平安校园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3973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高一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有人对到学校心理咨询室或到医院去看心理医生的行为有很多说法，下面哪些说法是正确的是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Ａ．有精神病才去找心理老师或心理医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Ｂ．把自己的苦恼说出来会减轻自己的心理压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并能得到一些有效的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Ｃ．这些人真笨，自己想办法解决不就行了吗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59092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一个和你要好的同学，找到你说：某同学家里很有钱，明天把他带到一个很隐蔽的地方，然后打电话给他的父母，向他们要钱。弄到钱后，大家一起去网吧。这时你应该怎么做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Ａ．坚决制止，告诉他这是违法行为。</a:t>
            </a:r>
            <a:br>
              <a:rPr sz="2800"/>
            </a:b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Ｂ．立即告诉老师或家长。如果时间比较紧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就拨打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110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Ｃ．既不参与也不向任何人报告，因为我们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是好朋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8840" y="2057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6c0a1a"/>
                </a:solidFill>
                <a:latin typeface="Arial"/>
              </a:rPr>
              <a:t>8.</a:t>
            </a:r>
            <a:r>
              <a:rPr b="1" lang="zh-CN" sz="2000" spc="-1" strike="noStrike">
                <a:solidFill>
                  <a:srgbClr val="6c0a1a"/>
                </a:solidFill>
                <a:latin typeface="Arial"/>
              </a:rPr>
              <a:t>一个学生在上学路上，突然一个陌生人走近他，万分焦急地说：“我家有一个老奶奶病重，就快不行了，最后想看看小孙子，可是，他在外地，你就帮帮我，去医院看看老奶奶。”正确的处理方法是什么？</a:t>
            </a:r>
            <a:r>
              <a:rPr b="1" lang="zh-CN" sz="2000" spc="-1" strike="noStrike">
                <a:solidFill>
                  <a:srgbClr val="6c0a1a"/>
                </a:solidFill>
                <a:latin typeface="Arial"/>
              </a:rPr>
              <a:t>(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2000" spc="-1" strike="noStrike">
                <a:solidFill>
                  <a:srgbClr val="6c0a1a"/>
                </a:solidFill>
                <a:latin typeface="Arial"/>
              </a:rPr>
              <a:t>Ａ．老奶奶太可怜了，别人有困难应该去帮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2000" spc="-1" strike="noStrike">
                <a:solidFill>
                  <a:srgbClr val="6c0a1a"/>
                </a:solidFill>
                <a:latin typeface="Arial"/>
              </a:rPr>
              <a:t>Ｂ．拒绝去，把情况报告老师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c0a1a"/>
                </a:solidFill>
                <a:latin typeface="Arial"/>
              </a:rPr>
              <a:t>         </a:t>
            </a:r>
            <a:r>
              <a:rPr b="1" lang="zh-CN" sz="2000" spc="-1" strike="noStrike">
                <a:solidFill>
                  <a:srgbClr val="6c0a1a"/>
                </a:solidFill>
                <a:latin typeface="Arial"/>
              </a:rPr>
              <a:t>Ｃ．事情很急，先去，事后再告诉老师。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74880" y="1905120"/>
            <a:ext cx="4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某学校给学生喝加餐牛奶，由于牛奶过期，导致学生集体腹泻、呕吐。对此应该由谁承担责任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(      )</a:t>
            </a:r>
            <a:br>
              <a:rPr sz="2800"/>
            </a:b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   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Ａ．学校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    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Ｂ．学校和供应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Ｃ．学生自己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59092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10.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叮当最近突然收到“恭喜你中大奖”的邮件：恭喜你在某自动抽奖活动中，中得大奖，可以免费获得电脑、手机等高价商品，不过要先支付一笔邮资。请帮助叮当找到最正确的处理方法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Ａ．真是“天下掉下个大馅饼”，赶快取了压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钱寄出去。</a:t>
            </a:r>
            <a:br>
              <a:rPr sz="2800"/>
            </a:b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Ｂ．把情况报告给长辈，通过合法途径揭穿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局。</a:t>
            </a:r>
            <a:br>
              <a:rPr sz="2800"/>
            </a:b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Ｃ．给对方写回信，询问具体获奖情况，并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诉对方如何联络自己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1080" y="201132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11.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大明经常以暴力欺负同学，还威胁他们不许告诉任何人。下面哪些处理方法是正确的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Ａ．鼓起勇气对大明说“不！”、“停止！”，并向父母、老师、同学寻求帮助。</a:t>
            </a:r>
            <a:br>
              <a:rPr sz="2800"/>
            </a:b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    Ｂ．学习空手道，找机会狠狠报复大明。</a:t>
            </a:r>
            <a:br>
              <a:rPr sz="2800"/>
            </a:b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    Ｃ．不敢告诉任何人，坚决要求父母为自己转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236232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12.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如果不幸遭遇绑架，下面的哪些自救方法是非常有效的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Ａ．不要激怒歹徒，尽量保护自己不受伤害。</a:t>
            </a:r>
            <a:br>
              <a:rPr sz="3200"/>
            </a:b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   Ｂ．不放弃希望，寻找机会报警或逃离。</a:t>
            </a:r>
            <a:br>
              <a:rPr sz="3200"/>
            </a:b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   Ｃ．牢记与救援和破案有关的信息：如歹徒的人数、姓名、身形、口音等特征，还有劫持的时间、地点、劫持的方向，劫往地点，自己所处环境等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1828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13.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放学回家的路上，总有些社会青年强行向同学索要财物，不给钱就打人，正确的处理方法是什么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Ａ．自认倒霉，花钱消灾，以后躲着他们，并将事情隐瞒下去。</a:t>
            </a:r>
            <a:br>
              <a:rPr sz="3200"/>
            </a:b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   Ｂ．如情况紧急，可把财物给他们，先保护自己，避免白白挨打。</a:t>
            </a:r>
            <a:br>
              <a:rPr sz="3200"/>
            </a:b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   Ｃ．记住对方的相关特征，迅速报告老师、家长和当地派出所（或打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110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报警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30680" y="22096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14.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校门口流动小摊贩卖的食品，没有商标和生产厂家，对于这些食品，正确的看法是什么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Ａ．这些小食品，味道鲜美，价格便宜，可以购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Ｂ．这些小食品的卫生缺乏保障，坚决不要买来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Ｃ．偶尔吃几次，不会有什么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9718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15.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学校附近有些商店和“网吧”采取记账消费的方式引诱同学们花钱，对于这种“赊账消费”，应该保持的正确态度是什么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Ａ．要学会拒绝这种诱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Ｂ．赊账也是一种消费方式，相互帮忙，各取所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Ｃ．这是小事，无所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429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64680" y="114300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一寸防患心，一生平安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85280" y="1890720"/>
            <a:ext cx="27410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你的平安是家人最大的愿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83200" y="2652840"/>
            <a:ext cx="31676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你的平安我来建筑，我的平安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79520" y="3425760"/>
            <a:ext cx="48070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来保护，平安校园，校园平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5800" y="41148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危难犹如烈火，请防其于未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0080" y="4950000"/>
            <a:ext cx="25275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Arial"/>
                <a:ea typeface="方正姚体"/>
              </a:rPr>
              <a:t>年轻无极限，危险无边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67652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4646"/>
                    </a:gs>
                    <a:gs pos="5000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学习安全知识 共筑安全防线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演示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14600" y="2590920"/>
            <a:ext cx="466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遇到火灾时该怎么办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733920" y="1905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情形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352680" y="2819520"/>
            <a:ext cx="2514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室外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733920" y="1905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情形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352680" y="2819520"/>
            <a:ext cx="2514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室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5560" y="2879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方正姚体"/>
              </a:rPr>
              <a:t>怎样报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12200" y="4038480"/>
            <a:ext cx="729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Go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95280" y="60948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华文隶书"/>
              </a:rPr>
              <a:t>安全是快乐和平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00920" y="1214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安全，是根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175248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只要你牢牢地绷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19400" y="2281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就能弹奏出快乐的音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26680" y="28144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生命乐章永远悠扬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3320" y="3348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安全，是本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19400" y="38862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只要你天天读，时时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560" y="4495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吉祥之光将簇拥着你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49640" y="5105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危险恶魔将离你远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安全，是一首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143000"/>
            <a:ext cx="6858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只要你放开歌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1828800"/>
            <a:ext cx="563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唱出警钟之声的主旋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2514600"/>
            <a:ext cx="5334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歌声将伴你凯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124080"/>
            <a:ext cx="4800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安全，是根擎天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3733920"/>
            <a:ext cx="396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只要你凭借她的威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419720"/>
            <a:ext cx="327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必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952880"/>
            <a:ext cx="6172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撑出一个没有隐患的世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5562720"/>
            <a:ext cx="3429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一席圣洁的空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安全，是紧箍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2666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带着她，无论走到海角天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3429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都会保佑你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81200" y="4184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Times New Roman"/>
                <a:ea typeface="方正姚体"/>
              </a:rPr>
              <a:t>保佑你平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81080" y="2743200"/>
            <a:ext cx="4191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cc"/>
                  </a:solidFill>
                  <a:miter/>
                </a:ln>
                <a:gradFill rotWithShape="0">
                  <a:gsLst>
                    <a:gs pos="0">
                      <a:srgbClr val="002f17"/>
                    </a:gs>
                    <a:gs pos="50000">
                      <a:srgbClr val="006633"/>
                    </a:gs>
                    <a:gs pos="100000">
                      <a:srgbClr val="002f1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祝你平安！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gradFill rotWithShape="0">
                <a:gsLst>
                  <a:gs pos="0">
                    <a:srgbClr val="002f17"/>
                  </a:gs>
                  <a:gs pos="50000">
                    <a:srgbClr val="006633"/>
                  </a:gs>
                  <a:gs pos="100000">
                    <a:srgbClr val="002f17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03400" y="10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消火灾防患，防星火燎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07440" y="19051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让一让，心情舒畅；等一等，前途光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58720" y="28195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危险似火，留心如水，水灭火者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37360" y="3643200"/>
            <a:ext cx="47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让幸福的余光洒满校园   让平安的脚步走遍山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1520" y="4419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15815"/>
                </a:solidFill>
                <a:latin typeface="方正姚体"/>
                <a:ea typeface="方正姚体"/>
              </a:rPr>
              <a:t>一个平安的自己，才是送给父母最好的礼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9280" y="5167440"/>
            <a:ext cx="657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--------Take the safety to your heart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1676520"/>
            <a:ext cx="7620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4646"/>
                    </a:gs>
                    <a:gs pos="50000">
                      <a:srgbClr val="009999"/>
                    </a:gs>
                    <a:gs pos="100000">
                      <a:srgbClr val="00464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隶书"/>
              </a:rPr>
              <a:t>预防校园侵害 创建平安校园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4646"/>
                  </a:gs>
                  <a:gs pos="5000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32004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竞赛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每年的中小学生安全教育日，是哪一天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Ａ．每年三月的最后一个星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  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Ｂ．每年三月的最后一个星期五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  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Ｃ．每年六月的最后一个星期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3623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今年中小学生安全教育日的主题是什么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?(      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  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Ａ．关注学生饮食卫生，保障青少年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康</a:t>
            </a:r>
            <a:br>
              <a:rPr sz="3200"/>
            </a:b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Ｂ．预防校园侵害，提高青少年儿童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自我保护能力</a:t>
            </a:r>
            <a:br>
              <a:rPr sz="3200"/>
            </a:b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 Ｃ．消防安全教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19240" y="1905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．急救、交通事故的报警电话依次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6c0a1a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120 12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6c0a1a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112 12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6c0a1a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6c0a1a"/>
                </a:solidFill>
                <a:latin typeface="Arial"/>
              </a:rPr>
              <a:t>120 12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0560" y="15238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．在运动中发生意外伤害事故后，下列哪种做法是错误的  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(       )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Ａ．碰伤、摔伤较严重的时候，不要轻易搬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伤者，以免加重伤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Ｂ．伤口出血用指压或用布条绑扎止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Ｃ．骨折的时候，用布条先绑紧固定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782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当自己受到挫折与打击时，下面的哪些办法不但不能减轻心理压力，反而会对自己造成伤害</a:t>
            </a: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(       )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Ａ．大哭一场，发泄一下郁闷的心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Ｂ．自己安慰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c0a1a"/>
                </a:solidFill>
                <a:latin typeface="Arial"/>
              </a:rPr>
              <a:t>Ｃ．自己重重地打自己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27432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9:36:39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4T02:11:46Z</dcterms:modified>
  <cp:revision>3</cp:revision>
  <dc:subject>主题班会课件(分28大类): http://shop62905894.taobao.com</dc:subject>
  <dc:title>主题班会课件(分28大类): http://shop62905894.taobao.com</dc:title>
</cp:coreProperties>
</file>