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20.wmf" ContentType="image/x-wmf"/>
  <Override PartName="/ppt/media/image22.png" ContentType="image/png"/>
  <Override PartName="/ppt/media/image19.jpeg" ContentType="image/jpeg"/>
  <Override PartName="/ppt/media/image21.wmf" ContentType="image/x-wmf"/>
  <Override PartName="/ppt/media/image18.jpeg" ContentType="image/jpeg"/>
  <Override PartName="/ppt/media/image16.wmf" ContentType="image/x-wmf"/>
  <Override PartName="/ppt/media/image17.png" ContentType="image/png"/>
  <Override PartName="/ppt/media/image14.gif" ContentType="image/gif"/>
  <Override PartName="/ppt/media/image24.wmf" ContentType="image/x-wmf"/>
  <Override PartName="/ppt/media/image1.wmf" ContentType="image/x-wmf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5F8-1FB1-46A1-99DA-D84C8CA2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629-9ABC-4B44-963A-F7819C78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E4A-6D9B-401B-9E52-6E1A2208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6B8-3F91-4ED2-AB61-BF142964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969-9E2B-4E76-9F4F-2636DB8C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F40-B620-4867-9BFC-4C660294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D9C-F4B4-4687-A37B-E2DA76D0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30F-28A4-4AB7-B196-A54368E3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F0D-C245-4FEF-BBDD-21B75BBF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EDF1-EF44-485D-A4F2-FB9549D6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1FD-DC96-4949-9BF9-E78CEC0C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DC4-FAE1-4765-B352-87485EBE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E92C-4C3E-4F9B-9147-2F8148AC80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0.jpeg"/><Relationship Id="rId3" Type="http://schemas.openxmlformats.org/officeDocument/2006/relationships/slide" Target="slide13.xml"/><Relationship Id="rId4" Type="http://schemas.openxmlformats.org/officeDocument/2006/relationships/image" Target="../media/image11.jpeg"/><Relationship Id="rId5" Type="http://schemas.openxmlformats.org/officeDocument/2006/relationships/slide" Target="slide14.xml"/><Relationship Id="rId6" Type="http://schemas.openxmlformats.org/officeDocument/2006/relationships/image" Target="../media/image12.jpeg"/><Relationship Id="rId7" Type="http://schemas.openxmlformats.org/officeDocument/2006/relationships/slide" Target="slide15.xml"/><Relationship Id="rId8" Type="http://schemas.openxmlformats.org/officeDocument/2006/relationships/image" Target="../media/image13.jpeg"/><Relationship Id="rId9" Type="http://schemas.openxmlformats.org/officeDocument/2006/relationships/slide" Target="slide17.xml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" Target="slide22.xml"/><Relationship Id="rId4" Type="http://schemas.openxmlformats.org/officeDocument/2006/relationships/image" Target="../media/image12.jpeg"/><Relationship Id="rId5" Type="http://schemas.openxmlformats.org/officeDocument/2006/relationships/slide" Target="slide25.xml"/><Relationship Id="rId6" Type="http://schemas.openxmlformats.org/officeDocument/2006/relationships/image" Target="../media/image18.jpeg"/><Relationship Id="rId7" Type="http://schemas.openxmlformats.org/officeDocument/2006/relationships/slide" Target="slide23.xml"/><Relationship Id="rId8" Type="http://schemas.openxmlformats.org/officeDocument/2006/relationships/image" Target="../media/image19.jpeg"/><Relationship Id="rId9" Type="http://schemas.openxmlformats.org/officeDocument/2006/relationships/slide" Target="slide24.xml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8.xml"/><Relationship Id="rId3" Type="http://schemas.openxmlformats.org/officeDocument/2006/relationships/image" Target="../media/image23.wmf"/><Relationship Id="rId4" Type="http://schemas.openxmlformats.org/officeDocument/2006/relationships/slide" Target="slide29.xml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57200" y="1371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华文彩云"/>
              </a:rPr>
              <a:t>安全系着你我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3202200" cy="2538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62520" y="5867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安全教育知识竞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583320" cy="45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8800" y="58672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注 意 信 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16000" y="184464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96000" y="14842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258920" y="386064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867280" y="3645000"/>
            <a:ext cx="2057400" cy="2427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7160" y="822240"/>
            <a:ext cx="50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单项选择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答对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答错不扣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64000" y="3200400"/>
            <a:ext cx="1871640" cy="166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20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我来选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楷体_GB2312"/>
              <a:ea typeface="楷体_GB2312"/>
            </a:endParaRPr>
          </a:p>
        </p:txBody>
      </p:sp>
      <p:sp>
        <p:nvSpPr>
          <p:cNvPr id="69" name="">
            <a:hlinkClick r:id="rId9" action="ppaction://hlinksldjump"/>
          </p:cNvPr>
          <p:cNvSpPr/>
          <p:nvPr/>
        </p:nvSpPr>
        <p:spPr>
          <a:xfrm>
            <a:off x="7380360" y="6165720"/>
            <a:ext cx="1763640" cy="549360"/>
          </a:xfrm>
          <a:custGeom>
            <a:avLst/>
            <a:gdLst>
              <a:gd name="textAreaLeft" fmla="*/ 35280 w 1763640"/>
              <a:gd name="textAreaRight" fmla="*/ 1728360 w 176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69312" h="21600">
                <a:moveTo>
                  <a:pt x="0" y="0"/>
                </a:moveTo>
                <a:lnTo>
                  <a:pt x="69312" y="0"/>
                </a:lnTo>
                <a:lnTo>
                  <a:pt x="69312" y="21600"/>
                </a:lnTo>
                <a:lnTo>
                  <a:pt x="0" y="21600"/>
                </a:lnTo>
                <a:close/>
              </a:path>
              <a:path fill="lightenLess" w="69312" h="21600">
                <a:moveTo>
                  <a:pt x="0" y="0"/>
                </a:moveTo>
                <a:lnTo>
                  <a:pt x="69312" y="0"/>
                </a:lnTo>
                <a:lnTo>
                  <a:pt x="67912" y="1400"/>
                </a:lnTo>
                <a:lnTo>
                  <a:pt x="1400" y="1400"/>
                </a:lnTo>
                <a:close/>
              </a:path>
              <a:path fill="darken" w="69312" h="21600">
                <a:moveTo>
                  <a:pt x="69312" y="0"/>
                </a:moveTo>
                <a:lnTo>
                  <a:pt x="69312" y="21600"/>
                </a:lnTo>
                <a:lnTo>
                  <a:pt x="67912" y="20200"/>
                </a:lnTo>
                <a:lnTo>
                  <a:pt x="67912" y="1400"/>
                </a:lnTo>
                <a:close/>
              </a:path>
              <a:path fill="darkenLess" w="69312" h="21600">
                <a:moveTo>
                  <a:pt x="69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12" y="20200"/>
                </a:lnTo>
                <a:close/>
              </a:path>
              <a:path fill="lighten" w="69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312" h="21600">
                <a:moveTo>
                  <a:pt x="3465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69312" h="21600">
                <a:moveTo>
                  <a:pt x="3465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69312" h="21600">
                <a:moveTo>
                  <a:pt x="32080" y="8224"/>
                </a:moveTo>
                <a:lnTo>
                  <a:pt x="35944" y="8224"/>
                </a:lnTo>
                <a:lnTo>
                  <a:pt x="35944" y="15221"/>
                </a:lnTo>
                <a:lnTo>
                  <a:pt x="37232" y="15221"/>
                </a:lnTo>
                <a:lnTo>
                  <a:pt x="37232" y="16144"/>
                </a:lnTo>
                <a:lnTo>
                  <a:pt x="32080" y="16144"/>
                </a:lnTo>
                <a:lnTo>
                  <a:pt x="32080" y="15221"/>
                </a:lnTo>
                <a:lnTo>
                  <a:pt x="33368" y="15221"/>
                </a:lnTo>
                <a:lnTo>
                  <a:pt x="33368" y="9129"/>
                </a:lnTo>
                <a:lnTo>
                  <a:pt x="32080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457200" y="43344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75960" y="52560"/>
            <a:ext cx="26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No.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533520" y="-100080"/>
            <a:ext cx="67464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36036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遇到交通事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要打的报警电话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120          B.122       C.110        D.1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3500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身上衣服着火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立即采取的正确的灭火方法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就地打滚压灭身上的火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赶快奔跑灭掉身上火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手拍打火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尽快撕脱衣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725480"/>
            <a:ext cx="70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国的道路通行原则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右侧通行原则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左侧通行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间通行原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94520" y="455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33800" y="17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9440" y="400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7093080" y="5516640"/>
            <a:ext cx="1152360" cy="1008000"/>
          </a:xfrm>
          <a:custGeom>
            <a:avLst/>
            <a:gdLst>
              <a:gd name="textAreaLeft" fmla="*/ 65160 w 1152360"/>
              <a:gd name="textAreaRight" fmla="*/ 1087200 w 115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692" h="21600">
                <a:moveTo>
                  <a:pt x="1234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692" h="21600">
                <a:moveTo>
                  <a:pt x="9770" y="8224"/>
                </a:moveTo>
                <a:lnTo>
                  <a:pt x="13634" y="8224"/>
                </a:lnTo>
                <a:lnTo>
                  <a:pt x="13634" y="15221"/>
                </a:lnTo>
                <a:lnTo>
                  <a:pt x="14922" y="15221"/>
                </a:lnTo>
                <a:lnTo>
                  <a:pt x="14922" y="16144"/>
                </a:lnTo>
                <a:lnTo>
                  <a:pt x="9770" y="16144"/>
                </a:lnTo>
                <a:lnTo>
                  <a:pt x="9770" y="15221"/>
                </a:lnTo>
                <a:lnTo>
                  <a:pt x="11058" y="15221"/>
                </a:lnTo>
                <a:lnTo>
                  <a:pt x="11058" y="9129"/>
                </a:lnTo>
                <a:lnTo>
                  <a:pt x="9770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3080" y="3333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国法律明文规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禁止未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岁人员进入网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12       B.16           C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19890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油锅起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火的第一步应该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盖锅盖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泼水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油锅端下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35772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在校外有人向你勒索金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事后你最应该做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尽快告诉爸爸妈妈或老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能让任何人知道这件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得遭报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后每天带点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得没钱挨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40464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1916280"/>
            <a:ext cx="4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6508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7093080" y="5516640"/>
            <a:ext cx="1152360" cy="1008000"/>
          </a:xfrm>
          <a:custGeom>
            <a:avLst/>
            <a:gdLst>
              <a:gd name="textAreaLeft" fmla="*/ 65160 w 1152360"/>
              <a:gd name="textAreaRight" fmla="*/ 1087200 w 115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692" h="21600">
                <a:moveTo>
                  <a:pt x="1234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692" h="21600">
                <a:moveTo>
                  <a:pt x="9770" y="8224"/>
                </a:moveTo>
                <a:lnTo>
                  <a:pt x="13634" y="8224"/>
                </a:lnTo>
                <a:lnTo>
                  <a:pt x="13634" y="15221"/>
                </a:lnTo>
                <a:lnTo>
                  <a:pt x="14922" y="15221"/>
                </a:lnTo>
                <a:lnTo>
                  <a:pt x="14922" y="16144"/>
                </a:lnTo>
                <a:lnTo>
                  <a:pt x="9770" y="16144"/>
                </a:lnTo>
                <a:lnTo>
                  <a:pt x="9770" y="15221"/>
                </a:lnTo>
                <a:lnTo>
                  <a:pt x="11058" y="15221"/>
                </a:lnTo>
                <a:lnTo>
                  <a:pt x="11058" y="9129"/>
                </a:lnTo>
                <a:lnTo>
                  <a:pt x="9770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080" y="3459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人突然患病或受伤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该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话求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120      B.122   C.110    D.1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1860480"/>
            <a:ext cx="90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据统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火灾中死亡的人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上属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火直接烧死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跳楼或惊吓致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烟气窒息而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080" y="400536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过一个有信号灯的铁道路口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从铁路上穿过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看左右没有火车就快速走过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准许通过的信号灯亮时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3440" y="476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1380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7440" y="400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7093080" y="5516640"/>
            <a:ext cx="1152360" cy="1008000"/>
          </a:xfrm>
          <a:custGeom>
            <a:avLst/>
            <a:gdLst>
              <a:gd name="textAreaLeft" fmla="*/ 65160 w 1152360"/>
              <a:gd name="textAreaRight" fmla="*/ 1087200 w 115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692" h="21600">
                <a:moveTo>
                  <a:pt x="1234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692" h="21600">
                <a:moveTo>
                  <a:pt x="9770" y="8224"/>
                </a:moveTo>
                <a:lnTo>
                  <a:pt x="13634" y="8224"/>
                </a:lnTo>
                <a:lnTo>
                  <a:pt x="13634" y="15221"/>
                </a:lnTo>
                <a:lnTo>
                  <a:pt x="14922" y="15221"/>
                </a:lnTo>
                <a:lnTo>
                  <a:pt x="14922" y="16144"/>
                </a:lnTo>
                <a:lnTo>
                  <a:pt x="9770" y="16144"/>
                </a:lnTo>
                <a:lnTo>
                  <a:pt x="9770" y="15221"/>
                </a:lnTo>
                <a:lnTo>
                  <a:pt x="11058" y="15221"/>
                </a:lnTo>
                <a:lnTo>
                  <a:pt x="11058" y="9129"/>
                </a:lnTo>
                <a:lnTo>
                  <a:pt x="9770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40464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火场中逃生的正确做法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湿毛巾捂住口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必要时匍匐能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迅速躲避在火场的下风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火场中站立、直行，并大口呼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年儿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岁以上可以骑自行车上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8      B.12       C.14        D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405144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年的中小学生安全教育日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的最后一个星期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的最后一个星期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的最后一个星期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37080" y="40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86160" y="285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7380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7667640" y="5516640"/>
            <a:ext cx="1152360" cy="1008000"/>
          </a:xfrm>
          <a:custGeom>
            <a:avLst/>
            <a:gdLst>
              <a:gd name="textAreaLeft" fmla="*/ 65160 w 1152360"/>
              <a:gd name="textAreaRight" fmla="*/ 1087200 w 115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1234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692" h="21600">
                <a:moveTo>
                  <a:pt x="1234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692" h="21600">
                <a:moveTo>
                  <a:pt x="9770" y="8224"/>
                </a:moveTo>
                <a:lnTo>
                  <a:pt x="13634" y="8224"/>
                </a:lnTo>
                <a:lnTo>
                  <a:pt x="13634" y="15221"/>
                </a:lnTo>
                <a:lnTo>
                  <a:pt x="14922" y="15221"/>
                </a:lnTo>
                <a:lnTo>
                  <a:pt x="14922" y="16144"/>
                </a:lnTo>
                <a:lnTo>
                  <a:pt x="9770" y="16144"/>
                </a:lnTo>
                <a:lnTo>
                  <a:pt x="9770" y="15221"/>
                </a:lnTo>
                <a:lnTo>
                  <a:pt x="11058" y="15221"/>
                </a:lnTo>
                <a:lnTo>
                  <a:pt x="11058" y="9129"/>
                </a:lnTo>
                <a:lnTo>
                  <a:pt x="9770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82080" y="719280"/>
            <a:ext cx="31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品：电线躺在地上时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3338640" cy="3281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76200" y="3213000"/>
            <a:ext cx="30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演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杨雄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虞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22480" y="4572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快速抢答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1480" y="2190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11520" y="1700280"/>
            <a:ext cx="427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比赛规则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本题为单项选择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答对加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分，答错倒扣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484360" y="3716280"/>
            <a:ext cx="34308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>
                    <a:alpha val="99000"/>
                  </a:srgbClr>
                </a:solidFill>
                <a:latin typeface="宋体"/>
              </a:rPr>
              <a:t>Let'  go 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>
                  <a:alpha val="99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2000" y="235080"/>
            <a:ext cx="5036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独自一人在上学途中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下面做法错误的是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答应陌生人的要给他带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吃陌生人的食物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喝陌生人的饮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随便接受陌生人的礼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乘坐火车时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对面的陌生人热情的请你喝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带的饮料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你接过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说声”谢谢”再喝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7840" y="3516480"/>
            <a:ext cx="84978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未开启的罐头及真空包装的袋装食品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如果外包装发生膨胀现象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你的判断是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食品装的太多了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食品已经变质不能吃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食品发酵但可以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0160" y="189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57640" y="38768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0920" y="44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雷雨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要走近高压电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铁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避雷针的接地导线周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10       B.20        C.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89440" y="62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7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现有人触电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首先应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切断电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打急救电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触电者拉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5440" y="1628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2708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他人共用下列哪种用品没有感染艾滋病的危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剃须刀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碗筷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牙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980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280" y="4221000"/>
            <a:ext cx="889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艾滋病会通过游泳或公共浴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一定会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5080" y="472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1800" y="182880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说出下列图示的意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45800" y="3573360"/>
            <a:ext cx="205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抢答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4600" y="5415120"/>
            <a:ext cx="37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规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对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，答错倒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19640" y="309600"/>
            <a:ext cx="6117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吸毒和艾滋病有关吗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吸毒是一种违法行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但是吸毒与艾滋病无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吸毒者会危害自己的健康和生命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也危害家庭和社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共用注射器吸毒是传播艾滋病的重要途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因此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拒绝毒品没，珍爱生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3192480"/>
            <a:ext cx="676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痢疾的传播途径是（      ）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口传染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血液传染 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蚊虫叮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3080" y="333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3840" y="3084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26480" y="822240"/>
            <a:ext cx="47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多项选择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答对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答错不扣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68360" y="4941720"/>
            <a:ext cx="3672000" cy="166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620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我来选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楷体_GB2312"/>
              <a:ea typeface="楷体_GB2312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6119640"/>
            <a:ext cx="1763640" cy="549360"/>
          </a:xfrm>
          <a:custGeom>
            <a:avLst/>
            <a:gdLst>
              <a:gd name="textAreaLeft" fmla="*/ 35280 w 1763640"/>
              <a:gd name="textAreaRight" fmla="*/ 1728360 w 176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69312" h="21600">
                <a:moveTo>
                  <a:pt x="0" y="0"/>
                </a:moveTo>
                <a:lnTo>
                  <a:pt x="69312" y="0"/>
                </a:lnTo>
                <a:lnTo>
                  <a:pt x="69312" y="21600"/>
                </a:lnTo>
                <a:lnTo>
                  <a:pt x="0" y="21600"/>
                </a:lnTo>
                <a:close/>
              </a:path>
              <a:path fill="lightenLess" w="69312" h="21600">
                <a:moveTo>
                  <a:pt x="0" y="0"/>
                </a:moveTo>
                <a:lnTo>
                  <a:pt x="69312" y="0"/>
                </a:lnTo>
                <a:lnTo>
                  <a:pt x="67912" y="1400"/>
                </a:lnTo>
                <a:lnTo>
                  <a:pt x="1400" y="1400"/>
                </a:lnTo>
                <a:close/>
              </a:path>
              <a:path fill="darken" w="69312" h="21600">
                <a:moveTo>
                  <a:pt x="69312" y="0"/>
                </a:moveTo>
                <a:lnTo>
                  <a:pt x="69312" y="21600"/>
                </a:lnTo>
                <a:lnTo>
                  <a:pt x="67912" y="20200"/>
                </a:lnTo>
                <a:lnTo>
                  <a:pt x="67912" y="1400"/>
                </a:lnTo>
                <a:close/>
              </a:path>
              <a:path fill="darkenLess" w="69312" h="21600">
                <a:moveTo>
                  <a:pt x="69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12" y="20200"/>
                </a:lnTo>
                <a:close/>
              </a:path>
              <a:path fill="lighten" w="69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312" h="21600">
                <a:moveTo>
                  <a:pt x="3465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69312" h="21600">
                <a:moveTo>
                  <a:pt x="3465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69312" h="21600">
                <a:moveTo>
                  <a:pt x="32080" y="8224"/>
                </a:moveTo>
                <a:lnTo>
                  <a:pt x="35944" y="8224"/>
                </a:lnTo>
                <a:lnTo>
                  <a:pt x="35944" y="15221"/>
                </a:lnTo>
                <a:lnTo>
                  <a:pt x="37232" y="15221"/>
                </a:lnTo>
                <a:lnTo>
                  <a:pt x="37232" y="16144"/>
                </a:lnTo>
                <a:lnTo>
                  <a:pt x="32080" y="16144"/>
                </a:lnTo>
                <a:lnTo>
                  <a:pt x="32080" y="15221"/>
                </a:lnTo>
                <a:lnTo>
                  <a:pt x="33368" y="15221"/>
                </a:lnTo>
                <a:lnTo>
                  <a:pt x="33368" y="9129"/>
                </a:lnTo>
                <a:lnTo>
                  <a:pt x="32080" y="912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433440"/>
            <a:ext cx="6400800" cy="76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775960" y="52560"/>
            <a:ext cx="269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必答题</a:t>
            </a:r>
            <a:r>
              <a:rPr b="1" i="1" lang="zh-CN" sz="4400" spc="-1" strike="noStrike">
                <a:solidFill>
                  <a:srgbClr val="cc0099"/>
                </a:solidFill>
                <a:latin typeface="Bookman Old Style"/>
              </a:rPr>
              <a:t>No.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33520" y="-100080"/>
            <a:ext cx="674640" cy="979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155736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164360" y="191628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484360" y="162864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716360" y="1916280"/>
            <a:ext cx="20574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9280" y="1531080"/>
            <a:ext cx="8964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每年都有许多中小学生因溺水而意外身亡，下面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法正确的是（            ）。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．游泳就是不能让家长和老师知道，否则肯定会去不了还挨训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．不能私自到江、河、湖、塘、水库玩水游泳、钓鱼捉鱼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．游泳要经家长或老师同意，有大人保护和带上救生设备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．水有“显浅”特点，有的地方看上去比较浅其实却很深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6028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艾滋病的传播途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传播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性传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婴传播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飞沫传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3840" y="4365720"/>
            <a:ext cx="5013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间休息时，下面游戏方式中容易造成意外伤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是（           ）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在操场上和同学一起跳绳、打篮球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在教室捉迷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攀爬篮球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3440" y="1890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,B,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3640" y="472428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71960" y="170172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,C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451640" y="5445000"/>
            <a:ext cx="13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55240" y="333000"/>
            <a:ext cx="536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步行或骑自行车不得进入以下道路（          ）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城市快车道 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高速公路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封闭的机动车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43320" y="1989720"/>
            <a:ext cx="593676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家中常用的以下几种物品，遇火可能爆炸的是（　　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一次性打火机     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洗发水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液化气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49400" y="3716640"/>
            <a:ext cx="5429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和你要好的同学，找到你说，某同学家里很有钱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明天把他带到一个很隐蔽的地方，然后给他的父母打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话要钱。弄到钱后，大家一起去网吧。这时你应该（    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坚决制止，告诉他这是违法行为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立即告诉老师或家长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既不参与也不向任何人报告，因为我们都是好朋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7960" y="30780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,B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14880" y="1916280"/>
            <a:ext cx="7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,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200440" y="4508640"/>
            <a:ext cx="7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,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80360" y="260280"/>
            <a:ext cx="1344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59640" y="1700280"/>
            <a:ext cx="5013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山上游玩时，我们可以利用树木来识别方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面说法正确的是（           ）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树冠大、枝叶茂盛的一侧是南方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树干阴湿多苔藓一侧是南方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树干阴湿多苔藓的一侧是北方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轮宽的一方是南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28400" y="4132080"/>
            <a:ext cx="591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那些行为易引起火灾（           ）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不让台灯靠近枕头和被褥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躺在床上吸烟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在蚊帐内点蜡烛看书         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焚烧杂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1240" y="206064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,B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1240" y="407664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,C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0480" y="260280"/>
            <a:ext cx="614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看到有汽车撞人后要逃跑了，你应该及时（       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记下车牌号 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告诉老师或家长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不需要做任何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55200" y="2602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,B,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24720" y="5373720"/>
            <a:ext cx="1344600" cy="1133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387320" y="119700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交通事故或急救电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26200" y="6840"/>
            <a:ext cx="5877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不幸遭遇绑架，下面自救方法中正确的是（       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不要激怒歹徒，尽量保护自己不受伤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不放弃希望，寻找机会报警或逃离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牢记与救援和破案有关的信息：如歹徒的人数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姓名、身形、口音等特征，还有劫持的时间、地点、劫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方向，劫往地点，自己所处环境等         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41000" y="2631960"/>
            <a:ext cx="530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出登山，遇雷雨时为防雷击应注意（          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不在高峰处停留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不手扶铁索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不在树下避雨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55240" y="4204080"/>
            <a:ext cx="536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们在实验室做实验时，要做到（             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按照老师的要求和实验操作规范去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小心谨慎、遵守实验室纪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不随便动实验室的物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不在做实验时相互打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13080" y="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,B,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1672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,B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8320" y="4149720"/>
            <a:ext cx="12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,B,C,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020000" y="5153040"/>
            <a:ext cx="177624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737000" y="914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品：家长不在的一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638680" y="990720"/>
            <a:ext cx="2374920" cy="3468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923840" y="4292640"/>
            <a:ext cx="30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演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卢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陶超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39520" y="950760"/>
            <a:ext cx="430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隶书"/>
                <a:ea typeface="华文隶书"/>
              </a:rPr>
              <a:t>三选二</a:t>
            </a:r>
            <a:r>
              <a:rPr b="1" lang="zh-CN" sz="4800" spc="-1" strike="noStrike">
                <a:solidFill>
                  <a:srgbClr val="3333cc"/>
                </a:solidFill>
                <a:latin typeface="华文隶书"/>
                <a:ea typeface="华文隶书"/>
              </a:rPr>
              <a:t>.</a:t>
            </a:r>
            <a:r>
              <a:rPr b="1" lang="zh-CN" sz="4800" spc="-1" strike="noStrike">
                <a:solidFill>
                  <a:srgbClr val="3333cc"/>
                </a:solidFill>
                <a:latin typeface="华文隶书"/>
                <a:ea typeface="华文隶书"/>
              </a:rPr>
              <a:t>安全知识简答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66080" y="2565360"/>
            <a:ext cx="47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赛规则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选择其中两题回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确的每题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正确不给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63640" y="4233960"/>
            <a:ext cx="982800" cy="1716120"/>
            <a:chOff x="1763640" y="4233960"/>
            <a:chExt cx="982800" cy="1716120"/>
          </a:xfrm>
        </p:grpSpPr>
        <p:pic>
          <p:nvPicPr>
            <p:cNvPr id="169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1763640" y="4233960"/>
              <a:ext cx="98280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103840" y="473724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nap ITC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916360" y="4221000"/>
            <a:ext cx="1079280" cy="1800360"/>
            <a:chOff x="2916360" y="4221000"/>
            <a:chExt cx="1079280" cy="1800360"/>
          </a:xfrm>
        </p:grpSpPr>
        <p:pic>
          <p:nvPicPr>
            <p:cNvPr id="1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916360" y="4221000"/>
              <a:ext cx="1079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183120" y="4724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nap ITC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067280" y="4221000"/>
            <a:ext cx="1127160" cy="1859040"/>
            <a:chOff x="4067280" y="4221000"/>
            <a:chExt cx="1127160" cy="1859040"/>
          </a:xfrm>
        </p:grpSpPr>
        <p:pic>
          <p:nvPicPr>
            <p:cNvPr id="175" name="" descr=""/>
            <p:cNvPicPr/>
            <p:nvPr/>
          </p:nvPicPr>
          <p:blipFill>
            <a:blip r:embed="rId6"/>
            <a:stretch/>
          </p:blipFill>
          <p:spPr>
            <a:xfrm>
              <a:off x="4067280" y="4221000"/>
              <a:ext cx="11271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422960" y="4724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nap ITC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292720" y="4221000"/>
            <a:ext cx="1150920" cy="1859040"/>
            <a:chOff x="5292720" y="4221000"/>
            <a:chExt cx="1150920" cy="1859040"/>
          </a:xfrm>
        </p:grpSpPr>
        <p:pic>
          <p:nvPicPr>
            <p:cNvPr id="178" name="" descr=""/>
            <p:cNvPicPr/>
            <p:nvPr/>
          </p:nvPicPr>
          <p:blipFill>
            <a:blip r:embed="rId7"/>
            <a:stretch/>
          </p:blipFill>
          <p:spPr>
            <a:xfrm>
              <a:off x="5292720" y="4221000"/>
              <a:ext cx="11509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663880" y="4724280"/>
              <a:ext cx="500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nap ITC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740720" y="2060640"/>
            <a:ext cx="982440" cy="1716120"/>
            <a:chOff x="7740720" y="2060640"/>
            <a:chExt cx="982440" cy="1716120"/>
          </a:xfrm>
        </p:grpSpPr>
        <p:pic>
          <p:nvPicPr>
            <p:cNvPr id="181" name="" descr=""/>
            <p:cNvPicPr/>
            <p:nvPr/>
          </p:nvPicPr>
          <p:blipFill>
            <a:blip r:embed="rId8"/>
            <a:stretch/>
          </p:blipFill>
          <p:spPr>
            <a:xfrm>
              <a:off x="7740720" y="2060640"/>
              <a:ext cx="98244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923600" y="263700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nap ITC"/>
                </a:rPr>
                <a:t>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83880" y="1746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安全知识问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67440" y="1268280"/>
            <a:ext cx="59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路保险丝烧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铜线代替对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认为不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回答正确的处理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生火灾怎么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出野炊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束后怎么做才能离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48840" y="5257800"/>
            <a:ext cx="34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请选择其中两个问题回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rot="1556400">
            <a:off x="6588000" y="3789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95280" y="115416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孩外出游泳，要不要大人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一身上着火了，该怎么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如发洪水了，该往什么地方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2200" y="2649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安全知识问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48840" y="5257800"/>
            <a:ext cx="34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请选择其中两个问题回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rot="1556400">
            <a:off x="6588000" y="3789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55344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5715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禁止驶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74400" y="1247760"/>
            <a:ext cx="35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电器线路破旧应如何处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41000" y="2111400"/>
            <a:ext cx="43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乘坐汽车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手和头能望外伸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0120" y="3048120"/>
            <a:ext cx="43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跳高跳远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什么地方跳安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83880" y="1746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安全知识问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48840" y="5257800"/>
            <a:ext cx="34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请选择其中两个问题回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 rot="1556400">
            <a:off x="6588000" y="3789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47560" y="1247760"/>
            <a:ext cx="42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室内装修装饰不宜采用什么材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88560" y="2184480"/>
            <a:ext cx="30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火灾袭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该怎么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39720" y="306864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现有人煤气中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应该怎么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83880" y="1746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安全知识问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48840" y="5257800"/>
            <a:ext cx="34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请选择其中两个问题回答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 rot="1556400">
            <a:off x="6588000" y="3789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-16020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97864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安全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89160" y="1051920"/>
            <a:ext cx="45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老师就像我妈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安全知识要听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62240" y="1628280"/>
            <a:ext cx="45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就要爱学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楼下楼不打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60440" y="3860280"/>
            <a:ext cx="44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快快乐乐上学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平安安回到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58360" y="3357000"/>
            <a:ext cx="45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危险地方我不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会保护我自己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35680" y="2781360"/>
            <a:ext cx="44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过马路时两边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牢记走在斑马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35680" y="2205000"/>
            <a:ext cx="43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无食品我不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防止病从我口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58332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7400" y="49528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禁止右转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701064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76520" y="57913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禁止鸣喇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933960" cy="487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76520" y="594360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人行横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5833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52480" y="49528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铁  道 路 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85800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5257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注 意 儿 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58332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7920" y="51814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注  意  危  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07:50:1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15:29Z</dcterms:modified>
  <cp:revision>1</cp:revision>
  <dc:subject>主题班会课件(分28大类): http://shop62905894.taobao.com</dc:subject>
  <dc:title>主题班会课件(分28大类): http://shop62905894.taobao.com</dc:title>
</cp:coreProperties>
</file>