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824-9392-455C-8083-ED58B841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1E5B-7B4D-4E8D-9E20-49D26404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EC4-A267-4130-894D-20491476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4E4-89EF-4DBC-9594-8EAC2697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EB6-78C6-4540-96F9-74ACC90E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5F3-FB2E-4B19-9F44-0A480A33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59E-0A79-4BE1-90A6-A746AC3A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71B-E564-4F89-AE15-5C21CCB5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D77-697C-44A4-8D84-54853AF9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EAB-DB6E-4B94-A275-C306A6E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245-BCE9-4F47-ACDF-2206ADB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EC0-69FC-449A-8AB2-8D603643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A1CC-D6DA-4196-87FB-AE2EE2ECBB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000000"/>
                </a:solidFill>
                <a:latin typeface="Arial"/>
                <a:ea typeface="华文新魏"/>
              </a:rPr>
              <a:t>安全教育主题班会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劳动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参加劳动，遵守劳动纪律，注意安全防范，擦拭玻璃窗时，勿将身体探出窗外，以免坠楼摔伤致残或死亡，擦拭灯管、灯架、电扇等电器时，要有人保护，切断电源，以防摔伤或触电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校外活动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未经家长同意不得私自外出。外宿和远游，防止绑架，拐骗和走失，不到危险地域游玩。要特别注意节假日安全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法律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中华人民共和国预防未成年人犯罪法》规定，未成年人不得有下列不良行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旷课，夜不归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携带管制刀具（铁棍）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打架斗殴，辱骂他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强行向他人索要财物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偷窃，故意毁坏财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参与赌博或者变相赌博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观看收听色情，淫秽的音像制品，读物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入法律，法规规定未成年人不适宜进入的营业性歌舞厅等场所（包括网吧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   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.</a:t>
            </a:r>
            <a:r>
              <a:rPr b="0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其他严重违背社会公德的不良行为。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遵纪守法，慎重交友，不与社会闲散人员来往，遇到人身，财物受到侵犯时，记住对方特征，及时报警。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自我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注意自我安全防范，保护生命安全，时刻记住“生命第一”的宗旨，任何时候，任何情况，首先保护生命为第一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1.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为了我们自身的安全，在学校和校外我们应该注意些什么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2.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遇到一些意外情况时，我们该怎么办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新的学期开始了，注重个人安全及身心健康是我们正常学习、生活的重要前提和条件，同时也是学校教育工作的重要方面。本次班会学习材料主要给大家讲解一些相关的知识，希望大家认真学习。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24000" y="290160"/>
            <a:ext cx="287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交通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7040" y="2207880"/>
            <a:ext cx="792972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</a:t>
            </a:r>
            <a:r>
              <a:rPr b="0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遵守“交规”，严禁骑摩托车上学，不乘坐无牌证车辆及超载客车，横穿公路一看，二慢，三通过，不抢道，不搭肩骑车，不猛拐弯，不攀爬机动车辆。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95280" y="290160"/>
            <a:ext cx="453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游泳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私自下溪、河、池塘、水库等水域游泳、洗澡或游玩，不在水边戏水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81240" y="312480"/>
            <a:ext cx="36086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消防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接触易燃易爆物品，不玩火，不得在野外使用明火，不准上山野炊，宿舍禁止点蜡烛，不损坏消防设施。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40000" y="274680"/>
            <a:ext cx="540072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饮食卫生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不随便吃零食，野果，不买“三无”产品。不吃过期和霉烂变质食品，防止食物中毒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用电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不准随便接触电源和带电电器，不得在教室，宿舍私接电源，使用电器，不在雷雨时躲避于树下，电线杆下或其他容易引发雷电击伤的地方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校内活动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不翻越围墙，不攀爬树木或建筑物，不在教室，走廊嬉闹或进行不安全的戏闹（互相追逐，奔跑，动手动脚）不开不文明或过激玩笑。不往楼下投掷杂物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运动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  <a:ea typeface="华文楷体"/>
              </a:rPr>
              <a:t>体育课和课外活动，应注意场地，运动设施，器械是否安全，注意安全保护，体弱或有疾病的同学，应向老师请假说明，不要做激烈运动。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2:49Z</dcterms:modified>
  <cp:revision>28</cp:revision>
  <dc:subject>主题班会课件(分28大类): http://shop62905894.taobao.com</dc:subject>
  <dc:title>主题班会课件(分28大类): http://shop62905894.taobao.com</dc:title>
</cp:coreProperties>
</file>