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6.gif" ContentType="image/gif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explode.wav" ContentType="audio/x-wav"/>
  <Override PartName="/ppt/media/image22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0.jpeg" ContentType="image/jpeg"/>
  <Override PartName="/ppt/media/image27.jpeg" ContentType="image/jpeg"/>
  <Override PartName="/ppt/media/image33.jpeg" ContentType="image/jpeg"/>
  <Override PartName="/ppt/media/image11.jpeg" ContentType="image/jpeg"/>
  <Override PartName="/ppt/media/coin.wav" ContentType="audio/x-wav"/>
  <Override PartName="/ppt/media/image9.jpeg" ContentType="image/jpeg"/>
  <Override PartName="/ppt/media/image36.jpeg" ContentType="image/jpeg"/>
  <Override PartName="/ppt/media/image29.jpeg" ContentType="image/jpeg"/>
  <Override PartName="/ppt/media/image10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4.jpeg" ContentType="image/jpeg"/>
  <Override PartName="/ppt/media/whoosh.wav" ContentType="audio/x-wav"/>
  <Override PartName="/ppt/media/image28.jpeg" ContentType="image/jpeg"/>
  <Override PartName="/ppt/media/image37.jpeg" ContentType="image/jpeg"/>
  <Override PartName="/ppt/media/image12.jpeg" ContentType="image/jpeg"/>
  <Override PartName="/ppt/media/image8.jpeg" ContentType="image/jpeg"/>
  <Override PartName="/ppt/media/image39.jpeg" ContentType="image/jpeg"/>
  <Override PartName="/ppt/media/image38.jpeg" ContentType="image/jpeg"/>
  <Override PartName="/ppt/media/image7.jpeg" ContentType="image/jpeg"/>
  <Override PartName="/ppt/media/image5.gif" ContentType="image/gif"/>
  <Override PartName="/ppt/media/image14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3283-53CD-4948-ABA6-9D4025730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D8A3-686C-4784-B5DB-F9D53A3CA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BD01-AB73-4D17-AE8F-3F005FCAD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509D-51AC-4C93-A0C5-7C97F1595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E7AC-353A-4279-812A-6FB6F684F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28C7-195D-46BC-BF84-68DB4678D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7918-1C5D-4A0A-9984-A51C2B7D0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542A-A6C7-431D-8074-3A7AE6E71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404C-0FD1-4A98-814C-377D7820A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7088-3BCF-426B-B25A-65455CF08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6E13-68E2-447B-B6D3-CB423A512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EFE0-5837-44F5-AAD6-350672454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701AF-2856-42E7-B738-E7532D3CF72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audio" Target="../media/whoosh.wav"/><Relationship Id="rId7" Type="http://schemas.openxmlformats.org/officeDocument/2006/relationships/audio" Target="../media/coin.wav"/><Relationship Id="rId8" Type="http://schemas.openxmlformats.org/officeDocument/2006/relationships/audio" Target="../media/explode.wav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audio" Target="../media/explode.wav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263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-433440" y="-324000"/>
            <a:ext cx="9577440" cy="7182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1187280" y="476280"/>
            <a:ext cx="7274160" cy="266544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1584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  <a:solidFill>
                  <a:srgbClr val="3366ff"/>
                </a:solidFill>
                <a:latin typeface="宋体"/>
              </a:rPr>
              <a:t>life</a:t>
            </a:r>
            <a:r>
              <a:rPr b="0" lang="zh-CN" sz="1800" spc="1" strike="noStrike">
                <a:ln cap="rnd" w="1584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  <a:solidFill>
                  <a:srgbClr val="3366ff"/>
                </a:solidFill>
                <a:latin typeface="宋体"/>
              </a:rPr>
              <a:t>不屬於你自己</a:t>
            </a:r>
            <a:endParaRPr b="0" lang="en-US" sz="1800" spc="1" strike="noStrike">
              <a:ln cap="rnd" w="15840">
                <a:solidFill>
                  <a:srgbClr val="000000"/>
                </a:solidFill>
                <a:custDash>
                  <a:ds d="100000" sp="1000"/>
                </a:custDash>
                <a:miter/>
              </a:ln>
              <a:solidFill>
                <a:srgbClr val="3366ff"/>
              </a:solidFill>
              <a:latin typeface="宋体"/>
              <a:ea typeface="宋体"/>
            </a:endParaRPr>
          </a:p>
        </p:txBody>
      </p:sp>
      <p:sp>
        <p:nvSpPr>
          <p:cNvPr id="45" name=""/>
          <p:cNvSpPr/>
          <p:nvPr/>
        </p:nvSpPr>
        <p:spPr>
          <a:xfrm>
            <a:off x="3924360" y="5734080"/>
            <a:ext cx="46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主办人：李婷 李娜 宋雪萌 孙天桓 吴非 赵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817236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207104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924360" cy="35002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3995640" y="3645000"/>
            <a:ext cx="5148360" cy="3213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859280" y="18900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幼圆"/>
              </a:rPr>
              <a:t>火灾逃生秘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427640" y="836640"/>
            <a:ext cx="45352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第一诀：熟悉环境，暗记出口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第二诀：通道出口，畅通无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第三诀：扑灭小火，惠及他人。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第四诀：保持镇静，明辨方向，迅速撤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第五诀：不入险地，不贪财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第六诀：简易防护，蒙鼻匍匐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9280" y="3716280"/>
            <a:ext cx="345600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第七诀：善用通道，莫入电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第八诀：缓降逃生，滑绳自救。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                              第九诀：避难场所，固守待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第十诀：缓晃轻抛，寻求援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第十一诀：火已及身，切勿惊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第十二诀：跳楼有术，虽损求生。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1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2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6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7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826920" y="549360"/>
            <a:ext cx="568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Arial"/>
                <a:ea typeface="楷体_GB2312"/>
              </a:rPr>
              <a:t>三、安全教育之校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258920" y="1484280"/>
            <a:ext cx="720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学校，一个给人知识的地方，是我们第二个栖息场所。在这里，我们共同成长。现如今，在学校却发生了许多不可思议的事。请看由李娜、孙天桓表演的短剧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348000" y="1125360"/>
            <a:ext cx="3024360" cy="23749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 rot="1796400">
            <a:off x="684360" y="1052280"/>
            <a:ext cx="2879640" cy="22622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 rot="21306000">
            <a:off x="5092200" y="2634840"/>
            <a:ext cx="3529080" cy="3024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 rot="20898000">
            <a:off x="1444320" y="3712680"/>
            <a:ext cx="3673440" cy="27576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3203640" y="2133720"/>
            <a:ext cx="3240000" cy="2952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8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203640" cy="33577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4788000" y="0"/>
            <a:ext cx="4356000" cy="4437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250920" y="3500280"/>
            <a:ext cx="2930400" cy="30877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860640" y="189000"/>
            <a:ext cx="54612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一学生，为自己的过错进行忏悔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64000" y="4797360"/>
            <a:ext cx="37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  <a:ea typeface="幼圆"/>
              </a:rPr>
              <a:t>纵观校园暴力类型及所占百分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73840" y="3573360"/>
            <a:ext cx="109512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某学生因参与打架斗殴，重伤被送进医院，急救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059280" y="3789360"/>
            <a:ext cx="54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以上为此次班会内容，望同学们听后，有所感触，想一想，自己做了哪些，没做到哪些，忽略了哪些，拥有着哪些。请记住，生命并不只属于自己。谢谢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horz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 rot="21453000">
            <a:off x="2122200" y="2360160"/>
            <a:ext cx="4248000" cy="2374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The End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75564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0" dur="345996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22440" y="4797360"/>
            <a:ext cx="10335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ff"/>
                </a:solidFill>
                <a:latin typeface="Arial"/>
                <a:ea typeface="幼圆"/>
              </a:rPr>
              <a:t>安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25720" y="4724280"/>
            <a:ext cx="103356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ff"/>
                </a:solidFill>
                <a:latin typeface="Arial"/>
                <a:ea typeface="幼圆"/>
              </a:rPr>
              <a:t>伴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922720" y="4653000"/>
            <a:ext cx="881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ff99ff"/>
                </a:solidFill>
                <a:latin typeface="Arial"/>
                <a:ea typeface="幼圆"/>
              </a:rPr>
              <a:t>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578360" y="5157720"/>
            <a:ext cx="8812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ff99ff"/>
                </a:solidFill>
                <a:latin typeface="Arial"/>
                <a:ea typeface="幼圆"/>
              </a:rPr>
              <a:t>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765000"/>
            <a:ext cx="39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zh-CN" sz="4000" spc="-1" strike="noStrike">
                <a:solidFill>
                  <a:srgbClr val="ff3300"/>
                </a:solidFill>
                <a:latin typeface="Arial"/>
              </a:rPr>
              <a:t>内容提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50920" y="4221000"/>
            <a:ext cx="1511280" cy="15843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140360" y="1773360"/>
            <a:ext cx="38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）交通安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211640" y="2276640"/>
            <a:ext cx="28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）消防安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284720" y="278136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）校园安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56000" y="1773360"/>
            <a:ext cx="863640" cy="36036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ccff"/>
              </a:gs>
              <a:gs pos="100000">
                <a:srgbClr val="80808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916360" y="2349360"/>
            <a:ext cx="792000" cy="360360"/>
          </a:xfrm>
          <a:prstGeom prst="sun">
            <a:avLst>
              <a:gd name="adj" fmla="val 2500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9932600">
            <a:off x="3494160" y="2925720"/>
            <a:ext cx="352440" cy="434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ff"/>
              </a:gs>
              <a:gs pos="100000">
                <a:srgbClr val="ffffff"/>
              </a:gs>
            </a:gsLst>
            <a:lin ang="706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 rot="20605800">
            <a:off x="6335280" y="1341000"/>
            <a:ext cx="2808360" cy="18226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71640" y="98100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800080"/>
                </a:solidFill>
                <a:latin typeface="Arial"/>
                <a:ea typeface="楷体_GB2312"/>
              </a:rPr>
              <a:t>一、安全教育之交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42920" y="1916280"/>
            <a:ext cx="7489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1800" spc="-1" strike="noStrike">
                <a:solidFill>
                  <a:srgbClr val="cc0000"/>
                </a:solidFill>
                <a:latin typeface="Arial"/>
              </a:rPr>
              <a:t>交通法规，乃生命之友。在我们的身边，会存在很多危险，而我们最容易忽略的就是交通安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Arial"/>
              </a:rPr>
              <a:t>        </a:t>
            </a:r>
            <a:r>
              <a:rPr b="1" lang="zh-CN" sz="1800" spc="-1" strike="noStrike">
                <a:solidFill>
                  <a:srgbClr val="cc0000"/>
                </a:solidFill>
                <a:latin typeface="Arial"/>
              </a:rPr>
              <a:t>据了解，我国交通事故致死率几乎是世界平均值的</a:t>
            </a:r>
            <a:r>
              <a:rPr b="1" lang="zh-CN" sz="1800" spc="-1" strike="noStrike">
                <a:solidFill>
                  <a:srgbClr val="cc0000"/>
                </a:solidFill>
                <a:latin typeface="Arial"/>
              </a:rPr>
              <a:t>6</a:t>
            </a:r>
            <a:r>
              <a:rPr b="1" lang="zh-CN" sz="1800" spc="-1" strike="noStrike">
                <a:solidFill>
                  <a:srgbClr val="cc0000"/>
                </a:solidFill>
                <a:latin typeface="Arial"/>
              </a:rPr>
              <a:t>倍，占全球的</a:t>
            </a:r>
            <a:r>
              <a:rPr b="1" lang="zh-CN" sz="18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cc0000"/>
                </a:solidFill>
                <a:latin typeface="Arial"/>
              </a:rPr>
              <a:t>／</a:t>
            </a:r>
            <a:r>
              <a:rPr b="1" lang="zh-CN" sz="1800" spc="-1" strike="noStrike">
                <a:solidFill>
                  <a:srgbClr val="cc0000"/>
                </a:solidFill>
                <a:latin typeface="Arial"/>
              </a:rPr>
              <a:t>5</a:t>
            </a:r>
            <a:r>
              <a:rPr b="1" lang="zh-CN" sz="1800" spc="-1" strike="noStrike">
                <a:solidFill>
                  <a:srgbClr val="cc0000"/>
                </a:solidFill>
                <a:latin typeface="Arial"/>
              </a:rPr>
              <a:t>。美国</a:t>
            </a:r>
            <a:r>
              <a:rPr b="1" lang="zh-CN" sz="1800" spc="-1" strike="noStrike">
                <a:solidFill>
                  <a:srgbClr val="cc0000"/>
                </a:solidFill>
                <a:latin typeface="Arial"/>
              </a:rPr>
              <a:t>20</a:t>
            </a:r>
            <a:r>
              <a:rPr b="1" lang="zh-CN" sz="1800" spc="-1" strike="noStrike">
                <a:solidFill>
                  <a:srgbClr val="cc0000"/>
                </a:solidFill>
                <a:latin typeface="Arial"/>
              </a:rPr>
              <a:t>多年来机动车增长</a:t>
            </a:r>
            <a:r>
              <a:rPr b="1" lang="zh-CN" sz="1800" spc="-1" strike="noStrike">
                <a:solidFill>
                  <a:srgbClr val="cc0000"/>
                </a:solidFill>
                <a:latin typeface="Arial"/>
              </a:rPr>
              <a:t>73</a:t>
            </a:r>
            <a:r>
              <a:rPr b="1" lang="zh-CN" sz="1800" spc="-1" strike="noStrike">
                <a:solidFill>
                  <a:srgbClr val="cc0000"/>
                </a:solidFill>
                <a:latin typeface="Arial"/>
              </a:rPr>
              <a:t>％，但交通事故死亡人数却下降</a:t>
            </a:r>
            <a:r>
              <a:rPr b="1" lang="zh-CN" sz="1800" spc="-1" strike="noStrike">
                <a:solidFill>
                  <a:srgbClr val="cc0000"/>
                </a:solidFill>
                <a:latin typeface="Arial"/>
              </a:rPr>
              <a:t>27</a:t>
            </a:r>
            <a:r>
              <a:rPr b="1" lang="zh-CN" sz="1800" spc="-1" strike="noStrike">
                <a:solidFill>
                  <a:srgbClr val="cc0000"/>
                </a:solidFill>
                <a:latin typeface="Arial"/>
              </a:rPr>
              <a:t>．</a:t>
            </a:r>
            <a:r>
              <a:rPr b="1" lang="zh-CN" sz="1800" spc="-1" strike="noStrike">
                <a:solidFill>
                  <a:srgbClr val="cc0000"/>
                </a:solidFill>
                <a:latin typeface="Arial"/>
              </a:rPr>
              <a:t>5</a:t>
            </a:r>
            <a:r>
              <a:rPr b="1" lang="zh-CN" sz="1800" spc="-1" strike="noStrike">
                <a:solidFill>
                  <a:srgbClr val="cc0000"/>
                </a:solidFill>
                <a:latin typeface="Arial"/>
              </a:rPr>
              <a:t>％；日本机动车拥有量增加了三倍，但交通事故死亡率下降了</a:t>
            </a:r>
            <a:r>
              <a:rPr b="1" lang="zh-CN" sz="1800" spc="-1" strike="noStrike">
                <a:solidFill>
                  <a:srgbClr val="cc0000"/>
                </a:solidFill>
                <a:latin typeface="Arial"/>
              </a:rPr>
              <a:t>55</a:t>
            </a:r>
            <a:r>
              <a:rPr b="1" lang="zh-CN" sz="1800" spc="-1" strike="noStrike">
                <a:solidFill>
                  <a:srgbClr val="cc0000"/>
                </a:solidFill>
                <a:latin typeface="Arial"/>
              </a:rPr>
              <a:t>％。这说明影响交通安全不仅与交通结构、城市结构及基础设施水平有关，而且也与民安全意识、管理水平、法制道德水平等密切相关。所以，我们应该重视交通安全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20790600">
            <a:off x="6227640" y="4941720"/>
            <a:ext cx="2698920" cy="1443240"/>
          </a:xfrm>
          <a:prstGeom prst="cloudCallout">
            <a:avLst>
              <a:gd name="adj1" fmla="val -42648"/>
              <a:gd name="adj2" fmla="val 70023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下面请看一组图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68720" cy="39337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643280" y="3860640"/>
            <a:ext cx="4500720" cy="29973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 rot="20853000">
            <a:off x="5364000" y="1267920"/>
            <a:ext cx="2880000" cy="1440000"/>
          </a:xfrm>
          <a:prstGeom prst="cloudCallout">
            <a:avLst>
              <a:gd name="adj1" fmla="val -43750"/>
              <a:gd name="adj2" fmla="val 70000"/>
            </a:avLst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615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跑车，真好，想怎样跑及怎样跑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767400">
            <a:off x="1116000" y="4508640"/>
            <a:ext cx="3527280" cy="1224000"/>
          </a:xfrm>
          <a:prstGeom prst="cloudCallout">
            <a:avLst>
              <a:gd name="adj1" fmla="val -43611"/>
              <a:gd name="adj2" fmla="val 49601"/>
            </a:avLst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1003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爆！真有型，不过就是不能跑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 rot="1162800">
            <a:off x="3851280" y="764640"/>
            <a:ext cx="3672000" cy="30974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 rot="21101400">
            <a:off x="178920" y="907920"/>
            <a:ext cx="3708360" cy="2349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 rot="324600">
            <a:off x="899640" y="2781360"/>
            <a:ext cx="4859280" cy="3095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 rot="21166200">
            <a:off x="5579640" y="4005360"/>
            <a:ext cx="2808360" cy="2448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 rot="19837800">
            <a:off x="5940360" y="691920"/>
            <a:ext cx="2827440" cy="27478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 rot="20215800">
            <a:off x="3203640" y="2205000"/>
            <a:ext cx="295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6600"/>
                </a:solidFill>
                <a:latin typeface="Arial"/>
              </a:rPr>
              <a:t>惨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500"/>
                            </p:stCondLst>
                            <p:childTnLst>
                              <p:par>
                                <p:cTn id="11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4500"/>
                            </p:stCondLst>
                            <p:childTnLst>
                              <p:par>
                                <p:cTn id="12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35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6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137" dur="1230" fill="hold"/>
                                        <p:tgtEl>
                                          <p:spTgt spid="72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138" dur="123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139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140" dur="123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141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 rot="20913000">
            <a:off x="2340000" y="1773000"/>
            <a:ext cx="2395440" cy="25257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218120" y="3164040"/>
            <a:ext cx="3954240" cy="29588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 rot="21139800">
            <a:off x="250920" y="2636640"/>
            <a:ext cx="3241440" cy="24256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5364000" y="549360"/>
            <a:ext cx="3403800" cy="2286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0" y="0"/>
            <a:ext cx="2820960" cy="21765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 rot="20641200">
            <a:off x="3708360" y="404280"/>
            <a:ext cx="2597040" cy="27082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 rot="20048400">
            <a:off x="1009440" y="4219200"/>
            <a:ext cx="180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333399"/>
                </a:solidFill>
                <a:latin typeface="Arial"/>
              </a:rPr>
              <a:t>泪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8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000"/>
                            </p:stCondLst>
                            <p:childTnLst>
                              <p:par>
                                <p:cTn id="170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8000"/>
                            </p:stCondLst>
                            <p:childTnLst>
                              <p:par>
                                <p:cTn id="17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8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9000"/>
                            </p:stCondLst>
                            <p:childTnLst>
                              <p:par>
                                <p:cTn id="18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11280" y="1125360"/>
            <a:ext cx="56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Arial"/>
                <a:ea typeface="幼圆"/>
              </a:rPr>
              <a:t>温馨提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55640" y="191628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以上图片，不是为了看热闹，而是为了让同学们对其引起重视，在出行时，定要精力集中，注意安全！如何做，大家都应清楚，严格遵守交通法规，了解安全常识，健康的成长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0920" y="6093000"/>
            <a:ext cx="4897440" cy="576000"/>
          </a:xfrm>
          <a:custGeom>
            <a:avLst/>
            <a:gdLst>
              <a:gd name="textAreaLeft" fmla="*/ 1224360 w 4897440"/>
              <a:gd name="textAreaRight" fmla="*/ 3673080 w 4897440"/>
              <a:gd name="textAreaTop" fmla="*/ 72000 h 576000"/>
              <a:gd name="textAreaBottom" fmla="*/ 559080 h 57600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20960"/>
                </a:lnTo>
                <a:arcTo wR="21600" hR="20153" stAng="4471878" swAng="-976834"/>
                <a:lnTo>
                  <a:pt x="18900" y="1067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25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10679"/>
                </a:lnTo>
                <a:close/>
              </a:path>
              <a:path fill="none" w="21600" h="21600">
                <a:moveTo>
                  <a:pt x="8100" y="25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25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20960"/>
                </a:moveTo>
                <a:lnTo>
                  <a:pt x="5400" y="2060"/>
                </a:lnTo>
              </a:path>
              <a:path fill="none" w="21600" h="21600">
                <a:moveTo>
                  <a:pt x="16200" y="20960"/>
                </a:moveTo>
                <a:lnTo>
                  <a:pt x="16200" y="2060"/>
                </a:lnTo>
              </a:path>
            </a:pathLst>
          </a:custGeom>
          <a:gradFill rotWithShape="0">
            <a:gsLst>
              <a:gs pos="0">
                <a:srgbClr val="ccffff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4360" y="5516640"/>
            <a:ext cx="647640" cy="576360"/>
          </a:xfrm>
          <a:prstGeom prst="flowChartConnector">
            <a:avLst/>
          </a:prstGeom>
          <a:gradFill rotWithShape="0">
            <a:gsLst>
              <a:gs pos="0">
                <a:srgbClr val="ffffff"/>
              </a:gs>
              <a:gs pos="100000">
                <a:srgbClr val="f8ff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08360" y="4581360"/>
            <a:ext cx="936720" cy="792360"/>
          </a:xfrm>
          <a:prstGeom prst="flowChartConnector">
            <a:avLst/>
          </a:prstGeom>
          <a:gradFill rotWithShape="0">
            <a:gsLst>
              <a:gs pos="0">
                <a:srgbClr val="a2e7f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00360" y="5300640"/>
            <a:ext cx="503280" cy="503280"/>
          </a:xfrm>
          <a:prstGeom prst="flowChartConnector">
            <a:avLst/>
          </a:prstGeom>
          <a:gradFill rotWithShape="0">
            <a:gsLst>
              <a:gs pos="0">
                <a:srgbClr val="bbe0e3"/>
              </a:gs>
              <a:gs pos="100000">
                <a:srgbClr val="ffcc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971640" y="981000"/>
            <a:ext cx="532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cc"/>
                </a:solidFill>
                <a:latin typeface="Arial"/>
                <a:ea typeface="楷体_GB2312"/>
              </a:rPr>
              <a:t>二、安全教育之消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476360" y="1844640"/>
            <a:ext cx="655164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火是光明的象征，他给我们带来温暖和幸福，但有时也会带来灾难。如果我们对它丧失警惕，它就会像恶魔一样突然降临在我们身边，造成惊心动魄的火灾。所以，消防安全也是不容忽视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下面做一个游戏。规则如下：班中总共分为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8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列，由主持人任选一列，则此列中第一个人要说带“火”字的词语，如“火灾”，然后后面的人依次衔接，一人只能说一个词，且最后连成一句完整的话（可以使用“的、了、着”）。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Eg:“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火灾—烧毁—我们—的—家园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936960" cy="27082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0" y="2708280"/>
            <a:ext cx="4500720" cy="41497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284720" y="18900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幼圆"/>
              </a:rPr>
              <a:t>自救小常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27640" y="620640"/>
            <a:ext cx="396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幼圆"/>
              </a:rPr>
              <a:t>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幼圆"/>
              </a:rPr>
              <a:t>在火灾中，被困人员应有良好的心理素质，保持镇静，不要惊慌，不盲目地行动，选择正确的逃生方法。　　如果您被困火灾中，您应当利用周围一切可利用的条件逃生，可以利用消防电梯、室内楼梯进行逃生，普通电梯千万不能乘坐，同时，也可以利用阳台。过道以及建筑物外墙的水管进行逃生。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幼圆"/>
              </a:rPr>
              <a:t>　　发生火灾后，会产生浓烟，遇到浓烟时要马上停下来，千万不要试图从烟火里中出，在浓烟中采取低姿势爬行。火灾中产生的浓烟由于热空气上升的作用，大量的浓烟将漂浮在上层，因此在火灾中离地面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幼圆"/>
              </a:rPr>
              <a:t>3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幼圆"/>
              </a:rPr>
              <a:t>公分以下的地方还应该有空气，因此浓烟中尽量采取低姿势爬行，头部尽量贴近地面。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9T12:47:43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4T02:07:09Z</dcterms:modified>
  <cp:revision>6</cp:revision>
  <dc:subject>主题班会课件(分28大类): http://shop62905894.taobao.com</dc:subject>
  <dc:title>主题班会课件(分28大类): http://shop62905894.taobao.com</dc:title>
</cp:coreProperties>
</file>