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A62-B636-4F74-BF08-D7D124C6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79E-2093-49AD-A528-3DF355C0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E3D-41EA-4D14-84BB-80AF1E12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C53-549A-4124-AC53-0ED3BE17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2B1-6D9A-412F-B3A1-2B391E7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5DA-5FD1-4182-9F14-ECA3951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6F8-1B5D-4596-B3C2-0B2B7523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3EC-9F73-4E34-BB65-70A2502D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3E9-4020-4305-B630-170ECB0E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791-445E-44D6-B805-CBF4F39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AB20-4080-430C-8E72-7F7CCC3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3EA-D564-4340-9C32-4D0FD25E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08D-3394-4F6E-A25F-F1045B8253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762120"/>
            <a:ext cx="8001000" cy="22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cc99ff"/>
                  </a:solidFill>
                  <a:prstDash val="dash"/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校园安全主题班会</a:t>
            </a:r>
            <a:endParaRPr b="1" lang="en-US" sz="8000" spc="1" strike="noStrike">
              <a:ln w="28440">
                <a:solidFill>
                  <a:srgbClr val="cc99ff"/>
                </a:solidFill>
                <a:prstDash val="dash"/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45720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判断题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不带与体育课无关的物品，如别针、小刀等金属、硬物上体育课。                                                                          （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干粉灭火器用于扑救图书档案、珍贵设备、精密仪器、和其它一般物质的初起火灾。                     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火灾逃跑时，遇到浓烟，应直立行走。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用煤气时，火被吹灭，不要马上关煤气。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如在室内发现煤气味，要立即开窗。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起火时，可以往身上浇水，以免引火烧身。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游泳时千万不要在水中打闹，以免呛水或受伤。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技巧练习要在海绵垫上进行。           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上体育课时，穿不穿运动衣和运动鞋无所谓。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郊游时发生突发事件，要镇定，服从老师指挥，尽快到安全地带。                                                                          （     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96080" y="51055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772400" y="1143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077320" y="198108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077320" y="2362320"/>
            <a:ext cx="466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077320" y="274320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96080" y="29718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96080" y="335268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696080" y="37339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696080" y="41148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001000" y="457200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3048120"/>
            <a:ext cx="8077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如果教室里发生地震你会怎么办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438280" y="762120"/>
            <a:ext cx="3962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讨论一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19320" y="2057400"/>
            <a:ext cx="7010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火灾来了怎么办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219320" y="2057400"/>
            <a:ext cx="7238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8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消防器材你会用吗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2666880"/>
            <a:ext cx="87631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闻到了煤气味……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1295280"/>
            <a:ext cx="8839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毒蛇出来晒太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不小心打扰了它……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1905120"/>
            <a:ext cx="8382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如果你被它“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KISS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……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2666880"/>
            <a:ext cx="78483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069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珍爱生命 共创明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295280" y="2666880"/>
            <a:ext cx="6667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>
                    <a:alpha val="7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谢参加</a:t>
            </a:r>
            <a:endParaRPr b="1" lang="en-US" sz="1800" spc="1" strike="noStrike">
              <a:ln w="0">
                <a:noFill/>
              </a:ln>
              <a:solidFill>
                <a:srgbClr val="000000">
                  <a:alpha val="7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52680" y="4572000"/>
            <a:ext cx="221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2133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漫长的人生路中，总要有许多难以预料的事情。你是否注意到身边的危险。“防险之心不可无”。你是否知道注意安全，自救险情的重要性。恶魔总是来找无知的人。今天，通过班会，我们要为我们生命买一份保险，为我们的安全加一把锁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05120" y="609480"/>
            <a:ext cx="4419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会目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一个小小的过错，有时会酿成无法挽回的损失，甚至令花季中的孩子过早凋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据调查显示，我国中小学生因溺水、交通事故、食物中毒、建筑物倒塌等意外死亡的，平均每天有</a:t>
            </a: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40</a:t>
            </a: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多人，相当于每天有一个班的学生消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1340200">
            <a:off x="151920" y="228600"/>
            <a:ext cx="3218040" cy="1293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29000" y="457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48840" y="42696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每天消失一个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8580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在校内意外受伤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走廊、楼道里踢球、追逐打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集体上下楼时，不讲秩序、互相拥挤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拿小石子或其他小物件互相丢着玩，或者打来打去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攀高并从高处往下跳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趴阳台，从阳台上往下扔东西，高空抛物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进食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爬墙、玩铁门、教室门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上体育课时在教室里逗留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6156360"/>
            <a:ext cx="609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609480"/>
            <a:ext cx="6400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、校园活动安全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１、校园内和教室里都不追跑哄闹，不攀爬翻越。在走廊上，拐角处和进出教室时都要慢行，防止碰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２、上下楼梯靠右行，逐层上下，不跑，不跳，不推搡，不起哄，不在楼梯扶手上滑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85800"/>
            <a:ext cx="586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３、在学校不玩有伤害性的玩具，课间校内不踢球，不投掷。不触摸有电的地方。自觉遵守校园警示牌的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４、上学期间不经老师同意不得出校门。遇到陌生人来找时要及时报告老师，不得私自跟随出去</a:t>
            </a:r>
            <a:r>
              <a:rPr b="0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609480"/>
            <a:ext cx="6248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５、活动时要有序，不打闹，不做危险动作。万一遇到危险时，要学会避让，学会护住头、脸、脑等部位，防止向后跌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、如遇特殊情况需离开校园的，应先到班主任请假，将班主任批准的请假条交给门卫后方可出校，并在规定的时间内返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1371600"/>
            <a:ext cx="8229600" cy="2971800"/>
          </a:xfrm>
          <a:prstGeom prst="horizontalScroll">
            <a:avLst>
              <a:gd name="adj" fmla="val 12500"/>
            </a:avLst>
          </a:prstGeom>
          <a:solidFill>
            <a:srgbClr val="800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28800" y="2209680"/>
            <a:ext cx="556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同學說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905120"/>
            <a:ext cx="7467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我们要饮用＿＿＿水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质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来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白开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平时要有强烈的＿＿＿意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我保护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毒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眼睛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身体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选） 郊游一般安排在什么季节较好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春季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夏季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秋季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冬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冷饮有＿＿＿作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生病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消暑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润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凉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8120" y="1981080"/>
            <a:ext cx="38088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57600" y="3429000"/>
            <a:ext cx="38088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29400" y="4343400"/>
            <a:ext cx="76212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AD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66880" y="5334120"/>
            <a:ext cx="15264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19520" y="762120"/>
            <a:ext cx="2895480" cy="106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你会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7:29Z</dcterms:modified>
  <cp:revision>21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