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8.jpeg" ContentType="image/jpeg"/>
  <Override PartName="/ppt/media/image17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cashreg.wav" ContentType="audio/x-wav"/>
  <Override PartName="/ppt/media/image11.jpeg" ContentType="image/jpeg"/>
  <Override PartName="/ppt/media/image24.png" ContentType="image/png"/>
  <Override PartName="/ppt/media/image9.jpeg" ContentType="image/jpeg"/>
  <Override PartName="/ppt/media/whoosh.wav" ContentType="audio/x-wav"/>
  <Override PartName="/ppt/media/image8.jpeg" ContentType="image/jpeg"/>
  <Override PartName="/ppt/media/image39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%E8%AD%A6%E9%92%9F.wav" ContentType="audio/x-wav"/>
  <Override PartName="/ppt/media/camera.wav" ContentType="audio/x-wav"/>
  <Override PartName="/ppt/media/image16.png" ContentType="image/png"/>
  <Override PartName="/ppt/media/chimes.wav" ContentType="audio/x-wav"/>
  <Override PartName="/ppt/media/image29.png" ContentType="image/png"/>
  <Override PartName="/ppt/media/image26.png" ContentType="image/png"/>
  <Override PartName="/ppt/media/image31.png" ContentType="image/png"/>
  <Override PartName="/ppt/media/image34.jpeg" ContentType="image/jpeg"/>
  <Override PartName="/ppt/media/image32.png" ContentType="image/png"/>
  <Override PartName="/ppt/media/image41.jpeg" ContentType="image/jpeg"/>
  <Override PartName="/ppt/media/image45.jpeg" ContentType="image/jpeg"/>
  <Override PartName="/ppt/media/image33.jpeg" ContentType="image/jpeg"/>
  <Override PartName="/ppt/media/image27.png" ContentType="image/png"/>
  <Override PartName="/ppt/media/image43.jpeg" ContentType="image/jpeg"/>
  <Override PartName="/ppt/media/image42.jpeg" ContentType="image/jpeg"/>
  <Override PartName="/ppt/media/image25.png" ContentType="image/png"/>
  <Override PartName="/ppt/media/suction.wav" ContentType="audio/x-wav"/>
  <Override PartName="/ppt/media/image4.jpeg" ContentType="image/jpeg"/>
  <Override PartName="/ppt/media/image44.jpeg" ContentType="image/jpeg"/>
  <Override PartName="/ppt/media/image46.jpeg" ContentType="image/jpeg"/>
  <Override PartName="/ppt/media/image6.jpeg" ContentType="image/jpeg"/>
  <Override PartName="/ppt/media/type.wav" ContentType="audio/x-wav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voltage.wav" ContentType="audio/x-wav"/>
  <Override PartName="/ppt/media/image30.png" ContentType="image/png"/>
  <Override PartName="/ppt/media/image37.jpeg" ContentType="image/jpeg"/>
  <Override PartName="/ppt/media/image3.jpeg" ContentType="image/jpeg"/>
  <Override PartName="/ppt/media/wind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60C1-D511-4B34-BE64-555B7BA161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个小同学还不满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，就骑车上路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2DA-F1D9-4388-AA48-7067DEF7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544-9076-467A-A5A1-D1FF02B5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B9ACB-DB56-43E6-A42D-3E7982F2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8BCA9-2B9F-4C93-8182-88B9BEC2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819EC-CC5E-40A5-A654-910CCBFA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8DD88-53CB-43B4-A7F3-09107CE0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EC41A-A806-49FB-9475-FC76A37D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4FBA4-092B-474F-B2DC-0245970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CC6B4-C09A-4DD8-B3F5-8E9F4E40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B58B6-8889-45B2-B58C-DC59C038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B8369-8945-47BD-B12E-EA7C865A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94AE3-371E-40FA-8A83-ADA7DE2D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D4E-6539-4F0B-9743-0D822C3F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9BF7E-D439-4A89-9303-263AED1B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671E7-24E4-423A-B503-F908C274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846C5-6B49-4EC7-96D3-E295B36C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55AF1-DCA6-4B49-B2CE-FBA93CC4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25408-2167-4B98-938B-1415BBE7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73B31-0CD0-4034-A53D-9F5BD8C4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4D644-27E4-42EE-ABB2-0FCCE292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E550F-AE43-484A-AFEB-48B8AFDB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B5585-AA34-4E49-B758-ACE48A13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0903B-B38B-4375-A830-67E01A86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3A2-286A-4E0A-A35B-26D96FBC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C26F1-731C-4E4E-88C4-8D6863DC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E3A1A-A619-4940-9823-F19A6FE2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9C11B-CA49-4DA0-8AD6-308A0FFB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3F350-FB7C-4FD9-A42C-A35408A0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3556A-6586-4E31-A375-E5F102CC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275EF-FB7D-4D65-A1C2-2164567F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D037B-E432-4DBD-84BA-67B7D8B8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D387C-8C9D-425D-AB71-5AB2BAC6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8D396-7D43-401E-965D-BD9BEC53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43682-4846-40CF-9D10-04777946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6932-26B9-42DF-A480-BB4192F2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47C1A-0876-45AB-97C5-D282EDE4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FE8A2-E707-416E-8ACA-C830D238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9F002-38E9-4D8B-8C53-8472B474C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38F0F-1122-4FD8-BDFD-B5BE4E62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BFB25-8AAC-4F43-802A-57B3D98A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4CBDB-BDEE-429F-B4B8-7A18AB7E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6C6AA-49FA-4173-BC42-5CBE2ECE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1436E-1DF1-405D-A391-6F590BBA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36E7E-FF6D-4D92-A177-9E252268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91586-57F8-4303-B8A7-48B93BF9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F6C2-9474-429F-BAB8-EE9DDF8A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27D54-D977-45B9-BA13-C201EB8F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70E41-A4E2-4AC0-9461-F8E1EE3F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5A594-8681-4A92-993E-B158CFA9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9E19E-D4F3-4008-8DFC-1E819911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5FED4-CBAF-4DBF-8717-9517C4C3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6574-EB54-4124-9A75-3E6EAF56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AAF3-CB77-4E8F-AF1E-0911F39F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1709-44E8-4ECF-B87D-3B0E2F32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4408-2C8A-45C8-8A5C-F0BCB0EF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0B15-844F-48A6-9F50-16B9E1F6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E80-61E3-4EC9-98E9-AA5E59C3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90DA-49EB-49A5-91B6-6CC60CF2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C818-B6A4-40C9-B654-8ACCB07F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555E-891C-49F1-A09F-2AFDE4F3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BEAD-92FC-4E02-B944-0022B44A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8C11-95BB-4288-A98B-0662E090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3B876-00DF-4462-939F-0F980254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2501-AB30-468F-823E-2EB7C76B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B7AA0-0303-448F-A93D-85442BD1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5351F-9E2F-4291-AE9B-A5029C76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6324-C784-4639-AC64-F76CAE8B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FC6-2F10-426D-9C93-22E7FD7A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7C65-9A80-4528-B972-9B84D060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1957D-4AC3-4C67-8625-46F4AF27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8B86B-909F-4D1A-9091-A6D1259B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F1C7-579D-4511-9208-D81EEBF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A9AD-97BB-4BA1-B990-36C0564E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5299D-BF56-4D11-A934-038170FF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B7F7-BF77-4580-AE39-06A41E81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F7D4D-2A8B-43B6-83DF-F32AD757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C0B08-F71F-49A6-88CC-E945E214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34AD2-AAE9-4B92-8F4C-92BE49BB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252-3D3C-4201-AB24-F981AD7B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F53F3-6905-457C-99BE-BBF1E76A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0941-AB5D-4BBA-AC55-09D2A4A2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A244D-3565-4B98-B2A8-8C211C59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033B5-9018-4DDD-8EC1-8062E96B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6221C-008E-4253-87C5-C48D4299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4373-4ECE-418D-A598-4AEA900C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DAA46-5CE5-478D-87EC-78406C66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EC9F9-3909-4EF7-97E8-71E31C87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01A0F-01D0-401C-AD2F-5406F1F3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3ACAB-E37E-4230-9385-84AFF8CB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911-A84E-46B3-92C7-A0805049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79123-C722-452A-90C5-364AC090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09755-B80A-4646-8D15-153FA872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29E10-399E-4F33-ABC7-D948EA73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4D37C-6D1F-4129-BFF4-2C446093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FA8A9-B6C5-4C09-9429-C3BD51A7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3E7D8-7545-4E59-AE1F-8DE171ED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A0E92-144C-41A4-AB2A-D02C4857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1A5CE-91E9-48F2-A21A-3FFCE737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0AF96-2DF4-4BEC-8296-2A34D0F7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A5AA4-3BC4-40A0-9149-D063FCB0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3A5-5759-4D12-AD31-104ED6B4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25F22-F39C-48F8-9870-7891959A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B8D8D-0C88-4034-B20D-371A5FDE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38657-2DD5-4C99-B8D2-3D5F845C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D7F86-6D3E-416A-9D79-26AE2C32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AC4F9-002D-4C65-88D6-CFD7B065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80361-6F3F-44D9-8DE5-8D81E208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EBD96-5E88-47F3-8037-7DBFCA25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2D7DC-54AD-4169-B414-28F0A08F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FCA63-E5DA-40FC-A2D9-3A112305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3CAF9-071E-4A1D-8062-D824C540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672-FD7A-4C20-9125-5658BBDE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671B7-1499-4DAB-8297-F73C3B46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7FA1A-3784-4D2C-8506-9763E523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A7A66-E815-4E48-B827-447B1E9A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BED88-3B66-45B8-B277-C18208C6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364B6-3784-445A-876A-664AEED0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ADDBE-33F8-4365-AF48-53235573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942F4-1BD3-4385-BC46-8469220A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9FCAC-2050-4266-A2A0-A4DA9E38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0E13F-40E9-4C7D-8B8B-60434FA5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1533D-0950-4A6F-8545-9216A7C8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2C7-357E-41F8-97E0-57C10407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EFD4C-96E6-4294-A90A-05D4A854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096F3-B25C-4A11-91DB-039E138A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C2527-506B-4988-9903-C7379D31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DD2EA-3E6D-4CC6-865C-AE984C13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CE3FD-CC53-4B8F-8FAB-4B0EEB79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E4212-9E8D-4A1E-AC29-B2E5424D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F3C44-91F2-4977-BF2B-73B0AFFD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DA9C8-6B86-4E38-AD68-EF5D73C3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3E514-66BA-4358-86D3-469B8D72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7ECE4-60E3-4572-9355-AD4617BD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4ED-D8DC-4E33-A0AE-41C6EE19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395CE-944B-4E81-AD45-35245221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BE366-F5B6-4A56-A9FC-808BCC86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70F52-68E3-4BCE-9F1D-2C148C83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35769-05BC-4EF8-9F77-3F8B3AEF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01674-A78F-4EE6-8CC4-16E77929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E7E99-A3CC-4A41-A74E-799E2D856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77F40-6634-421D-9D68-E3FDF041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DCAA6-9260-4F2D-ADDD-1ADD3C78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EC4DD-1401-476F-91B5-151885D2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7D684-A1B7-4CB1-B4DF-CE5D7899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F9DA-A133-45B3-9967-5F0E1B040DE4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4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4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5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5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5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5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6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6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6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7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7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7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8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8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8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8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9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9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9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0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0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0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1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1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02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2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3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3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4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4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5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5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5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6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3EF7-0A30-4838-96D6-CCF49AAED5C2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1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2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4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6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3144-1EC6-492E-935D-E0738D713BF3}" type="slidenum">
              <a:rPr b="0" lang="zh-CN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25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27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52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1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B8F3-2E67-472A-85ED-04B745F43BBA}" type="slidenum">
              <a:rPr b="0" lang="zh-CN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2CB6-00DD-4B85-830F-3961147F517B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8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4F9E-B9BE-4D66-A517-F8BA46A261D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29C9-472A-46E4-846E-CC9ACBF771B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73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319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33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47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61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75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89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403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405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6208-9532-46EF-8941-56FD887C36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61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75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1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1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85EC-92E0-47BC-BB12-E149D7AAD1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25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7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7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8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4233-8F90-445C-8147-A6916DB32A67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2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72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Num" idx="24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C1CA-CDC9-4656-A23D-E4803250F893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7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7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7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7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8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80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1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82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3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3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4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6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6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8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4254-9063-40E7-8FCB-00FE31256853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&#35686;&#38047;.wav"/><Relationship Id="rId2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hoosh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wind.wav"/><Relationship Id="rId3" Type="http://schemas.openxmlformats.org/officeDocument/2006/relationships/audio" Target="../media/&#35686;&#38047;.wav"/><Relationship Id="rId4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2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2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2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2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2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2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2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voltage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16.png"/><Relationship Id="rId3" Type="http://schemas.openxmlformats.org/officeDocument/2006/relationships/audio" Target="../media/&#35686;&#38047;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ind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黑体"/>
                <a:ea typeface="黑体"/>
              </a:rPr>
              <a:t>事故猛于虎  安全重如山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8%AD%A6%E9%92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80060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黑体"/>
              </a:rPr>
              <a:t>惨痛的教训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现代交通归根到底要靠人来实现，如果交通参与者的基础工作做不好，现代交通技术再先进也是流沙上盖房子——徒劳。</a:t>
            </a: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200"/>
                            </p:stCondLst>
                            <p:childTnLst>
                              <p:par>
                                <p:cTn id="1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5" name="" descr=""/>
          <p:cNvPicPr/>
          <p:nvPr/>
        </p:nvPicPr>
        <p:blipFill>
          <a:blip r:embed="rId1"/>
          <a:stretch/>
        </p:blipFill>
        <p:spPr>
          <a:xfrm>
            <a:off x="507960" y="1600200"/>
            <a:ext cx="8128080" cy="4876920"/>
          </a:xfrm>
          <a:prstGeom prst="rect">
            <a:avLst/>
          </a:prstGeom>
          <a:ln w="0">
            <a:noFill/>
          </a:ln>
        </p:spPr>
      </p:pic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黑体"/>
              </a:rPr>
              <a:t>惨痛的教训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据专家预测：到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2020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年，车祸致人死伤的排名，将提前到第三位，伤亡人数将增加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60%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，远远高于艾滋病、疟疾等疾病。现在到了必须关注交通文明的时候了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8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464832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114800" cy="4648320"/>
          </a:xfrm>
          <a:prstGeom prst="rect">
            <a:avLst/>
          </a:prstGeom>
          <a:ln w="0">
            <a:noFill/>
          </a:ln>
        </p:spPr>
      </p:pic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黑体"/>
              </a:rPr>
              <a:t>惨痛的教训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行人依法行路，这无疑是交通文明的重要组成部分，其文明程度首先就表现在交通参与者强烈守法意识的强弱上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962520" cy="4419360"/>
          </a:xfrm>
          <a:prstGeom prst="rect">
            <a:avLst/>
          </a:prstGeom>
          <a:ln w="0">
            <a:noFill/>
          </a:ln>
        </p:spPr>
      </p:pic>
      <p:pic>
        <p:nvPicPr>
          <p:cNvPr id="1373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4038480" cy="4419360"/>
          </a:xfrm>
          <a:prstGeom prst="rect">
            <a:avLst/>
          </a:prstGeom>
          <a:ln w="0">
            <a:noFill/>
          </a:ln>
        </p:spPr>
      </p:pic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黑体"/>
              </a:rPr>
              <a:t>惨痛的教训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zh-CN" sz="5400" spc="-1" strike="noStrike">
                <a:solidFill>
                  <a:srgbClr val="f3f82c"/>
                </a:solidFill>
                <a:latin typeface="Tahoma"/>
              </a:rPr>
              <a:t>一连串恶性交通事故，再次给人们敲响安全教育的警钟。实际上，我们身边的隐患还远不止这些…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1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顺口溜《安全第一最重要》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同学们，上学校，交通安全要记牢，</a:t>
            </a:r>
            <a:br>
              <a:rPr sz="3200"/>
            </a:b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街上来往车辆多，走路要走人行道，</a:t>
            </a:r>
            <a:br>
              <a:rPr sz="3200"/>
            </a:b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过马路走斑马线，先看左再右瞧，</a:t>
            </a:r>
            <a:br>
              <a:rPr sz="3200"/>
            </a:b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红灯停，绿灯行，听从指挥不乱跑，</a:t>
            </a:r>
            <a:br>
              <a:rPr sz="3200"/>
            </a:b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交通规则要遵守，安全第一最重要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最、重、要！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8%AD%A6%E9%92%9F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92" dur="2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2361960" y="301680"/>
            <a:ext cx="419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 Black"/>
              </a:rPr>
              <a:t>不满</a:t>
            </a:r>
            <a:r>
              <a:rPr b="1" lang="zh-CN" sz="3200" spc="-1" strike="noStrike">
                <a:solidFill>
                  <a:srgbClr val="ff3300"/>
                </a:solidFill>
                <a:latin typeface="Arial Black"/>
              </a:rPr>
              <a:t>12</a:t>
            </a:r>
            <a:r>
              <a:rPr b="1" lang="zh-CN" sz="3200" spc="-1" strike="noStrike">
                <a:solidFill>
                  <a:srgbClr val="ff3300"/>
                </a:solidFill>
                <a:latin typeface="Arial Black"/>
              </a:rPr>
              <a:t>周岁骑自行车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79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839440" cy="5602320"/>
          </a:xfrm>
          <a:prstGeom prst="rect">
            <a:avLst/>
          </a:prstGeom>
          <a:ln w="0">
            <a:noFill/>
          </a:ln>
        </p:spPr>
      </p:pic>
      <p:sp>
        <p:nvSpPr>
          <p:cNvPr id="1380" name=""/>
          <p:cNvSpPr/>
          <p:nvPr/>
        </p:nvSpPr>
        <p:spPr>
          <a:xfrm>
            <a:off x="6588000" y="3274920"/>
            <a:ext cx="2556000" cy="2592360"/>
          </a:xfrm>
          <a:prstGeom prst="wedgeEllipseCallout">
            <a:avLst>
              <a:gd name="adj1" fmla="val -107578"/>
              <a:gd name="adj2" fmla="val -588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隶书"/>
              </a:rPr>
              <a:t>你年满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隶书"/>
              </a:rPr>
              <a:t>周岁了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a1e23"/>
                </a:solidFill>
                <a:latin typeface="Arial"/>
                <a:ea typeface="方正姚体"/>
              </a:rPr>
              <a:t>？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2" name=""/>
          <p:cNvSpPr/>
          <p:nvPr/>
        </p:nvSpPr>
        <p:spPr>
          <a:xfrm>
            <a:off x="0" y="31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99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ccecff"/>
                </a:solidFill>
                <a:latin typeface="Tahoma"/>
              </a:rPr>
              <a:t>交警提倡</a:t>
            </a:r>
            <a:r>
              <a:rPr b="1" lang="zh-CN" sz="2800" spc="-1" strike="noStrike">
                <a:solidFill>
                  <a:srgbClr val="ccec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828800" y="0"/>
            <a:ext cx="6095880" cy="57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骑自行车九不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一、不在机动车道内骑自行车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二、自行车不逆向行驶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三、骑自行车是不带人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四、骑自行车不闯红灯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五、骑自行车不撑伞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六、骑自行车不攀扶其它车辆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七、骑自行车不双手离把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八、未满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周岁不骑车上路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九、骑自行车不突然强行猛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5" name=""/>
          <p:cNvGraphicFramePr/>
          <p:nvPr/>
        </p:nvGraphicFramePr>
        <p:xfrm>
          <a:off x="1295280" y="228600"/>
          <a:ext cx="65833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"/>
                    <a:ext cx="6583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7" name=""/>
          <p:cNvSpPr/>
          <p:nvPr/>
        </p:nvSpPr>
        <p:spPr>
          <a:xfrm>
            <a:off x="685800" y="54864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禁止非机动车通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3"/>
          <a:stretch/>
        </p:blipFill>
        <p:spPr>
          <a:xfrm>
            <a:off x="0" y="6286680"/>
            <a:ext cx="3809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9" name=""/>
          <p:cNvGraphicFramePr/>
          <p:nvPr/>
        </p:nvGraphicFramePr>
        <p:xfrm>
          <a:off x="0" y="0"/>
          <a:ext cx="6858000" cy="67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67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1" name=""/>
          <p:cNvSpPr/>
          <p:nvPr/>
        </p:nvSpPr>
        <p:spPr>
          <a:xfrm>
            <a:off x="7332840" y="457200"/>
            <a:ext cx="1277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禁止骑自行车下坡通行标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2" name=""/>
          <p:cNvGraphicFramePr/>
          <p:nvPr/>
        </p:nvGraphicFramePr>
        <p:xfrm>
          <a:off x="990720" y="304920"/>
          <a:ext cx="71625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1625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4" name=""/>
          <p:cNvSpPr/>
          <p:nvPr/>
        </p:nvSpPr>
        <p:spPr>
          <a:xfrm>
            <a:off x="1676520" y="586728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禁止行人通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2438280" y="60912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、猜谜语：白色线条地上躺，不怕雨雪和冰霜，行人踏在它身上，交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通安全有保障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130560" y="417996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谜底：人行横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  <p:sndAc>
      <p:stSnd>
        <p:snd r:embed="rId1" name="camera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5" name=""/>
          <p:cNvGraphicFramePr/>
          <p:nvPr/>
        </p:nvGraphicFramePr>
        <p:xfrm>
          <a:off x="0" y="0"/>
          <a:ext cx="6248520" cy="686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24852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7" name=""/>
          <p:cNvSpPr/>
          <p:nvPr/>
        </p:nvSpPr>
        <p:spPr>
          <a:xfrm>
            <a:off x="7439760" y="914400"/>
            <a:ext cx="10947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黑体"/>
              </a:rPr>
              <a:t>禁 止 拐 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8" name=""/>
          <p:cNvGraphicFramePr/>
          <p:nvPr/>
        </p:nvGraphicFramePr>
        <p:xfrm>
          <a:off x="0" y="0"/>
          <a:ext cx="6342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342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0" name=""/>
          <p:cNvSpPr/>
          <p:nvPr/>
        </p:nvSpPr>
        <p:spPr>
          <a:xfrm>
            <a:off x="6572160" y="533520"/>
            <a:ext cx="1521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人行地下通道标志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1" name=""/>
          <p:cNvGraphicFramePr/>
          <p:nvPr/>
        </p:nvGraphicFramePr>
        <p:xfrm>
          <a:off x="1295280" y="304920"/>
          <a:ext cx="7010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7010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3" name=""/>
          <p:cNvSpPr/>
          <p:nvPr/>
        </p:nvSpPr>
        <p:spPr>
          <a:xfrm>
            <a:off x="1371600" y="5486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靠右侧道路行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4" name=""/>
          <p:cNvGraphicFramePr/>
          <p:nvPr/>
        </p:nvGraphicFramePr>
        <p:xfrm>
          <a:off x="1371600" y="228600"/>
          <a:ext cx="6858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"/>
                    <a:ext cx="6858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6" name=""/>
          <p:cNvSpPr/>
          <p:nvPr/>
        </p:nvSpPr>
        <p:spPr>
          <a:xfrm>
            <a:off x="1600200" y="5257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注 意 儿 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7" name=""/>
          <p:cNvGraphicFramePr/>
          <p:nvPr/>
        </p:nvGraphicFramePr>
        <p:xfrm>
          <a:off x="1295280" y="609480"/>
          <a:ext cx="65534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09480"/>
                    <a:ext cx="6553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9" name=""/>
          <p:cNvSpPr/>
          <p:nvPr/>
        </p:nvSpPr>
        <p:spPr>
          <a:xfrm>
            <a:off x="1447920" y="5715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禁止驶入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0" name=""/>
          <p:cNvGraphicFramePr/>
          <p:nvPr/>
        </p:nvGraphicFramePr>
        <p:xfrm>
          <a:off x="1447920" y="228600"/>
          <a:ext cx="658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"/>
                    <a:ext cx="658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2" name=""/>
          <p:cNvSpPr/>
          <p:nvPr/>
        </p:nvSpPr>
        <p:spPr>
          <a:xfrm>
            <a:off x="2057400" y="49528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禁止右转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3" name=""/>
          <p:cNvGraphicFramePr/>
          <p:nvPr/>
        </p:nvGraphicFramePr>
        <p:xfrm>
          <a:off x="1295280" y="685800"/>
          <a:ext cx="70106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70106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5" name=""/>
          <p:cNvSpPr/>
          <p:nvPr/>
        </p:nvSpPr>
        <p:spPr>
          <a:xfrm>
            <a:off x="1676520" y="57913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禁止鸣喇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6" name=""/>
          <p:cNvGraphicFramePr/>
          <p:nvPr/>
        </p:nvGraphicFramePr>
        <p:xfrm>
          <a:off x="1219320" y="533520"/>
          <a:ext cx="693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33520"/>
                    <a:ext cx="693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8" name=""/>
          <p:cNvSpPr/>
          <p:nvPr/>
        </p:nvSpPr>
        <p:spPr>
          <a:xfrm>
            <a:off x="1676520" y="594360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人行横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9" name=""/>
          <p:cNvGraphicFramePr/>
          <p:nvPr/>
        </p:nvGraphicFramePr>
        <p:xfrm>
          <a:off x="1371600" y="380880"/>
          <a:ext cx="658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658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1" name=""/>
          <p:cNvSpPr/>
          <p:nvPr/>
        </p:nvSpPr>
        <p:spPr>
          <a:xfrm>
            <a:off x="1447920" y="51814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注  意  危  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2" name=""/>
          <p:cNvGraphicFramePr/>
          <p:nvPr/>
        </p:nvGraphicFramePr>
        <p:xfrm>
          <a:off x="1447920" y="685800"/>
          <a:ext cx="65833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85800"/>
                    <a:ext cx="65833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4" name=""/>
          <p:cNvSpPr/>
          <p:nvPr/>
        </p:nvSpPr>
        <p:spPr>
          <a:xfrm>
            <a:off x="1828800" y="58672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注 意 信 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为什么说交通事故却成了安全的第一杀手呢？请看下面的数据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763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⑴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由于交通事故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我国每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钟死亡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每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分钟受伤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;</a:t>
            </a:r>
            <a:br>
              <a:rPr sz="2800"/>
            </a:b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⑵ 2003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年全国因酒后驾车引发交通事故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1000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起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;</a:t>
            </a:r>
            <a:br>
              <a:rPr sz="2800"/>
            </a:b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⑶ 2003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年全国因疲劳驾驶引发交通事故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7767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起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;</a:t>
            </a:r>
            <a:br>
              <a:rPr sz="2800"/>
            </a:b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⑷ 2003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年全国因超速驾驶引发交通事故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55515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起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死亡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2107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受伤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47068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直接经济损   失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3.3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亿元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⑸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003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年全国共发生交通事故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66.75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万起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死亡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0.4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万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受伤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49.4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万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直接经济损失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33.96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亿元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;</a:t>
            </a:r>
            <a:br>
              <a:rPr sz="2800"/>
            </a:b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⑹ 2004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年上半年全国共发生交通事故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5.46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万起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死亡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4.95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万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受伤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21.16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万人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直接经济损失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13.14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亿元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ahoma"/>
                <a:ea typeface="黑体"/>
              </a:rPr>
              <a:t>来自身边的隐患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267080" cy="5257800"/>
          </a:xfrm>
          <a:prstGeom prst="rect">
            <a:avLst/>
          </a:prstGeom>
          <a:ln w="0">
            <a:noFill/>
          </a:ln>
        </p:spPr>
      </p:pic>
      <p:pic>
        <p:nvPicPr>
          <p:cNvPr id="1428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876920" cy="5257800"/>
          </a:xfrm>
          <a:prstGeom prst="rect">
            <a:avLst/>
          </a:prstGeom>
          <a:ln w="0">
            <a:noFill/>
          </a:ln>
        </p:spPr>
      </p:pic>
      <p:sp>
        <p:nvSpPr>
          <p:cNvPr id="1429" name=""/>
          <p:cNvSpPr/>
          <p:nvPr/>
        </p:nvSpPr>
        <p:spPr>
          <a:xfrm>
            <a:off x="457200" y="1600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1f70d"/>
                </a:solidFill>
                <a:latin typeface="Arial"/>
              </a:rPr>
              <a:t>2006</a:t>
            </a:r>
            <a:r>
              <a:rPr b="1" lang="zh-CN" sz="4000" spc="-1" strike="noStrike">
                <a:solidFill>
                  <a:srgbClr val="f1f70d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f1f70d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f1f70d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f1f70d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f1f70d"/>
                </a:solidFill>
                <a:latin typeface="Arial"/>
              </a:rPr>
              <a:t>日晚</a:t>
            </a:r>
            <a:r>
              <a:rPr b="1" lang="zh-CN" sz="4000" spc="-1" strike="noStrike">
                <a:solidFill>
                  <a:srgbClr val="f1f70d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f1f70d"/>
                </a:solidFill>
                <a:latin typeface="Arial"/>
              </a:rPr>
              <a:t>时</a:t>
            </a:r>
            <a:r>
              <a:rPr b="1" lang="zh-CN" sz="4000" spc="-1" strike="noStrike">
                <a:solidFill>
                  <a:srgbClr val="f1f70d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f1f70d"/>
                </a:solidFill>
                <a:latin typeface="Arial"/>
              </a:rPr>
              <a:t>分左右，江西都昌县土塘中学初一年级几百名学生上完晚自习后，短时间群体拥向楼梯。有学生下至二楼与一楼拐弯处时被后面学生挤倒，后面下楼的学生见状惊恐万分、蜂拥下楼欲逃，导致学生挤在狭窄的楼梯拐弯处，互相挤踏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0" name="" descr=""/>
          <p:cNvPicPr/>
          <p:nvPr/>
        </p:nvPicPr>
        <p:blipFill>
          <a:blip r:embed="rId3"/>
          <a:stretch/>
        </p:blipFill>
        <p:spPr>
          <a:xfrm>
            <a:off x="3886200" y="1523880"/>
            <a:ext cx="5257800" cy="533412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4"/>
          <a:stretch/>
        </p:blipFill>
        <p:spPr>
          <a:xfrm>
            <a:off x="0" y="1523880"/>
            <a:ext cx="3886200" cy="533412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533520" y="1905120"/>
            <a:ext cx="815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f1f70d"/>
                </a:solidFill>
                <a:latin typeface="Arial"/>
              </a:rPr>
              <a:t>不幸的是，有</a:t>
            </a:r>
            <a:r>
              <a:rPr b="1" lang="zh-CN" sz="4400" spc="-1" strike="noStrike">
                <a:solidFill>
                  <a:srgbClr val="f1f70d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1f70d"/>
                </a:solidFill>
                <a:latin typeface="Arial"/>
              </a:rPr>
              <a:t>名学生在送往医院抢救途中死亡，</a:t>
            </a:r>
            <a:r>
              <a:rPr b="1" lang="zh-CN" sz="4400" spc="-1" strike="noStrike">
                <a:solidFill>
                  <a:srgbClr val="f1f70d"/>
                </a:solidFill>
                <a:latin typeface="Arial"/>
              </a:rPr>
              <a:t>39</a:t>
            </a:r>
            <a:r>
              <a:rPr b="1" lang="zh-CN" sz="4400" spc="-1" strike="noStrike">
                <a:solidFill>
                  <a:srgbClr val="f1f70d"/>
                </a:solidFill>
                <a:latin typeface="Arial"/>
              </a:rPr>
              <a:t>名学生因受惊吓及受伤送往都昌县人民医院、县中医院进行治疗观察，目前伤势较重的</a:t>
            </a:r>
            <a:r>
              <a:rPr b="1" lang="zh-CN" sz="4400" spc="-1" strike="noStrike">
                <a:solidFill>
                  <a:srgbClr val="f1f70d"/>
                </a:solidFill>
                <a:latin typeface="Arial"/>
              </a:rPr>
              <a:t>11</a:t>
            </a:r>
            <a:r>
              <a:rPr b="1" lang="zh-CN" sz="4400" spc="-1" strike="noStrike">
                <a:solidFill>
                  <a:srgbClr val="f1f70d"/>
                </a:solidFill>
                <a:latin typeface="Arial"/>
              </a:rPr>
              <a:t>名学生在九江市第一人民医院救治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200"/>
                            </p:stCondLst>
                            <p:childTnLst>
                              <p:par>
                                <p:cTn id="4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200"/>
                            </p:stCondLst>
                            <p:childTnLst>
                              <p:par>
                                <p:cTn id="4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20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2" dur="1000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4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0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24640" cy="4495680"/>
          </a:xfrm>
          <a:prstGeom prst="rect">
            <a:avLst/>
          </a:prstGeom>
          <a:ln w="0">
            <a:noFill/>
          </a:ln>
        </p:spPr>
      </p:pic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ahoma"/>
                <a:ea typeface="黑体"/>
              </a:rPr>
              <a:t>来自身边的隐患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2003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月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日，陕西宝鸡虢镇初中学生放学下楼时，一名学生不慎踩空，撞到前边同学，后继学生发生拥挤踩踏，造成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名学生死亡，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名学生重伤，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13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名学生轻伤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20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20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200"/>
                                        <p:tgtEl>
                                          <p:spTgt spid="1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800"/>
                            </p:stCondLst>
                            <p:childTnLst>
                              <p:par>
                                <p:cTn id="499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696080" cy="4648320"/>
          </a:xfrm>
          <a:prstGeom prst="rect">
            <a:avLst/>
          </a:prstGeom>
          <a:ln w="0">
            <a:noFill/>
          </a:ln>
        </p:spPr>
      </p:pic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ahoma"/>
                <a:ea typeface="黑体"/>
              </a:rPr>
              <a:t>来自身边的隐患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2003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月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22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日湖北麻城顺河镇林店小学五、六年级学生下晚自习，因楼梯间电灯不亮，从二楼下至一楼时发生拥挤，共挤伤学生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13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人，其中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人伤势较重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20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20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20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400"/>
                            </p:stCondLst>
                            <p:childTnLst>
                              <p:par>
                                <p:cTn id="52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" descr=""/>
          <p:cNvPicPr/>
          <p:nvPr/>
        </p:nvPicPr>
        <p:blipFill>
          <a:blip r:embed="rId1">
            <a:lum bright="-54000"/>
          </a:blip>
          <a:stretch/>
        </p:blipFill>
        <p:spPr>
          <a:xfrm>
            <a:off x="2209680" y="1600200"/>
            <a:ext cx="4724640" cy="4495680"/>
          </a:xfrm>
          <a:prstGeom prst="rect">
            <a:avLst/>
          </a:prstGeom>
          <a:ln w="0">
            <a:noFill/>
          </a:ln>
        </p:spPr>
      </p:pic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ahoma"/>
                <a:ea typeface="黑体"/>
              </a:rPr>
              <a:t>来自身边的隐患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2003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12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月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11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日河北邯郸成安县商城镇中学学生放学时，因停电，在楼梯间发生学生拥挤踩踏事故，造成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名学生死亡，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名学生重伤，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名学生轻伤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2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2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200"/>
                                        <p:tgtEl>
                                          <p:spTgt spid="1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48360" cy="4496040"/>
          </a:xfrm>
          <a:prstGeom prst="rect">
            <a:avLst/>
          </a:prstGeom>
          <a:ln w="0">
            <a:noFill/>
          </a:ln>
        </p:spPr>
      </p:pic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ahoma"/>
                <a:ea typeface="黑体"/>
              </a:rPr>
              <a:t>来自身边的隐患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2004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月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24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日上午，湖北省恩施市第二实验小学课间操期间，发生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40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名学生挤压事故，造成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18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名学生受伤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20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20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200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400"/>
                            </p:stCondLst>
                            <p:childTnLst>
                              <p:par>
                                <p:cTn id="55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286160" cy="413388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3943440" cy="4114800"/>
          </a:xfrm>
          <a:prstGeom prst="rect">
            <a:avLst/>
          </a:prstGeom>
          <a:ln w="0">
            <a:noFill/>
          </a:ln>
        </p:spPr>
      </p:pic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ahoma"/>
                <a:ea typeface="黑体"/>
              </a:rPr>
              <a:t>来自身边的隐患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2005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10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月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14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日中午，四川营山云凤实验学校放学时，由于下雨地面湿滑，涌出的学生重重叠叠地倒在一起，楼上的学生不知情，还在往下挤，前面还站着的学生被卡得无法动弹。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名学生受伤住院，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人重伤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200"/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200"/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200"/>
                                        <p:tgtEl>
                                          <p:spTgt spid="1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800"/>
                            </p:stCondLst>
                            <p:childTnLst>
                              <p:par>
                                <p:cTn id="58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1" dur="1000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800"/>
                            </p:stCondLst>
                            <p:childTnLst>
                              <p:par>
                                <p:cTn id="58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9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ahoma"/>
                <a:ea typeface="黑体"/>
              </a:rPr>
              <a:t>来自身边的隐患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2005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10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17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日上午，新疆生产建设兵团农一师第二中学，学生们前往操场参加升旗仪式，教学楼一楼至二楼左侧楼道拐角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1.5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米左右长的楼梯扶手被挤倒，楼梯上挤成一堆的学生相继跌落至一楼至二楼的休息平台上，最终造成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13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名学生受伤，其中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名女生身亡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200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200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200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2300"/>
                            </p:stCondLst>
                            <p:childTnLst>
                              <p:par>
                                <p:cTn id="609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2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848360" cy="4343400"/>
          </a:xfrm>
          <a:prstGeom prst="rect">
            <a:avLst/>
          </a:prstGeom>
          <a:ln w="0">
            <a:noFill/>
          </a:ln>
        </p:spPr>
      </p:pic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ahoma"/>
                <a:ea typeface="黑体"/>
              </a:rPr>
              <a:t>来自身边的隐患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2005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10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月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24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日上午，湖南娄底四小校园内，第四节课上课铃响，在操场活动的学生往楼上教室赶，而楼上几个班的学生要上体育课，一大群人往操场冲，结果导致在一楼楼梯间发生了堵塞，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10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名同学当场被撞翻，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人眼部伤势较重，其余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人受伤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200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200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200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1600"/>
                            </p:stCondLst>
                            <p:childTnLst>
                              <p:par>
                                <p:cTn id="63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ahoma"/>
                <a:ea typeface="黑体"/>
              </a:rPr>
              <a:t>来自身边的隐患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4800" spc="-1" strike="noStrike">
                <a:solidFill>
                  <a:srgbClr val="f1f70d"/>
                </a:solidFill>
                <a:latin typeface="Tahoma"/>
              </a:rPr>
              <a:t>2005</a:t>
            </a:r>
            <a:r>
              <a:rPr b="1" lang="zh-CN" sz="4800" spc="-1" strike="noStrike">
                <a:solidFill>
                  <a:srgbClr val="f1f70d"/>
                </a:solidFill>
                <a:latin typeface="Tahoma"/>
              </a:rPr>
              <a:t>年</a:t>
            </a:r>
            <a:r>
              <a:rPr b="1" lang="zh-CN" sz="4800" spc="-1" strike="noStrike">
                <a:solidFill>
                  <a:srgbClr val="f1f70d"/>
                </a:solidFill>
                <a:latin typeface="Tahoma"/>
              </a:rPr>
              <a:t>10</a:t>
            </a:r>
            <a:r>
              <a:rPr b="1" lang="zh-CN" sz="4800" spc="-1" strike="noStrike">
                <a:solidFill>
                  <a:srgbClr val="f1f70d"/>
                </a:solidFill>
                <a:latin typeface="Tahoma"/>
              </a:rPr>
              <a:t>月</a:t>
            </a:r>
            <a:r>
              <a:rPr b="1" lang="zh-CN" sz="4800" spc="-1" strike="noStrike">
                <a:solidFill>
                  <a:srgbClr val="f1f70d"/>
                </a:solidFill>
                <a:latin typeface="Tahoma"/>
              </a:rPr>
              <a:t>25</a:t>
            </a:r>
            <a:r>
              <a:rPr b="1" lang="zh-CN" sz="4800" spc="-1" strike="noStrike">
                <a:solidFill>
                  <a:srgbClr val="f1f70d"/>
                </a:solidFill>
                <a:latin typeface="Tahoma"/>
              </a:rPr>
              <a:t>日晚，四川巴中市通江县广纳镇中心小学下晚自习时，发生学生拥挤踩踏事故，致使</a:t>
            </a:r>
            <a:r>
              <a:rPr b="1" lang="zh-CN" sz="4800" spc="-1" strike="noStrike">
                <a:solidFill>
                  <a:srgbClr val="f1f70d"/>
                </a:solidFill>
                <a:latin typeface="Tahoma"/>
              </a:rPr>
              <a:t>7</a:t>
            </a:r>
            <a:r>
              <a:rPr b="1" lang="zh-CN" sz="4800" spc="-1" strike="noStrike">
                <a:solidFill>
                  <a:srgbClr val="f1f70d"/>
                </a:solidFill>
                <a:latin typeface="Tahoma"/>
              </a:rPr>
              <a:t>名学生死亡，</a:t>
            </a:r>
            <a:r>
              <a:rPr b="1" lang="zh-CN" sz="4800" spc="-1" strike="noStrike">
                <a:solidFill>
                  <a:srgbClr val="f1f70d"/>
                </a:solidFill>
                <a:latin typeface="Tahoma"/>
              </a:rPr>
              <a:t>37</a:t>
            </a:r>
            <a:r>
              <a:rPr b="1" lang="zh-CN" sz="4800" spc="-1" strike="noStrike">
                <a:solidFill>
                  <a:srgbClr val="f1f70d"/>
                </a:solidFill>
                <a:latin typeface="Tahoma"/>
              </a:rPr>
              <a:t>名学生受伤，其中重伤</a:t>
            </a:r>
            <a:r>
              <a:rPr b="1" lang="zh-CN" sz="4800" spc="-1" strike="noStrike">
                <a:solidFill>
                  <a:srgbClr val="f1f70d"/>
                </a:solidFill>
                <a:latin typeface="Tahoma"/>
              </a:rPr>
              <a:t>7</a:t>
            </a:r>
            <a:r>
              <a:rPr b="1" lang="zh-CN" sz="4800" spc="-1" strike="noStrike">
                <a:solidFill>
                  <a:srgbClr val="f1f70d"/>
                </a:solidFill>
                <a:latin typeface="Tahoma"/>
              </a:rPr>
              <a:t>人。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200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200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200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7000"/>
                            </p:stCondLst>
                            <p:childTnLst>
                              <p:par>
                                <p:cTn id="647" nodeType="afterEffect" fill="hold" presetClass="entr" presetID="5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77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770" fill="hold"/>
                                        <p:tgtEl>
                                          <p:spTgt spid="1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77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7" nodeType="afterEffect" fill="hold" presetClass="exit" presetID="55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8" dur="3000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000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0" dur="3000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cc"/>
                </a:solidFill>
                <a:latin typeface="Tahoma"/>
                <a:ea typeface="黑体"/>
              </a:rPr>
              <a:t>来自身边的隐患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2003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11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月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24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日，咸阳电工机械厂子弟小学一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7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岁男童在学校操场玩爬梯时，不慎头部卡在梯档中受伤，经医院抢救无效死亡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200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200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200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100"/>
                            </p:stCondLst>
                            <p:childTnLst>
                              <p:par>
                                <p:cTn id="680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81" dur="1000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962520" cy="4495680"/>
          </a:xfrm>
          <a:prstGeom prst="rect">
            <a:avLst/>
          </a:prstGeom>
          <a:ln w="0">
            <a:noFill/>
          </a:ln>
        </p:spPr>
      </p:pic>
      <p:pic>
        <p:nvPicPr>
          <p:cNvPr id="13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267080" cy="4495680"/>
          </a:xfrm>
          <a:prstGeom prst="rect">
            <a:avLst/>
          </a:prstGeom>
          <a:ln w="0">
            <a:noFill/>
          </a:ln>
        </p:spPr>
      </p:pic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黑体"/>
              </a:rPr>
              <a:t>“</a:t>
            </a: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黑体"/>
              </a:rPr>
              <a:t>黑车”的隐忧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2005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10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月７日，重庆奉节一无牌无证客货两用车在私自运送２７名学生返校途中，车辆翻坠于４０米下的高坡，致使５名学生死亡，３名学生重伤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2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2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2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0" dur="50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0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962160" cy="495324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4114800" cy="4953240"/>
          </a:xfrm>
          <a:prstGeom prst="rect">
            <a:avLst/>
          </a:prstGeom>
          <a:ln w="0">
            <a:noFill/>
          </a:ln>
        </p:spPr>
      </p:pic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黑体"/>
              </a:rPr>
              <a:t>警钟长鸣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6000" spc="-1" strike="noStrike">
                <a:solidFill>
                  <a:srgbClr val="ffff00"/>
                </a:solidFill>
                <a:latin typeface="Tahoma"/>
              </a:rPr>
              <a:t>血淋淋的事实给我们敲响了警钟，学校再次重申：严禁一切危及自身及他人安全的举动！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8%AD%A6%E9%92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3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9000"/>
                            </p:stCondLst>
                            <p:childTnLst>
                              <p:par>
                                <p:cTn id="7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400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400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400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5" dur="3000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000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0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8" dur="3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000"/>
                            </p:stCondLst>
                            <p:childTnLst>
                              <p:par>
                                <p:cTn id="721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2" dur="3000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0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0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5" dur="3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黑体"/>
              </a:rPr>
              <a:t>违规的代价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8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3733920" cy="4343400"/>
          </a:xfrm>
          <a:prstGeom prst="rect">
            <a:avLst/>
          </a:prstGeom>
          <a:ln w="0">
            <a:noFill/>
          </a:ln>
        </p:spPr>
      </p:pic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2005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10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月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26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日，陕西合阳一农用车非法载客、超载、超速，翻下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180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米深沟，致使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14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人死亡，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8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人重伤。</a:t>
            </a:r>
            <a:r>
              <a:rPr b="1" lang="zh-CN" sz="32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200"/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200"/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200"/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1" dur="12000"/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2000"/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" dur="12000"/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1999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黑体"/>
              </a:rPr>
              <a:t>间接的杀手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2005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8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月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23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日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20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时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20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分，深圳市一辆中巴车在避让骑车人时，司机采取措施不当，冲上人行道当场造成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人死亡，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名伤者送到医院后又有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10</a:t>
            </a: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人伤重不治而亡，酿成深圳建市以来最大的恶性交通事故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200"/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200"/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200"/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0" dur="1000"/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黑体"/>
              </a:rPr>
              <a:t>间接的杀手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</a:rPr>
              <a:t>交警提醒：骑自行车必须遵守交通规则，疾驶的汽车可能避开了你，但却撞向了他们，小车同样酿大祸！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2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2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2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724640"/>
          </a:xfrm>
          <a:prstGeom prst="rect">
            <a:avLst/>
          </a:prstGeom>
          <a:ln w="0">
            <a:noFill/>
          </a:ln>
        </p:spPr>
      </p:pic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黑体"/>
              </a:rPr>
              <a:t>视障的危险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交警提醒：对于深夜的快速路一定尽量不要穿行，对面车灯会让司机视觉对横过马路行人不是那么敏感，视觉反应的迟钝使出现事故的几率爆增很多倍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800600"/>
          </a:xfrm>
          <a:prstGeom prst="rect">
            <a:avLst/>
          </a:prstGeom>
          <a:ln w="0">
            <a:noFill/>
          </a:ln>
        </p:spPr>
      </p:pic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ahoma"/>
                <a:ea typeface="黑体"/>
              </a:rPr>
              <a:t>乐极生悲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2004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年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月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日，北京一个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9</a:t>
            </a:r>
            <a:r>
              <a:rPr b="1" lang="zh-CN" sz="4800" spc="-1" strike="noStrike">
                <a:solidFill>
                  <a:srgbClr val="ffff00"/>
                </a:solidFill>
                <a:latin typeface="Tahoma"/>
              </a:rPr>
              <a:t>岁女孩在学校附近拍六一纪念照，拍照后穿过马路时，不幸被一辆货车撞死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200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200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200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06:08Z</dcterms:modified>
  <cp:revision>48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