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A7A-6658-4DC2-AF26-A5AF18B5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A22-786E-4332-B26C-9F7FDFCD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136-57DF-4E1B-A6F9-B972633B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9BF-A374-4376-83A8-60D9EC01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568-B3E2-44C1-A62C-97085F8D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48AC-F103-45FF-A54F-98EA629F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CB8-6AD4-4C35-8569-B951DFD9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DA6-1C3F-4D51-8BFB-60A1FB0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162-B9FB-4464-BBB3-8459D30B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BB7-5410-4601-B535-947DC8D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C55-BFD8-4C58-9D9D-E0913068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7BB-0863-422B-8C65-79030E10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0176-1762-46D9-B75A-9834375BEF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2080" y="78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1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28600"/>
            <a:ext cx="9144000" cy="81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你知道年满多少周岁才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骑自行车吗？（   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  10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周岁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B   12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周岁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C  14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周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1143000"/>
            <a:ext cx="69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249200"/>
            <a:ext cx="8839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如果外出遇到交通事故，你会拨打哪个电话号码？（   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     120              B    122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C     110              D    11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3040" y="289548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86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乘出租车或轿车前排座位时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最重要的是：（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系好安全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不要睡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和司机聊天，防止他睡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7480" y="21337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3121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坐在火车上对面的叔叔请你喝他带的可乐，你觉得哪种做法最妥当？（   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向他表示感谢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但不接受他的可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B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接过可乐，并说声“谢谢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C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不吭声，保持沉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21932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808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当你刚刚开始过马路时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黄色信号灯闪烁起来，你应该怎样做呢？（    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加快脚步跑过马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立即停下脚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立即停下脚步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并退回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安全线以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236232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981080"/>
            <a:ext cx="7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74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8486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794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435240" y="4937040"/>
            <a:ext cx="8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6068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62120" y="-533520"/>
            <a:ext cx="10896840" cy="8420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606960" y="5335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22440" y="245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57200" y="-304920"/>
            <a:ext cx="9601200" cy="8153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92160" y="21733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70160" y="2001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2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095000" y="2438280"/>
            <a:ext cx="10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三、生命、财产安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62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457200" y="7920"/>
            <a:ext cx="100584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油锅着火时，正确的做法是（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赶快去端油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锅盖盖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用水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2286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家中的电视机着火时，错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的做法是（    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迅速拔掉电器电源插头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切断电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B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灭火器直接对着荧光屏灭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用水灭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4480" y="6858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9400"/>
            <a:ext cx="95155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家遇到烫伤，马上要做的第一件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是什么（  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将烫起的水泡挑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B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用自来水冲烫伤部位降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C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抹上豆浆或食用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40080" y="68580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发现食物中毒后，自己能采取最有效的一项应急措施是什么？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多喝开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B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找解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C  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催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6520"/>
            <a:ext cx="97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39120" y="453960"/>
            <a:ext cx="557712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未开户的罐头及真空包装的袋装食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如果外包装发生鼓胀的现象，你的判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是什么？（    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A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食品装得太多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B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食品已变质，不能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C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食品发酵了，但还能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2200" y="15238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35160" y="67140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请欣赏小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13120" y="2362320"/>
            <a:ext cx="289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cc"/>
                </a:solidFill>
                <a:latin typeface="Times New Roman"/>
              </a:rPr>
              <a:t>《一个人在家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表演者： 黄建、   陈奎京、  林建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30520" y="1676520"/>
            <a:ext cx="1575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7488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0348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4040" y="107316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四、消防安全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13720" y="2813040"/>
            <a:ext cx="63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当房间起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火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时 </a:t>
            </a: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· · · · · 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0" y="816120"/>
            <a:ext cx="300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请欣赏三句半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73680" y="2590920"/>
            <a:ext cx="12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《安全知识不可少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2200" y="5105520"/>
            <a:ext cx="551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表演者：黄钟伟      刘    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朱俊宏      张辉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200400" y="-228600"/>
            <a:ext cx="13030200" cy="9067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476360" cy="2827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162920" y="2133720"/>
            <a:ext cx="1425600" cy="2523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514600" y="1143000"/>
            <a:ext cx="4876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指导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029200" y="5562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6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3124080"/>
            <a:ext cx="9144000" cy="125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62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09480" y="-7920"/>
            <a:ext cx="10287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36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38240"/>
            <a:ext cx="9144000" cy="7134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flipH="1" rot="10800000">
            <a:off x="0" y="5866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22096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cc"/>
                </a:solidFill>
                <a:latin typeface="Times New Roman"/>
              </a:rPr>
              <a:t>一、看图片，谈感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743200" y="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266688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514600" y="342900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486400" y="0"/>
            <a:ext cx="36576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2666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00" y="2666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3720" y="1066680"/>
            <a:ext cx="4814640" cy="40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安全记在心</a:t>
            </a:r>
            <a:endParaRPr b="0" lang="en-US" sz="9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平安伴我行</a:t>
            </a:r>
            <a:endParaRPr b="0" lang="en-US" sz="96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4346640" y="56451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初一（八）班委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24440" y="2514600"/>
            <a:ext cx="56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</a:rPr>
              <a:t>二、交通安全知识问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02:40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6:08Z</dcterms:modified>
  <cp:revision>1</cp:revision>
  <dc:subject>主题班会课件(分28大类): http://shop62905894.taobao.com</dc:subject>
  <dc:title>主题班会课件(分28大类): http://shop62905894.taobao.com</dc:title>
</cp:coreProperties>
</file>