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7.jpeg" ContentType="image/jpeg"/>
  <Override PartName="/ppt/media/TYPE.WAV" ContentType="audio/x-wav"/>
  <Override PartName="/ppt/media/image4.png" ContentType="image/png"/>
  <Override PartName="/ppt/media/image6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8.jpeg" ContentType="image/jpeg"/>
  <Override PartName="/ppt/media/image10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carbrake.wav" ContentType="audio/x-wav"/>
  <Override PartName="/ppt/media/image14.jpeg" ContentType="image/jpe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685-58AF-4849-BCA3-4B1DB49F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2FA-8586-4D72-A536-62F8E65F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8EE-DA14-4F6D-AAE0-5F4AF03E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7DE-6A53-4BD6-BDBE-78C861A1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BE77-1F31-4B7E-8CFA-5294835F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6C20-8F90-4901-ADF9-6B8D2A6F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4FA8-1E47-4A4E-AD3B-2D37CE2F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1F00-A36E-41F2-9B7D-BCE71FC3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6BF8-5D3E-42DB-BE3F-9E632E4B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1F23-1E30-449F-AA2C-CD6088F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03B9-893A-4206-91A1-C3C5E5E1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7F5-ECF6-47A3-B963-856AB276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7A22-8692-4BC0-BBB9-A54EF5C3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A99D-F139-44EC-BD61-2177704E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98C4-2429-4828-9577-F1F680B1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82A9-BF10-45D8-96F1-23B53356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FDBA-401A-4737-8C39-78375D90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A3D-07B9-4899-BB21-906FDEB2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747-CE54-4EF4-AA9D-A5D65FE1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5A6-CB26-4927-BD48-A07D1110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A409-5805-4A16-A794-919C4EF5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E567-9376-4F5B-9A39-472B30A6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291-7F14-4B27-96A8-599E95CF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963-3F0A-4BB2-A0E5-86982C03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B35F-F7E0-4746-85D2-B9C03051B7B0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1F41-B4E3-4D9F-9DAF-42B8BCB6950A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304920" y="-152280"/>
            <a:ext cx="9448920" cy="7010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85800" y="2209680"/>
            <a:ext cx="80010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宋体"/>
              </a:rPr>
              <a:t>珍视生命  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9600" spc="-1" strike="noStrike">
                <a:solidFill>
                  <a:srgbClr val="ff3300"/>
                </a:solidFill>
                <a:latin typeface="宋体"/>
              </a:rPr>
              <a:t>关注安全</a:t>
            </a:r>
            <a:endParaRPr b="0" lang="en-US" sz="9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228600"/>
          <a:ext cx="2286000" cy="116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228600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05960" y="380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方正魏碑简体"/>
              </a:rPr>
              <a:t>主题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990720"/>
            <a:ext cx="8534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３、下列选项哪项不符合骑自行车要遵守的交通法规（　　 ）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　Ａ、在道路上骑自行，必须集中思想，双手把住车把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　Ｂ、自行车在机动车道上靠右边行驶，不逆行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　Ｃ、转弯前须减速慢行，看清楚来往车辆，以明确的手势示意后再转弯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1600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B 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2132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４、乘坐汽车遇险时，下列那些做法是对的（　　）　　　　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　　Ａ、当车辆遇险时，要双手紧紧抓住前座位或扶杆、把手，低下头，利用前排坐椅靠背或两手臂保护头、面部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　　Ｂ、乘坐的车辆遇险，以极快的速度跳车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　　Ｃ、若遇到翻车或坠车时，应迅速蹲下身体，紧紧抓住前排座位的座脚，身体尽量固定在两排座位之间，随车翻转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4600" y="6094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A  C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-247680"/>
            <a:ext cx="9144000" cy="735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案一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004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月，云南大学发生了震惊全国的马加爵事件。马加爵的杀人动机很单纯，就是同学和他玩牌的时候说他作弊。他很生气，怀恨在心，情绪不好，然后产生报复心理，用一种仇恨的方式来发泄自己的情绪，残忍地杀害了自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名同学。其结果毁了别人，也毁了自己的一生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2004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月，马加爵被执行死刑。）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990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陈某是彭州三邑中学七年级学生，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2004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月的一天上午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课余时间同他人在三楼向下丢粉笔时，误伤到九年级的刘某，后在老师的调解下平息了纠纷。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日中午，刘又带同学找陈算账，并叫陈到操场上，当陈走到校厕所旁时，刘趁其不备，从后面用拳头打击陈的头部并致陈倒地死亡。刘某以故意伤害罪被判处有期徒刑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个月。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28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imes New Roman"/>
                <a:ea typeface="隶书"/>
              </a:rPr>
              <a:t>案例二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89154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  <a:ea typeface="隶书"/>
              </a:rPr>
              <a:t>案例三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2005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日《孝感晚报》载：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13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日，家住武汉市蔡甸区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14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岁的小翔来到某网吧上网，武汉市某高校大二的学生王某与其同学吴某在他隔壁的位子上，转身时将烟雾喷在了小翔的脸上。为此小翔和吴某吵了起来。吴某和王某见小翔年纪较小，便打了他几巴掌。小翔出人意料的掏出弹簧刀刺向王某和吴某，王某经抢救无效死亡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371600" y="16002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宋体"/>
                <a:ea typeface="宋体"/>
              </a:rPr>
              <a:t>   </a:t>
            </a:r>
            <a:endParaRPr b="0" lang="en-US" sz="5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98560" y="4921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762120"/>
            <a:ext cx="7848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匹夫见辱，拔剑而起，挺身而斗，此不足为勇也，天下有大勇者，猝然临之而不惊，无故加之而不怒，此其所挟持者甚大，而其志甚远也。　　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　　　　　　－－苏轼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-914400"/>
            <a:ext cx="10591920" cy="7772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295280" y="5335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66ff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cc66ff"/>
                </a:solidFill>
                <a:latin typeface="Times New Roman"/>
              </a:rPr>
              <a:t>、要有理智的头脑，三思而行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21337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cc00ff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cc00ff"/>
                </a:solidFill>
                <a:latin typeface="Times New Roman"/>
              </a:rPr>
              <a:t>、</a:t>
            </a:r>
            <a:r>
              <a:rPr b="1" i="1" lang="zh-CN" sz="3600" spc="-1" strike="noStrike">
                <a:solidFill>
                  <a:srgbClr val="cc00ff"/>
                </a:solidFill>
                <a:latin typeface="Times New Roman"/>
              </a:rPr>
              <a:t>要有法的意识，采取非暴力方式 解决问题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4343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ff"/>
                </a:solidFill>
                <a:latin typeface="Times New Roman"/>
              </a:rPr>
              <a:t>3</a:t>
            </a:r>
            <a:r>
              <a:rPr b="1" i="1" lang="zh-CN" sz="3600" spc="-1" strike="noStrike">
                <a:solidFill>
                  <a:srgbClr val="cc00ff"/>
                </a:solidFill>
                <a:latin typeface="Times New Roman"/>
              </a:rPr>
              <a:t>、要有善的心灵，待人做事要有度量</a:t>
            </a:r>
            <a:r>
              <a:rPr b="0" lang="zh-CN" sz="2400" spc="-1" strike="noStrike">
                <a:solidFill>
                  <a:srgbClr val="cc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28600" y="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结束语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1752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学校安全个个讲，安全学校人人夸。安全知识时时记，注意安全处处提。时代召唤跨世纪的人才，而跨实际的人才首先要学会生存。愿同学们乘上安全之舟，扬起生命之帆，在知识的海洋里乘风破浪。祝愿你们天天平安，健康快乐。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724080" y="304920"/>
            <a:ext cx="219132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出门远行，乘坐车辆你认为该注意哪些问题？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80240" y="685800"/>
            <a:ext cx="549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71800" y="380880"/>
            <a:ext cx="13993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疲劳驾车，终酿大祸，致以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人丧身。你对这一事故的发生想说些什么？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53280" y="3657600"/>
            <a:ext cx="549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6400800" cy="7086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553080" y="30492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005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日清晨，沁源县郭道镇的汾阳—屯留公路上发生了一起惨案：沁源二中的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21</a:t>
            </a:r>
            <a:r>
              <a:rPr b="1" lang="zh-CN" sz="3200" spc="-1" strike="noStrike">
                <a:solidFill>
                  <a:srgbClr val="663300"/>
                </a:solidFill>
                <a:latin typeface="Times New Roman"/>
              </a:rPr>
              <a:t>名师生被卡车碾压致死。这就是肇事的大货车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48120" y="211320"/>
            <a:ext cx="72900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</a:rPr>
              <a:t>我心爱的女儿在哪里？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0880" y="457200"/>
            <a:ext cx="83059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从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2001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年起，每年我国的交通事故都要夺去十多万无辜者的生命。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2001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年死亡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10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万人，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2002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年死亡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10.9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万人，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2003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年死亡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10.4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万人，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       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2004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年死亡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10</a:t>
            </a:r>
            <a:r>
              <a:rPr b="1" lang="zh-CN" sz="4400" spc="-1" strike="noStrike">
                <a:solidFill>
                  <a:srgbClr val="cc6600"/>
                </a:solidFill>
                <a:latin typeface="Tahoma"/>
              </a:rPr>
              <a:t>万人。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013360" y="198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44792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宋体"/>
              </a:rPr>
              <a:t>     </a:t>
            </a:r>
            <a:r>
              <a:rPr b="0" lang="zh-CN" sz="7200" spc="-1" strike="noStrike">
                <a:solidFill>
                  <a:srgbClr val="cc00ff"/>
                </a:solidFill>
                <a:latin typeface="宋体"/>
              </a:rPr>
              <a:t>假如你的父母或亲人有从事司机职业的你会对他们说些什么呢？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40176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１、当交通信号灯的红灯亮时表示（　　）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Ａ、准许车辆行人通行。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Ｂ、不准许车辆行人通行，但  已越过停止线的车辆和已进入人行道的行人，可以继续通行。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宋体"/>
              </a:rPr>
              <a:t>Ｃ、不准许车辆行人通行。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1828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B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TYPE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609480"/>
            <a:ext cx="8839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２、下列选项属于安全横过马路的有（　　 ）　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Ａ、遵守交通规则，做到“绿灯行，红灯停”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　 Ｂ、通过没有交通信号或过街设施的道路，可以任意的穿行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　 Ｃ、走人行道横线，不迂回穿行。不翻越道路中央的安全护拦和隔离墩。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1219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A C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1:00:5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53:58Z</dcterms:modified>
  <cp:revision>201</cp:revision>
  <dc:subject>主题班会课件(分28大类): http://shop62905894.taobao.com</dc:subject>
  <dc:title>主题班会课件(分28大类): http://shop62905894.taobao.com</dc:title>
</cp:coreProperties>
</file>