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1.png" ContentType="image/png"/>
  <Override PartName="/ppt/media/image4.jpeg" ContentType="image/jpeg"/>
  <Override PartName="/ppt/media/image49.png" ContentType="image/png"/>
  <Override PartName="/ppt/media/laser.wav" ContentType="audio/x-wav"/>
  <Override PartName="/ppt/media/image45.jpeg" ContentType="image/jpeg"/>
  <Override PartName="/ppt/media/image48.png" ContentType="image/png"/>
  <Override PartName="/ppt/media/image43.png" ContentType="image/png"/>
  <Override PartName="/ppt/media/image42.gif" ContentType="image/gif"/>
  <Override PartName="/ppt/media/image38.jpeg" ContentType="image/jpeg"/>
  <Override PartName="/ppt/media/image3.jpeg" ContentType="image/jpeg"/>
  <Override PartName="/ppt/media/image30.png" ContentType="image/png"/>
  <Override PartName="/ppt/media/image60.jpeg" ContentType="image/jpeg"/>
  <Override PartName="/ppt/media/image47.png" ContentType="image/png"/>
  <Override PartName="/ppt/media/image35.jpeg" ContentType="image/jpeg"/>
  <Override PartName="/ppt/media/image29.png" ContentType="image/png"/>
  <Override PartName="/ppt/media/chimes.wav" ContentType="audio/x-wav"/>
  <Override PartName="/ppt/media/image17.jpeg" ContentType="image/jpeg"/>
  <Override PartName="/ppt/media/image41.jpeg" ContentType="image/jpeg"/>
  <Override PartName="/ppt/media/image14.jpeg" ContentType="image/jpeg"/>
  <Override PartName="/ppt/media/image54.png" ContentType="image/png"/>
  <Override PartName="/ppt/media/image1.jpeg" ContentType="image/jpeg"/>
  <Override PartName="/ppt/media/image21.png" ContentType="image/png"/>
  <Override PartName="/ppt/media/image58.jpeg" ContentType="image/jpeg"/>
  <Override PartName="/ppt/media/image53.png" ContentType="image/png"/>
  <Override PartName="/ppt/media/image56.png" ContentType="image/png"/>
  <Override PartName="/ppt/media/image22.png" ContentType="image/png"/>
  <Override PartName="/ppt/media/image57.jpeg" ContentType="image/jpeg"/>
  <Override PartName="/ppt/media/image46.png" ContentType="image/png"/>
  <Override PartName="/ppt/media/image37.jpeg" ContentType="image/jpeg"/>
  <Override PartName="/ppt/media/image20.png" ContentType="image/png"/>
  <Override PartName="/ppt/media/hammer.wav" ContentType="audio/x-wav"/>
  <Override PartName="/ppt/media/image55.png" ContentType="image/png"/>
  <Override PartName="/ppt/media/image52.jpeg" ContentType="image/jpeg"/>
  <Override PartName="/ppt/media/image7.gif" ContentType="image/gif"/>
  <Override PartName="/ppt/media/suction.wav" ContentType="audio/x-wav"/>
  <Override PartName="/ppt/media/type.wav" ContentType="audio/x-wav"/>
  <Override PartName="/ppt/media/image16.png" ContentType="image/png"/>
  <Override PartName="/ppt/media/image15.jpeg" ContentType="image/jpeg"/>
  <Override PartName="/ppt/media/image18.jpeg" ContentType="image/jpeg"/>
  <Override PartName="/ppt/media/image40.png" ContentType="image/png"/>
  <Override PartName="/ppt/media/image59.jpeg" ContentType="image/jpeg"/>
  <Override PartName="/ppt/media/camera.wav" ContentType="audio/x-wav"/>
  <Override PartName="/ppt/media/image6.png" ContentType="image/png"/>
  <Override PartName="/ppt/media/image12.jpeg" ContentType="image/jpeg"/>
  <Override PartName="/ppt/media/image5.jpeg" ContentType="image/jpeg"/>
  <Override PartName="/ppt/media/image50.png" ContentType="image/png"/>
  <Override PartName="/ppt/media/image19.png" ContentType="image/png"/>
  <Override PartName="/ppt/media/whoosh.wav" ContentType="audio/x-wav"/>
  <Override PartName="/ppt/media/image10.jpeg" ContentType="image/jpeg"/>
  <Override PartName="/ppt/media/image39.jpeg" ContentType="image/jpeg"/>
  <Override PartName="/ppt/media/coin.wav" ContentType="audio/x-wav"/>
  <Override PartName="/ppt/media/image36.png" ContentType="image/png"/>
  <Override PartName="/ppt/media/image9.jpeg" ContentType="image/jpeg"/>
  <Override PartName="/ppt/media/image13.jpeg" ContentType="image/jpeg"/>
  <Override PartName="/ppt/media/image44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23.png" ContentType="image/png"/>
  <Override PartName="/ppt/media/image25.png" ContentType="image/png"/>
  <Override PartName="/ppt/media/image8.jpeg" ContentType="image/jpeg"/>
  <Override PartName="/ppt/media/image26.png" ContentType="image/png"/>
  <Override PartName="/ppt/media/image27.png" ContentType="image/png"/>
  <Override PartName="/ppt/media/image33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47C-4CD5-4C45-9E68-B0434F3C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07F-4480-487A-807E-6BA41F30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60E-E157-40EA-826D-6765B90F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AF0-3D85-453A-83A6-2E34DBE6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71F-BA26-4EA9-AC48-DFC1F6EC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65DC-E4C5-48BE-A913-8CC398A2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DC7-3A36-43B1-9435-D2763875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635B-B07C-4202-8614-B237D4D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B4FB-C385-4997-8A2A-8AC25F0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42B9-2FF0-41A7-95F9-CAFBF9E1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FE5B-5757-4985-9F1C-A72EB075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5C9-3A2C-4458-866C-CBAF8951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12DF-6D66-41D0-BC3C-37DAE82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E015-0B92-4205-8936-6D9338C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9243-0D2E-48EF-9C35-BD7C58A6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FE55-8C6E-4803-B721-407E0E58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7AB5-C78C-4EAE-9E72-5DFAA22B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C43C-57D7-43C1-803F-C44071D3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7A7A-B386-455F-9AF7-BCA2ADD1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363C-A959-4C13-A86D-F45AF1E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4D19-3B17-477B-A0CF-C8980147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9E15-DE77-4D17-B839-0CFDDD24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4D5-8D3B-4B7A-9A84-6EF3E80F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E19C-BDB6-4D13-A584-CBA22CB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0D1A2-8794-482B-A4A2-3D5B62CC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654B-1997-4CB8-8296-1E309448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1F6CA-F97E-42D6-B7BC-17D15428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856D-2400-4774-B9CD-0A9816B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DCF9-D9CD-4775-B49C-BB25A372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28EC-85E2-4F41-9916-4FB78204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1D5-46EF-4578-9C91-3D91FD41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9C4-02B7-4098-8735-24F99DD0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D09-D3A9-4EE4-8CE1-F69DF35C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624-CC20-44C7-BA19-DD48522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28C-5CBB-4804-B52D-6EEB923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6F9-17B3-4063-8821-D0FADFD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BC78-C715-4F40-8C0F-25A28EC62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52AE-9777-4152-846D-8208C9ADA18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AB51-06BE-4D5F-A293-312C1F4EDE9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audio" Target="../media/suction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coin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708280"/>
            <a:ext cx="81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99"/>
                </a:solidFill>
                <a:latin typeface="隶书"/>
                <a:ea typeface="隶书"/>
              </a:rPr>
              <a:t>关注安全，关爱生命</a:t>
            </a:r>
            <a:r>
              <a:rPr b="1" lang="zh-CN" sz="6600" spc="-1" strike="noStrike">
                <a:solidFill>
                  <a:srgbClr val="66ff99"/>
                </a:solidFill>
                <a:latin typeface="隶书"/>
                <a:ea typeface="隶书"/>
              </a:rPr>
              <a:t>!</a:t>
            </a:r>
            <a:r>
              <a:rPr b="1" lang="zh-CN" sz="6000" spc="-1" strike="noStrike">
                <a:solidFill>
                  <a:srgbClr val="66ff99"/>
                </a:solidFill>
                <a:latin typeface="Verdana"/>
                <a:ea typeface="PMingLiU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588000" y="5373720"/>
            <a:ext cx="648000" cy="576360"/>
          </a:xfrm>
          <a:custGeom>
            <a:avLst/>
            <a:gdLst>
              <a:gd name="textAreaLeft" fmla="*/ 37080 w 648000"/>
              <a:gd name="textAreaRight" fmla="*/ 610920 w 648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83" h="21600">
                <a:moveTo>
                  <a:pt x="0" y="0"/>
                </a:moveTo>
                <a:lnTo>
                  <a:pt x="24283" y="0"/>
                </a:lnTo>
                <a:lnTo>
                  <a:pt x="24283" y="21600"/>
                </a:lnTo>
                <a:lnTo>
                  <a:pt x="0" y="21600"/>
                </a:lnTo>
                <a:close/>
              </a:path>
              <a:path fill="lightenLess" w="24283" h="21600">
                <a:moveTo>
                  <a:pt x="0" y="0"/>
                </a:moveTo>
                <a:lnTo>
                  <a:pt x="24283" y="0"/>
                </a:lnTo>
                <a:lnTo>
                  <a:pt x="22883" y="1400"/>
                </a:lnTo>
                <a:lnTo>
                  <a:pt x="1400" y="1400"/>
                </a:lnTo>
                <a:close/>
              </a:path>
              <a:path fill="darken" w="24283" h="21600">
                <a:moveTo>
                  <a:pt x="24283" y="0"/>
                </a:moveTo>
                <a:lnTo>
                  <a:pt x="24283" y="21600"/>
                </a:lnTo>
                <a:lnTo>
                  <a:pt x="22883" y="20200"/>
                </a:lnTo>
                <a:lnTo>
                  <a:pt x="22883" y="1400"/>
                </a:lnTo>
                <a:close/>
              </a:path>
              <a:path fill="darkenLess" w="24283" h="21600">
                <a:moveTo>
                  <a:pt x="24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3" y="20200"/>
                </a:lnTo>
                <a:close/>
              </a:path>
              <a:path fill="lighten" w="24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3" h="21600">
                <a:moveTo>
                  <a:pt x="5135" y="3794"/>
                </a:moveTo>
                <a:lnTo>
                  <a:pt x="19148" y="10800"/>
                </a:lnTo>
                <a:lnTo>
                  <a:pt x="513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3618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628640"/>
            <a:ext cx="514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一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良的交通习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565360"/>
            <a:ext cx="89647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走人行横道，不靠路右边走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走天桥，随意横穿马路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注意道路和车辆信号，不服从交通管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车行道、桥梁、隧道上追逐、打闹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穿越、攀登、跨越道路隔离栏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铁轨上行走，玩耍，不横穿铁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交通安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560" y="2349000"/>
            <a:ext cx="7891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人行道、机动车道骑车，逆行骑车。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横冲直闯、争道强行，与机动车抢道。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转弯不减速，不打手势。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在路口闯信号。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骑车双手离把。                     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追逐打闹，三五并行、飙车。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手攀机动车行驶，紧跟机动车行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6600" y="1341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二）中学生骑自行车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交通安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7313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缺乏交通安全意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缺乏交通安全知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缺乏交通安全责任感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存在麻痹思想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存在侥幸心理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29960" y="1700280"/>
            <a:ext cx="39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学生交通事故发生的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629400" y="5300640"/>
            <a:ext cx="251460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4608360" cy="6669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148360" y="1628640"/>
            <a:ext cx="374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那我们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怎么做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81080" y="1557000"/>
            <a:ext cx="5004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四）正常的走路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2565000"/>
            <a:ext cx="810756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走人行道，靠路右边走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横过车行道，要走斑马线，或走天桥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要注意各种信号灯的指示（红绿灯、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行横道信号灯）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上下汽车要避让过往车辆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在马路上逗留、玩耍、打闹。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74680"/>
            <a:ext cx="64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交通安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2332080"/>
            <a:ext cx="828036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要骑有故障的车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在人行道上骑车，非机动车靠右行驶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横穿马路最好推车行驶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转弯时减速慢行，观察并打手势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要双手离把，不并肩行驶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骑车不打闹，追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交通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360" y="139392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五）正常的骑自行车常识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0" y="33948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  <a:ea typeface="幼圆"/>
              </a:rPr>
              <a:t>道路交通标志知多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6172200" cy="4316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05920" y="1066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50976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请说出下列指示标志的含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167652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ahoma"/>
                <a:ea typeface="华文行楷"/>
              </a:rPr>
              <a:t>人行横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3480" y="3567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慢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042920" y="4797360"/>
            <a:ext cx="1800360" cy="156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428000" y="5138640"/>
            <a:ext cx="186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禁止驶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14400" y="1295280"/>
            <a:ext cx="2057400" cy="1752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971640" y="3032280"/>
            <a:ext cx="1849320" cy="17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2073240" cy="1850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348080" y="8269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禁止机动车通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29718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禁止非机动车通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826920" y="2492280"/>
            <a:ext cx="2426040" cy="1959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5280" y="494172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禁止通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042920" y="4653000"/>
            <a:ext cx="223200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火警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119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；报警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110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；</a:t>
            </a:r>
            <a:br>
              <a:rPr sz="4800"/>
            </a:b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急救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120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；交通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122</a:t>
            </a: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9720" y="1484280"/>
            <a:ext cx="854064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列举四种报警电话名称，并说出号码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rcRect l="2914" t="0" r="9501" b="15949"/>
          <a:stretch/>
        </p:blipFill>
        <p:spPr>
          <a:xfrm>
            <a:off x="851040" y="765000"/>
            <a:ext cx="7796160" cy="3826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95280" y="4941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ahoma"/>
                <a:ea typeface="华文行楷"/>
              </a:rPr>
              <a:t>禁止骑自行车下坡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禁止骑自行车下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2"/>
          <a:srcRect l="0" t="2830" r="57031" b="0"/>
          <a:stretch/>
        </p:blipFill>
        <p:spPr>
          <a:xfrm>
            <a:off x="539640" y="1341360"/>
            <a:ext cx="3463920" cy="331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0" t="0" r="0" b="15139"/>
          <a:stretch/>
        </p:blipFill>
        <p:spPr>
          <a:xfrm>
            <a:off x="4716360" y="1125360"/>
            <a:ext cx="4176720" cy="345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64000" y="5157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禁止跨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06080" y="513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禁止行人通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rcRect l="1001" t="0" r="59810" b="0"/>
          <a:stretch/>
        </p:blipFill>
        <p:spPr>
          <a:xfrm>
            <a:off x="395280" y="1413000"/>
            <a:ext cx="3544920" cy="303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3294" t="0" r="2202" b="18275"/>
          <a:stretch/>
        </p:blipFill>
        <p:spPr>
          <a:xfrm>
            <a:off x="4572000" y="1125360"/>
            <a:ext cx="4032360" cy="3573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884200" y="501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当心车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91840" y="501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危险标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认一认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: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下面的交通标志你都认识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?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jinling_26" descr=""/>
          <p:cNvPicPr/>
          <p:nvPr/>
        </p:nvPicPr>
        <p:blipFill>
          <a:blip r:embed="rId1"/>
          <a:stretch/>
        </p:blipFill>
        <p:spPr>
          <a:xfrm>
            <a:off x="3348000" y="407664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202" name="zz17" descr=""/>
          <p:cNvPicPr/>
          <p:nvPr/>
        </p:nvPicPr>
        <p:blipFill>
          <a:blip r:embed="rId2"/>
          <a:stretch/>
        </p:blipFill>
        <p:spPr>
          <a:xfrm>
            <a:off x="5867280" y="4221000"/>
            <a:ext cx="1944720" cy="1800360"/>
          </a:xfrm>
          <a:prstGeom prst="rect">
            <a:avLst/>
          </a:prstGeom>
          <a:ln w="0">
            <a:noFill/>
          </a:ln>
        </p:spPr>
      </p:pic>
      <p:pic>
        <p:nvPicPr>
          <p:cNvPr id="203" name="zz16" descr=""/>
          <p:cNvPicPr/>
          <p:nvPr/>
        </p:nvPicPr>
        <p:blipFill>
          <a:blip r:embed="rId3"/>
          <a:stretch/>
        </p:blipFill>
        <p:spPr>
          <a:xfrm>
            <a:off x="3348000" y="1700280"/>
            <a:ext cx="1800360" cy="1720800"/>
          </a:xfrm>
          <a:prstGeom prst="rect">
            <a:avLst/>
          </a:prstGeom>
          <a:ln w="0">
            <a:noFill/>
          </a:ln>
        </p:spPr>
      </p:pic>
      <p:pic>
        <p:nvPicPr>
          <p:cNvPr id="204" name="zz15" descr=""/>
          <p:cNvPicPr/>
          <p:nvPr/>
        </p:nvPicPr>
        <p:blipFill>
          <a:blip r:embed="rId4"/>
          <a:stretch/>
        </p:blipFill>
        <p:spPr>
          <a:xfrm>
            <a:off x="1116000" y="1557360"/>
            <a:ext cx="1933560" cy="187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34360" y="371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前方村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2560" y="6165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禁止直行和向右转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69960" y="6127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禁止行人通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94840" y="3645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注意信号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12320" y="6093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禁止转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364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十字交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zz23" descr=""/>
          <p:cNvPicPr/>
          <p:nvPr/>
        </p:nvPicPr>
        <p:blipFill>
          <a:blip r:embed="rId5"/>
          <a:stretch/>
        </p:blipFill>
        <p:spPr>
          <a:xfrm>
            <a:off x="6084720" y="1773360"/>
            <a:ext cx="1729080" cy="1658880"/>
          </a:xfrm>
          <a:prstGeom prst="rect">
            <a:avLst/>
          </a:prstGeom>
          <a:ln w="0">
            <a:noFill/>
          </a:ln>
        </p:spPr>
      </p:pic>
      <p:pic>
        <p:nvPicPr>
          <p:cNvPr id="212" name="08069" descr=""/>
          <p:cNvPicPr/>
          <p:nvPr/>
        </p:nvPicPr>
        <p:blipFill>
          <a:blip r:embed="rId6"/>
          <a:stretch/>
        </p:blipFill>
        <p:spPr>
          <a:xfrm>
            <a:off x="900000" y="4076640"/>
            <a:ext cx="2016360" cy="194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温馨提醒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2290680" cy="3886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265640" y="2491560"/>
            <a:ext cx="261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交通常识要掌握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自护能力要提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安全第一最重要！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28800" y="83808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de54d"/>
                </a:solidFill>
                <a:latin typeface="Times New Roman"/>
                <a:ea typeface="华文行楷"/>
              </a:rPr>
              <a:t>第二篇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32000" y="2060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隶书"/>
              </a:rPr>
              <a:t>用火用电须谨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4000" y="126216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   </a:t>
            </a:r>
            <a:r>
              <a:rPr b="1" i="1" lang="zh-CN" sz="4800" spc="-1" strike="noStrike">
                <a:solidFill>
                  <a:srgbClr val="66ff33"/>
                </a:solidFill>
                <a:latin typeface="宋体"/>
                <a:ea typeface="黑体"/>
              </a:rPr>
              <a:t>火，是人类离不开的朋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95440" y="2389320"/>
            <a:ext cx="48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66ff33"/>
                </a:solidFill>
                <a:latin typeface="Arial"/>
                <a:ea typeface="黑体"/>
              </a:rPr>
              <a:t>火，是人类不共戴天的敌人</a:t>
            </a:r>
            <a:r>
              <a:rPr b="0" i="1" lang="zh-CN" sz="4800" spc="-1" strike="noStrike">
                <a:solidFill>
                  <a:srgbClr val="66ff33"/>
                </a:solidFill>
                <a:latin typeface="Arial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中学生应了解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基本安全内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0" y="2060640"/>
            <a:ext cx="6781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˙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1. 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交通安全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52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˙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2. 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消防及用电安全 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5964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据统计：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2005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年我国共发生火灾４万起，伤亡７０００余人。而其中１０％的火灾是由小孩玩火造成的。可见学习了解一些消防知识，减少人为火灾的发生，对少年朋友来说是多么重要。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732720" y="5084640"/>
            <a:ext cx="2087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572000" y="306864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华文行楷"/>
              </a:rPr>
              <a:t>当 心 火 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16360" y="522936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华文行楷"/>
              </a:rPr>
              <a:t>当 心 爆 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74880" y="2492280"/>
            <a:ext cx="2589120" cy="2008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34920" y="4508640"/>
            <a:ext cx="2773440" cy="2127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900000" y="189000"/>
            <a:ext cx="2808360" cy="2219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427640" y="90792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华文行楷"/>
              </a:rPr>
              <a:t>禁止用水灭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4360" y="2133720"/>
            <a:ext cx="784836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.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火不慎发生火灾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2.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电不慎发生火灾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3.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用油不慎发生火灾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4.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燃放烟花爆竹。</a:t>
            </a: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5.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吸烟乱扔烟头。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2087640" cy="151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08640" y="65232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发生火灾的原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5280" y="1484280"/>
            <a:ext cx="80643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般是很小的一个小点，燃烧面积不大，产生的热量不多。这时只要随手用沙土、干土、浸湿的毛巾、棉被、麻袋等去覆盖，就能使初起的火熄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正在或可能蔓延，切勿试图扑救，应该立刻逃离火场，打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119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警电话，通知消防队救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980400" y="5181480"/>
            <a:ext cx="2087280" cy="1511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62400" y="476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火灾抢救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10920" y="13413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灾初起阶段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3645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如果火势十分猛烈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68000" y="475920"/>
            <a:ext cx="54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消防知识抢答赛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8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2060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电器线路破旧应该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2565360"/>
            <a:ext cx="91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电路保险丝烧断，用铜线代替对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3141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发现家里的电线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电视机着火或者汽油着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怎么办，可以用水灭火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4149720"/>
            <a:ext cx="43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发现大火灾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85800" y="2133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及时修理更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20000" y="2565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不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36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不可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14972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（赶快拨打火警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119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479736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做菜时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油锅着了怎么办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5373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把油锅用锅盖盖住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804000" y="5084640"/>
            <a:ext cx="20876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消防安全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-----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火灾自救与逃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1280" y="1611360"/>
            <a:ext cx="88203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学生应沉着冷静，采用科学的自救措施逃生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.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简易防护，不可缺少；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2.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善用通道，莫入电梯；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3.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不盲目乱跑、不盲目开门；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4.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缓降逃生，滑绳自救；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5.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火已烧身，切勿惊跑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6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2320920"/>
            <a:ext cx="5400720" cy="4537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68360" y="62064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安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0360" y="4581360"/>
            <a:ext cx="23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用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电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安全用电常识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为什么会触电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电流对人体的危害主要与哪些因素有关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电流大小、通电时间长短、电流通过人体的部位等有关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见过高压危险标志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3452760" cy="29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人触电一定会死吗？安全电压是多少？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通过人体的电流人本感觉和反应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m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开始有麻的感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m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麻感，但可以摆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0m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剧痛感，神经麻痹，呼吸困难，生命危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0m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短时间内窒息，心跳停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高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36V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电压为安全电压（干燥环境下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触电原因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3084480" cy="3311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411280" y="2349360"/>
            <a:ext cx="3816360" cy="3959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005520" y="2133720"/>
            <a:ext cx="3138480" cy="388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1116000" y="1773360"/>
            <a:ext cx="6551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5120" y="1187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第一篇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08160" y="295416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交 通 安 全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525780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0940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触电的原因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违反操作规程，缺乏安全用电知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设备绝缘损坏或不合规格，人体无意间接触外壳。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压线的接地点、短路点、跨步电压形成的对人体的伤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(3)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雷雨天气变化等原因（季节性）。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触电急救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1728720"/>
            <a:ext cx="91440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85345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92280" y="1197000"/>
            <a:ext cx="1826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跨步电压触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0"/>
            <a:ext cx="7811640" cy="6857640"/>
            <a:chOff x="0" y="0"/>
            <a:chExt cx="7811640" cy="6857640"/>
          </a:xfrm>
        </p:grpSpPr>
        <p:graphicFrame>
          <p:nvGraphicFramePr>
            <p:cNvPr id="279" name=""/>
            <p:cNvGraphicFramePr/>
            <p:nvPr/>
          </p:nvGraphicFramePr>
          <p:xfrm>
            <a:off x="0" y="0"/>
            <a:ext cx="7811640" cy="685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7811640" cy="685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1" name=""/>
            <p:cNvSpPr/>
            <p:nvPr/>
          </p:nvSpPr>
          <p:spPr>
            <a:xfrm>
              <a:off x="659880" y="5438880"/>
              <a:ext cx="54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Times New Roman"/>
                  <a:ea typeface="隶书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09960" y="5911200"/>
              <a:ext cx="3297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39920" y="5911200"/>
              <a:ext cx="4395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9720" y="4749120"/>
              <a:ext cx="990000" cy="925920"/>
            </a:xfrm>
            <a:custGeom>
              <a:avLst/>
              <a:gdLst/>
              <a:ahLst/>
              <a:rect l="l" t="t" r="r" b="b"/>
              <a:pathLst>
                <a:path w="432" h="376">
                  <a:moveTo>
                    <a:pt x="0" y="376"/>
                  </a:moveTo>
                  <a:cubicBezTo>
                    <a:pt x="28" y="228"/>
                    <a:pt x="56" y="80"/>
                    <a:pt x="96" y="40"/>
                  </a:cubicBezTo>
                  <a:cubicBezTo>
                    <a:pt x="136" y="0"/>
                    <a:pt x="184" y="80"/>
                    <a:pt x="240" y="136"/>
                  </a:cubicBezTo>
                  <a:cubicBezTo>
                    <a:pt x="296" y="192"/>
                    <a:pt x="400" y="336"/>
                    <a:pt x="432" y="376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6425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47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安全用电原则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2131560"/>
            <a:ext cx="7291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接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低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带电体，不靠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高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带电体，要警惕本来不应带电的物体带了电，本来该绝缘的物体导了电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防止绝缘部分破损，保持干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避免电线跟其它金属物接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要定期检查，及时修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急救方法（切断电源、用干燥的木棒拨开、人工呼吸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温馨提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4560" y="1700280"/>
            <a:ext cx="849780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充分认识电与火的危害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坚决做到不玩火，不乱用电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间互相监督、互相提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-228600" y="1905120"/>
            <a:ext cx="70866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谈谈你的感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651280" y="259920"/>
            <a:ext cx="3035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了自己的安全，为了家庭的幸福，为了社会的文明进步，让我们真情牵手，从小事做起，从今天做起，共同营造安全有序的生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祝大家一生平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551664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3794"/>
                </a:moveTo>
                <a:lnTo>
                  <a:pt x="21854" y="10800"/>
                </a:lnTo>
                <a:lnTo>
                  <a:pt x="78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84464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华文行楷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1"/>
          <a:stretch/>
        </p:blipFill>
        <p:spPr>
          <a:xfrm>
            <a:off x="0" y="0"/>
            <a:ext cx="3889440" cy="2576520"/>
          </a:xfrm>
          <a:prstGeom prst="rect">
            <a:avLst/>
          </a:prstGeom>
          <a:ln w="0">
            <a:noFill/>
          </a:ln>
        </p:spPr>
      </p:pic>
      <p:pic>
        <p:nvPicPr>
          <p:cNvPr id="137" name="4" descr=""/>
          <p:cNvPicPr/>
          <p:nvPr/>
        </p:nvPicPr>
        <p:blipFill>
          <a:blip r:embed="rId2"/>
          <a:stretch/>
        </p:blipFill>
        <p:spPr>
          <a:xfrm>
            <a:off x="0" y="2637000"/>
            <a:ext cx="3924360" cy="3528720"/>
          </a:xfrm>
          <a:prstGeom prst="rect">
            <a:avLst/>
          </a:prstGeom>
          <a:ln w="0">
            <a:noFill/>
          </a:ln>
        </p:spPr>
      </p:pic>
      <p:pic>
        <p:nvPicPr>
          <p:cNvPr id="138" name="3" descr=""/>
          <p:cNvPicPr/>
          <p:nvPr/>
        </p:nvPicPr>
        <p:blipFill>
          <a:blip r:embed="rId3"/>
          <a:stretch/>
        </p:blipFill>
        <p:spPr>
          <a:xfrm>
            <a:off x="2987640" y="0"/>
            <a:ext cx="3816360" cy="2924280"/>
          </a:xfrm>
          <a:prstGeom prst="rect">
            <a:avLst/>
          </a:prstGeom>
          <a:ln w="0">
            <a:noFill/>
          </a:ln>
        </p:spPr>
      </p:pic>
      <p:pic>
        <p:nvPicPr>
          <p:cNvPr id="139" name="7" descr=""/>
          <p:cNvPicPr/>
          <p:nvPr/>
        </p:nvPicPr>
        <p:blipFill>
          <a:blip r:embed="rId4"/>
          <a:stretch/>
        </p:blipFill>
        <p:spPr>
          <a:xfrm>
            <a:off x="5508720" y="990720"/>
            <a:ext cx="397980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8" descr=""/>
          <p:cNvPicPr/>
          <p:nvPr/>
        </p:nvPicPr>
        <p:blipFill>
          <a:blip r:embed="rId5"/>
          <a:stretch/>
        </p:blipFill>
        <p:spPr>
          <a:xfrm>
            <a:off x="4857840" y="3386160"/>
            <a:ext cx="4286160" cy="3471840"/>
          </a:xfrm>
          <a:prstGeom prst="rect">
            <a:avLst/>
          </a:prstGeom>
          <a:ln w="0">
            <a:noFill/>
          </a:ln>
        </p:spPr>
      </p:pic>
      <p:pic>
        <p:nvPicPr>
          <p:cNvPr id="141" name="Img219658782" descr=""/>
          <p:cNvPicPr/>
          <p:nvPr/>
        </p:nvPicPr>
        <p:blipFill>
          <a:blip r:embed="rId6"/>
          <a:stretch/>
        </p:blipFill>
        <p:spPr>
          <a:xfrm>
            <a:off x="1835280" y="3284640"/>
            <a:ext cx="288108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6920" y="12207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道路交通事故是一个世界性的社会问题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它已成为国际社会的一大公害。据统计，２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世纪以来，因交通事故死亡的人数达到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2235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万人，这个数字比第一次世界大战中死亡的人数还多，交通事故已成为全世界非正常死亡的重要因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09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629400" y="5445000"/>
            <a:ext cx="2514600" cy="141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42920" y="1004760"/>
            <a:ext cx="734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我国的交通事故死亡人数位居世界首位，平均每天有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28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多人死于车祸。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其中中小学生占总人数的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10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％左右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。这个数字向我们敲响警钟！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629400" y="4941720"/>
            <a:ext cx="2514600" cy="1611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50940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304920"/>
            <a:ext cx="6248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通事故触目惊心</a:t>
            </a:r>
            <a:endParaRPr b="1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771560"/>
            <a:ext cx="914400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1531800"/>
            <a:ext cx="78483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51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4:36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2:26Z</dcterms:modified>
  <cp:revision>160</cp:revision>
  <dc:subject>主题班会课件(分28大类): http://shop62905894.taobao.com</dc:subject>
  <dc:title>主题班会课件(分28大类): http://shop62905894.taobao.com</dc:title>
</cp:coreProperties>
</file>