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28.jpeg" ContentType="image/jpeg"/>
  <Override PartName="/ppt/media/image34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7.jpeg" ContentType="image/jpeg"/>
  <Override PartName="/ppt/media/image38.jpeg" ContentType="image/jpeg"/>
  <Override PartName="/ppt/media/image26.jpeg" ContentType="image/jpeg"/>
  <Override PartName="/ppt/media/image42.png" ContentType="image/png"/>
  <Override PartName="/ppt/media/image6.jpeg" ContentType="image/jpeg"/>
  <Override PartName="/ppt/media/type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9E45-EDD4-4310-8BD4-8477FF1801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AE38C-8BF1-42FC-BEE7-CCB12428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BA3D-5846-4DF0-A31A-53716F2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12B1-00D6-4D60-80EC-F70AA3699E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59B6-8DED-42FA-8F71-75112317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DF49-D425-4FBB-B38A-7784CD09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63175-56E1-4057-B28F-C77DE2E2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7DBD-28D0-416C-AF1B-3DD47D3A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49D0-DE36-4C0C-9D81-42F9509A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AA37-A6BC-4568-A788-2C1CE779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A94F-EE82-41B4-A72B-CC36785C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C1A7-3EAD-4680-9092-DDF7220A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D047-1CED-4C30-B521-80B63A38F5C9}" type="datetime">
              <a:rPr b="0" lang="zh-CN" sz="12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460A-91B1-4050-8315-8E542001E9B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jpeg"/><Relationship Id="rId16" Type="http://schemas.openxmlformats.org/officeDocument/2006/relationships/image" Target="../media/image28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09680" y="2819520"/>
            <a:ext cx="5334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交通规则要牢记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F1E0B-87B5-4965-8177-9604AAC76FB5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5A9A9-1146-4255-821B-30BF945F8F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305560" cy="562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553B-CE46-48E3-A7B6-EEA23613ED8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7984D-895D-4E52-938C-657F9D2BAC7F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528480"/>
            <a:ext cx="7848720" cy="534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1479-2348-442D-8AD8-2B4C98F9E1CD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AB17B-B90F-4CD1-BEF4-1B9641A8AD7B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471600"/>
            <a:ext cx="8001000" cy="568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C5F96-A0FC-4493-8A87-FC2337406BC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86EDA-B4D1-401E-9A7B-DC24B1DB8B23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924680" cy="563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275C-2A24-49B1-9A79-491DDFA4B141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5299B-5D57-45FE-B845-0F1672D7ADD6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1371600"/>
            <a:ext cx="1067040" cy="274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1600200"/>
            <a:ext cx="609840" cy="6094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2438280"/>
            <a:ext cx="609840" cy="609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3276720"/>
            <a:ext cx="609840" cy="60948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1600200"/>
            <a:ext cx="41148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红灯：禁止通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宋体"/>
              </a:rPr>
              <a:t>黄灯：切换信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33"/>
                </a:solidFill>
                <a:latin typeface="宋体"/>
              </a:rPr>
              <a:t>绿灯：允许通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4D5A-9C41-48F2-ADA2-6A23BB759E7E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B9AC5-6123-4909-8743-73A0016671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" dur="1" fill="hold"/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28800" y="5335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禁令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52480" y="28195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2840" y="281952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056040" y="13716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951520" y="13795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495680" y="13795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7399440" y="13716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684440" y="4275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3132000" y="4275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304920" y="4275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3124080" y="28195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7399440" y="281952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1676520" y="13716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304920" y="13716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6027840" y="2819520"/>
            <a:ext cx="1439640" cy="1471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4579920" y="2811600"/>
            <a:ext cx="1440000" cy="145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6E385-3D95-4F81-9D61-D2DA4E373851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31DF1-D557-4EAF-8203-1130E4FB92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554800" y="3306600"/>
            <a:ext cx="1439640" cy="1246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3306600"/>
            <a:ext cx="1440000" cy="123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106880" y="3306600"/>
            <a:ext cx="1440000" cy="1265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219320" y="3306600"/>
            <a:ext cx="1439640" cy="124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5554800" y="2087640"/>
            <a:ext cx="1439640" cy="1245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6926400" y="2087640"/>
            <a:ext cx="1439640" cy="123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1219320" y="2087640"/>
            <a:ext cx="1439640" cy="1245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4106880" y="2087640"/>
            <a:ext cx="1440000" cy="1245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2666880" y="2087640"/>
            <a:ext cx="1440000" cy="1309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79440" y="63036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警告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FE14-BA14-454F-B4F7-924DE300AFFA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D3B7C-C473-4E85-809B-B184BF2BD26D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133720" y="304920"/>
            <a:ext cx="441000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346B-B39C-4D24-A022-3DEDDB9E1DAC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0EB78-A4EA-4F9B-8D65-67907EDD41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451152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DCFE-27A1-4B67-BE83-C572EC11A54E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0DDAD-F66E-4A0D-8BE3-D88303B442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2640" y="262080"/>
            <a:ext cx="5238720" cy="591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5DF11-09E8-4551-8CE8-C4052C02D908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CE142-BE01-4D4B-ACBC-69FA7383A0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D41C-9834-40DB-AA9E-142C878C597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479D7-78B4-4526-9B6A-8D8D7AC32D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438520" cy="61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B62A0-A324-425B-8F40-6190C7FC9559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14829-EFB9-4151-8DED-D59FF31F70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6705720" cy="574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B834-A70B-408E-819A-EF14FD5DEE56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76FE8-D820-4EB5-AD08-922E243160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74920" y="22320"/>
            <a:ext cx="6194160" cy="622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9D81-70C0-45B9-9E78-222014F16960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934C9-0B65-4B04-ABF8-EE0A8CFC93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  <a:ea typeface="楷体_GB2312"/>
              </a:rPr>
              <a:t>第七章 行人和乘车人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第六十三条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 行人必须遵守下列规定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一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须在人行道内行走，没有人行道的靠路边行走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横过车行道，须走人行横道。通过有交通信号控制的人行横道，须遵守信号的 规定；通过没有交通信号控制的人行横道，须注意车辆，不准追逐、猛跑。没有人行横 道的，须直行通过，不准在车辆临时突然横穿。有人行过街天桥或地道内，须走人行过 街天桥或地道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67D7-5A17-466F-8449-1078BC3DE05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DB243-DB3E-4F7E-8793-AD3913A1D057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不准穿越、骑坐人行道、车行道和铁路道口的护栏；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四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不准在道路上扒车、追车、强行拦车或抛物击车；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五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学龄前儿童在街道或公路上行走须有成年人带领；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六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通过铁路道口。须遵守本条例第四十四条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一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项的规定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DD89-C317-4911-9446-170FCCA8E8E9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41CA8-9690-4C83-A71B-4380E862B1FC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第六十四条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 列队通行道路时，每横列不准超过二人。儿童的队列须在人行道上行 进，成年人的队列可以紧靠车行道右边行进。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 列队横过车行道时，须从人行横道迅速通过；没有人行横道的，须直径通过；长列 队伍在必要时，可以暂时中断通过。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E38D9-E0FC-44EA-B63A-DDC5826ED9ED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4EB8D-FFE0-45C0-BDE2-9D6234F7BE32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第六十五条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 乘车人必须遵守下列规定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一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乘坐公共汽车、电车和长途汽车须在站台或指定地点依次候车，待车停稳后， 先下后上；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二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不准在车行道上招呼出租汽车；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不准携带易燃、易爆等危险物品乘坐公共汽车、电车、出租汽车和长途汽车；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四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机动车行驶中，不准将身体任何部分伸出车外，不准跳车；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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(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五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乘坐货运机动车时，不准站立，不准坐在车厢栏板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C4F3D-97FC-4263-AA3B-D9998206F05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3082D-87BA-45FB-9CE5-22D1005C07D8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9144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362320"/>
            <a:ext cx="5867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经济繁荣车辆多，交通安全记心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骑车走路靠右侧，横穿马路莫慌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行人须走人行道，机动车道勿来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越过街道勿随意，斑马线上走安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行经十字马路口，绿灯为你导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列队过街应迅速，不与车辆把路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99"/>
                </a:solidFill>
                <a:latin typeface="Times New Roman"/>
              </a:rPr>
              <a:t>候车有序分先后，先下后上互谦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6880" y="83808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交通规则顺口溜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82A10-0062-4EFB-A5B8-101C15B7B9B0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D9579-F6ED-4169-9329-0541750107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1295280"/>
            <a:ext cx="7238880" cy="37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99"/>
                </a:solidFill>
                <a:latin typeface="Times New Roman"/>
              </a:rPr>
              <a:t>祝大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高高兴兴上学来，平平安安回家去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7111-FCA2-4535-8464-E53DC33BF4AA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07C32-79BB-4FEE-87BE-90E61B3DC9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604800"/>
            <a:ext cx="8001000" cy="518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2A99-108A-48EA-88AF-C9189266A682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D55F6-5C8E-4349-B5AA-88B2F8EA55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152280"/>
            <a:ext cx="8229600" cy="588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02C7-C438-49BC-A79A-C2512DB7E3EE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D23FE-FAA5-4010-80FE-2A626A6AF9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60680" y="1082520"/>
            <a:ext cx="52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21932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新华社北京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日电　记者近日从公安部交通管理局了解到，今年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至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月，全国共发生道路交通事故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448535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起，造成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66180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人死亡、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33033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人受伤，直接经济损失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亿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3B59-2C17-4BC7-811C-F712E43D8F90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F931F-18B4-4FD6-BFEE-7EA3D01DAD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849240"/>
            <a:ext cx="7696080" cy="50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D811-6A17-4889-968B-12F11F6687B7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59E48-5A30-4D55-A1D7-59E0A58C91F5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7391160" cy="55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B5C54-9F0A-4751-B37C-411072843C1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29653-2017-4986-85CD-AA9820F825F5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541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A26F-E0E1-4DB4-9315-F5DDF8E2CEC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AB5A3-1624-45C3-BE22-96E2D72B20E3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66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D767-C0C9-40AD-919C-0C68763C046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D453C-20D9-463F-A8FF-8913E4E8D3AF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8:12Z</dcterms:modified>
  <cp:revision>1</cp:revision>
  <dc:subject>主题班会课件(分28大类): http://shop62905894.taobao.com</dc:subject>
  <dc:title>主题班会课件(分28大类): http://shop62905894.taobao.com</dc:title>
</cp:coreProperties>
</file>