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type.wav" ContentType="audio/x-wav"/>
  <Override PartName="/ppt/media/image6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8.jpeg" ContentType="image/jpeg"/>
  <Override PartName="/ppt/media/image29.jpeg" ContentType="image/jpeg"/>
  <Override PartName="/ppt/media/whoosh.wav" ContentType="audio/x-wav"/>
  <Override PartName="/ppt/media/image13.jpeg" ContentType="image/jpeg"/>
  <Override PartName="/ppt/media/image3.jpeg" ContentType="image/jpeg"/>
  <Override PartName="/ppt/media/image30.jpeg" ContentType="image/jpeg"/>
  <Override PartName="/ppt/media/image26.png" ContentType="image/png"/>
  <Override PartName="/ppt/media/image12.gif" ContentType="image/gif"/>
  <Override PartName="/ppt/media/image17.jpeg" ContentType="image/jpeg"/>
  <Override PartName="/ppt/media/image5.jpeg" ContentType="image/jpeg"/>
  <Override PartName="/ppt/media/image27.png" ContentType="image/png"/>
  <Override PartName="/ppt/media/image28.png" ContentType="image/png"/>
  <Override PartName="/ppt/media/image7.jpeg" ContentType="image/jpeg"/>
  <Override PartName="/ppt/media/wind.wav" ContentType="audio/x-wav"/>
  <Override PartName="/ppt/media/laser.wav" ContentType="audio/x-wav"/>
  <Override PartName="/ppt/media/image16.jpeg" ContentType="image/jpeg"/>
  <Override PartName="/ppt/media/image9.jpeg" ContentType="image/jpeg"/>
  <Override PartName="/ppt/media/image4.jpeg" ContentType="image/jpeg"/>
  <Override PartName="/ppt/media/suction.wav" ContentType="audio/x-wav"/>
  <Override PartName="/ppt/media/image19.jpeg" ContentType="image/jpeg"/>
  <Override PartName="/ppt/media/image25.png" ContentType="image/png"/>
  <Override PartName="/ppt/media/image2.jpeg" ContentType="image/jpeg"/>
  <Override PartName="/ppt/media/image23.png" ContentType="image/png"/>
  <Override PartName="/ppt/media/push.wav" ContentType="audio/x-wav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871-9283-422E-B7C6-0E74D140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B13-5662-4BAE-92C4-1AADBB3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C09-82CC-484B-A5ED-54FFD3408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222-CE45-43AD-A196-D9CA2163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A51-814C-45F9-902A-58039965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76ED-DD16-43DC-AA88-822FC06A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CC25-7E62-474B-9B38-C4B8EB4F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2296-0343-4B05-A11D-03A62317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43B-BC9C-4B29-8369-CBA1F5BA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A9E-FBAC-4253-B26F-C4881548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706-CBC6-416F-9D3B-6D171BB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2767-DC8B-4B62-AD2B-1DE5C817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4DD6-5AB8-435C-9B76-9820CDC97E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suction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suctio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suction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suction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suction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77888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珍爱生命</a:t>
            </a:r>
            <a:br>
              <a:rPr sz="5400"/>
            </a:b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------</a:t>
            </a: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安全教育 </a:t>
            </a:r>
            <a:br>
              <a:rPr sz="5400"/>
            </a:br>
            <a:r>
              <a:rPr b="1" i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5880" y="441972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高二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(5)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85800"/>
            <a:ext cx="586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３、在学校不玩有伤害性的玩具，课间校内不踢球，不投掷。不触摸有电的地方。自觉遵守校园警示牌的要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４、上学期间不经老师同意不得出校门。遇到陌生人来找时要及时报告老师，不得私自跟随出去</a:t>
            </a:r>
            <a:r>
              <a:rPr b="0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609480"/>
            <a:ext cx="6248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５、活动时要有序，不打闹，不做危险动作。万一遇到危险时，要学会避让，学会护住头、脸、脑等部位，防止向后跌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、如遇特殊情况需离开校园的，应先到班主任请假，将班主任批准的请假条交给门卫后方可出校，并在规定的时间内返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5486400" cy="3840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9621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762440" cy="3810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038480" y="3048120"/>
            <a:ext cx="47628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556080" cy="23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 rot="1167000">
            <a:off x="4643280" y="620280"/>
            <a:ext cx="3245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事故如猛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404640"/>
            <a:ext cx="741708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道路交通是一个世界性的社会问题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它已成为国际社会的一大公害。据统计，２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0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纪以来，因交通事故死亡的人数达到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２２３５万</a:t>
            </a:r>
            <a:r>
              <a:rPr b="1" lang="zh-CN" sz="3600" spc="-1" strike="noStrike">
                <a:solidFill>
                  <a:srgbClr val="99cc00"/>
                </a:solidFill>
                <a:latin typeface="华文中宋"/>
                <a:ea typeface="华文中宋"/>
              </a:rPr>
              <a:t>人，这个数字比第一次世界大战中死亡的人数还多，交通事故已成为全世界非正常死亡的重要因素。许多名人也葬身于车祸之中，如美国的巴顿将军，英国的王妃戴安娜等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suction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11280" y="692280"/>
            <a:ext cx="720072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我国每年因各类事故死亡人数</a:t>
            </a:r>
            <a:r>
              <a:rPr b="1" lang="zh-CN" sz="3600" spc="-1" strike="noStrike">
                <a:solidFill>
                  <a:srgbClr val="f04d2c"/>
                </a:solidFill>
                <a:latin typeface="仿宋_GB2312"/>
                <a:ea typeface="仿宋_GB2312"/>
              </a:rPr>
              <a:t>约１０万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人，道路交通事故死亡人数占</a:t>
            </a:r>
            <a:r>
              <a:rPr b="1" lang="zh-CN" sz="3600" spc="-1" strike="noStrike">
                <a:solidFill>
                  <a:srgbClr val="f04d2c"/>
                </a:solidFill>
                <a:latin typeface="仿宋_GB2312"/>
                <a:ea typeface="仿宋_GB2312"/>
              </a:rPr>
              <a:t>６０％以上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。我国的交通事故死亡人数位居世界首位，</a:t>
            </a:r>
            <a:r>
              <a:rPr b="1" lang="zh-CN" sz="3600" spc="-1" strike="noStrike">
                <a:solidFill>
                  <a:srgbClr val="f04d2c"/>
                </a:solidFill>
                <a:latin typeface="仿宋_GB2312"/>
                <a:ea typeface="仿宋_GB2312"/>
              </a:rPr>
              <a:t>平均每天有</a:t>
            </a:r>
            <a:r>
              <a:rPr b="1" lang="zh-CN" sz="3600" spc="-1" strike="noStrike">
                <a:solidFill>
                  <a:srgbClr val="f04d2c"/>
                </a:solidFill>
                <a:latin typeface="仿宋_GB2312"/>
                <a:ea typeface="仿宋_GB2312"/>
              </a:rPr>
              <a:t>280</a:t>
            </a:r>
            <a:r>
              <a:rPr b="1" lang="zh-CN" sz="3600" spc="-1" strike="noStrike">
                <a:solidFill>
                  <a:srgbClr val="f04d2c"/>
                </a:solidFill>
                <a:latin typeface="仿宋_GB2312"/>
                <a:ea typeface="仿宋_GB2312"/>
              </a:rPr>
              <a:t>多人死于车祸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其中中小学生</a:t>
            </a:r>
            <a:r>
              <a:rPr b="1" lang="zh-CN" sz="3600" spc="-1" strike="noStrike" u="sng">
                <a:solidFill>
                  <a:srgbClr val="99cc00"/>
                </a:solidFill>
                <a:uFillTx/>
                <a:latin typeface="仿宋_GB2312"/>
                <a:ea typeface="仿宋_GB2312"/>
              </a:rPr>
              <a:t>占总人数的</a:t>
            </a:r>
            <a:r>
              <a:rPr b="1" lang="zh-CN" sz="3600" spc="-1" strike="noStrike" u="sng">
                <a:solidFill>
                  <a:srgbClr val="f04d2c"/>
                </a:solidFill>
                <a:uFillTx/>
                <a:latin typeface="仿宋_GB2312"/>
                <a:ea typeface="仿宋_GB2312"/>
              </a:rPr>
              <a:t>８％左右</a:t>
            </a:r>
            <a:r>
              <a:rPr b="1" lang="zh-CN" sz="3600" spc="-1" strike="noStrike">
                <a:solidFill>
                  <a:srgbClr val="99cc00"/>
                </a:solidFill>
                <a:latin typeface="仿宋_GB2312"/>
                <a:ea typeface="仿宋_GB2312"/>
              </a:rPr>
              <a:t>。这个数字向人们敲响警钟，追根溯源，安全意识淡薄，麻痹大意，违章违纪是造成交通事故的根本原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" name="suction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03280" y="57340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新宋体"/>
              </a:rPr>
              <a:t>在大街小路上踢足球、捉迷藏很危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5080" y="63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6336000" cy="552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suction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21337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漫长的人生路中，总要有许多难以预料的事情。你是否注意到身边的危险。“防险之心不可无”。你是否知道注意安全，自救险情的重要性。恶魔总是来找无知的人。今天，通过班会，我们要为我们生命买一份保险，为我们的安全加一把锁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05120" y="609480"/>
            <a:ext cx="4419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班会目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19280" y="5575320"/>
            <a:ext cx="63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omic Sans MS"/>
                <a:ea typeface="新宋体"/>
              </a:rPr>
              <a:t>     </a:t>
            </a:r>
            <a:r>
              <a:rPr b="1" lang="zh-CN" sz="2500" spc="-1" strike="noStrike">
                <a:solidFill>
                  <a:srgbClr val="000000"/>
                </a:solidFill>
                <a:latin typeface="Comic Sans MS"/>
                <a:ea typeface="新宋体"/>
              </a:rPr>
              <a:t>在较窄的街区马路上行走，一定要靠右边走，不要几个小朋友横着走，以免妨碍他 人行走和车辆行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623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5559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  <p:sndAc>
      <p:stSnd>
        <p:snd r:embed="rId2" name="suction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03280" y="5484960"/>
            <a:ext cx="59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Comic Sans MS"/>
                <a:ea typeface="新宋体"/>
              </a:rPr>
              <a:t>骑车上下学一群并排行驶，这样既妨碍交通，又不文明，互相挤道，也容易摔跤或撞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6237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3744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suction.wav"/>
      </p:stSnd>
    </p:sndAc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481800" cy="554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58880" y="5661000"/>
            <a:ext cx="406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在马路上，有的同学喜欢骑着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闹着玩，这都是不安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28000" y="633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92360" y="5589720"/>
            <a:ext cx="568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新宋体"/>
              </a:rPr>
              <a:t>隔着马路相互喊话、问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新宋体"/>
              </a:rPr>
              <a:t>也容易被往来的行人、车辆碰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67640" y="6381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337440" cy="549756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2" name="suction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92360" y="566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新宋体"/>
              </a:rPr>
              <a:t>当走路只顾着谈天说地，没有留意地面的情况时，很容易发生意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6308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24720" cy="570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证驾驶摩托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190600" y="1238400"/>
            <a:ext cx="47628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371600"/>
            <a:ext cx="8229600" cy="2971800"/>
          </a:xfrm>
          <a:prstGeom prst="horizontalScroll">
            <a:avLst>
              <a:gd name="adj" fmla="val 12500"/>
            </a:avLst>
          </a:prstGeom>
          <a:solidFill>
            <a:srgbClr val="800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828800" y="2209680"/>
            <a:ext cx="556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同學說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295280"/>
            <a:ext cx="88390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毒蛇出来晒太阳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你不小心打扰了它……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2666880"/>
            <a:ext cx="78483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069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珍爱生命 共创明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全国每天消失一个班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792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洋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名幼童溺死在洋浦汽车客运总站旁边的池塘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琼海市博鳌镇朝阳中学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名初二学生驾船上学的途中，在万泉河上因风大船翻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名学生全部落水，其中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名不识水性的女生不幸身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万宁东和农场中心小学一四年级学生在操场旁边一积水坑玩耍时，不幸溺水死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日，省聋哑学校一四年级学生欲翻越学校围墙跑出校外，不慎从围墙摔下身亡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一个小小的过错，有时会酿成无法挽回的损失，甚至令花季中的孩子过早凋谢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据调查显示，我国中小学生因溺水、交通事故、食物中毒、建筑物倒塌等意外死亡的，平均每天有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40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多人，相当于每天有一个班的学生消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1340200">
            <a:off x="151920" y="228600"/>
            <a:ext cx="3218040" cy="129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457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10200" cy="566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05280" y="3381480"/>
            <a:ext cx="5238720" cy="34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957240" y="790560"/>
            <a:ext cx="7229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36520"/>
            <a:ext cx="8229600" cy="608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010280" cy="532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352680" y="838080"/>
            <a:ext cx="43452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8580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在校内意外受伤的原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走廊、楼道里踢球、追逐打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集体上下楼时，不讲秩序、互相拥挤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拿小石子或其他小物件互相丢着玩，或者打来打去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攀高并从高处往下跳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趴阳台，从阳台上往下扔东西，高空抛物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进食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爬墙、玩铁门、教室门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上体育课时在教室里逗留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6156360"/>
            <a:ext cx="609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09480"/>
            <a:ext cx="6400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、校园活动安全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１、校园内和教室里都不追跑哄闹，不攀爬翻越。在走廊上，拐角处和进出教室时都要慢行，防止碰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２、上下楼梯靠右行，逐层上下，不跑，不跳，不推搡，不起哄，不在楼梯扶手上滑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47:10Z</dcterms:modified>
  <cp:revision>25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