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10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497-4921-410E-8435-C871FC91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D5F-5881-462A-B517-8B78758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7A21-DE91-4AA0-B4B1-D510411B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0CB0-A540-499E-99FD-F47E84D4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9DF-138E-4C69-89DB-5B7CFD8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765-11B5-449A-A063-F394436F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DB1-7F67-401E-B9DD-AD6CD0F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AF2-C9F9-44D0-8DD9-B32A4FB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6EF-9BF9-4A70-9B38-7C78ACA7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E62-FBEA-40AB-A86B-6A2CDE24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52F-EB5A-44EE-989F-7A618ED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EB1-B1A5-4189-A85E-0E217CA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766-6378-4F3A-B828-567DE8C9F3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151400">
            <a:off x="3733560" y="1752480"/>
            <a:ext cx="5105160" cy="175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珍爱生命</a:t>
            </a:r>
            <a:endParaRPr b="0" lang="en-US" sz="66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9726" t="7691" r="15497" b="12185"/>
          <a:stretch/>
        </p:blipFill>
        <p:spPr>
          <a:xfrm>
            <a:off x="228600" y="2209680"/>
            <a:ext cx="3581280" cy="4419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3337" t="0" r="9163" b="0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09120" y="152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歌曲《在我生命的中的每一天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838080"/>
            <a:ext cx="8534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时光飞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祈祷明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个小小梦想能够慢慢实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是如此平凡却又如此幸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要说声谢谢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我生命中的每一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时光飞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回首从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曾经是莽撞少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曾经度日如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是如此平凡却又如此幸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要说声谢谢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我生命中的每一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将生命中最闪亮的那一段与你分享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用生命中最嘹亮的歌声来陪伴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将心中最温柔的部分给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你最需要朋友的时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让我真心真意对你在每一天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24382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6632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17680" y="228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7720" y="2470320"/>
            <a:ext cx="360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阅读教材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29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页关于伐木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人的故事。面对如此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的抉择，伐木工人为什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果断地选择了求生？从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个故事中受到什么启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51440" y="15238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一、永不放弃生的希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68920" y="91440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故      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39080" y="1643040"/>
            <a:ext cx="4330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几位少年去山上玩，天降暴雨，归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洪水截断。他们又冷又饿地被困在山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天，当洪水退去，人们上山时，才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这几位少年已经饿死了。从他们紧紧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起的姿势看，他们显然是又冷又饿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惧致死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故事给了我们什么启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4875120"/>
            <a:ext cx="6629400" cy="5205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命是珍贵的，需要我们认真加以保护。生命也是脆弱的。在生命受到威胁时，不仅要又求生的意志，也要有求生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122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200400" y="4876920"/>
            <a:ext cx="2666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学会自救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55" name=""/>
          <p:cNvSpPr/>
          <p:nvPr/>
        </p:nvSpPr>
        <p:spPr>
          <a:xfrm>
            <a:off x="1843920" y="219240"/>
            <a:ext cx="571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填一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急救电话是           ；报警电话是           ；火警电话是         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1066680"/>
            <a:ext cx="76176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1066680"/>
            <a:ext cx="685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106668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46480" y="5526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89680" y="4762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6560" y="47628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184400"/>
            <a:ext cx="8940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选一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如果你单身在家，遇到陌生人来敲门，你的正确做法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不开门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打电话给父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礼貌地请他进门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告诉他父母马上就回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如果你打开家门时，发现家中煤气轻微泄漏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的正确做法是立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窗通风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开灯检查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点燃煤气灶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闭煤气开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66240" y="17524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01840" y="34704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90504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许小佳是一个成绩优异的学生，父母也非常疼爱她，随着年龄的增长，她越来越不快乐了。原来，她有先天性的缺陷——兔唇。一天，她去参加一个英语学习讲座，又一次感觉到了人们好奇的目光和背后的指指点点。一个调皮的男孩捂着嘴，笑着对旁边的同伴说：“瞧，三瓣嘴。”许小佳伤心极了……回到家，一个可怕的念头——“自杀”又浮现在她的脑海中。于是她写好了一封给父母的遗书，并决定最后一次给自己最心爱的《爱心》栏目的“知心姐姐”打一个电话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60680" y="5027760"/>
            <a:ext cx="717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假如你是那位《爱心》栏目的“知心姐姐”，你会怎样劝说许小佳，让小佳放弃“自杀”的念头，重新扬起生活的风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76640"/>
            <a:ext cx="2895480" cy="723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08040" y="9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4660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二、肯定生命，尊重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9167" b="283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49160" y="190512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一个人的生命能为他人带来快乐和幸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每个人的生命都是有价值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352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每个人对国家、社会和他人都有价  值。在   珍爱自己生命的同时，也要尊重他人的生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69640" y="5334120"/>
            <a:ext cx="129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生命不可能十全十美，即使是不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生命也需要肯定、尊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680" y="2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79320" y="6094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、肯定生命，尊重生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366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7720" y="136440"/>
            <a:ext cx="7419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一个生长在孤儿院的小男孩，常常悲观地问院长：“像我这样没人要的孩子，活着究竟有什么意思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院长笑而不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一天，院长交给男孩一决石头，说：“明天早上，你拿这块石头到市场上去卖，但不是真卖，记住，无论别人出多少钱，绝对不能卖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第二天，男孩拿着石头蹲在市场的角落，有不少好奇的人对他的石头感兴趣，而且价格  越出越高。回到院内，男孩兴奋地向院长报告，院长笑笑，要他明天拿到黄金市场去卖。在  黄金市场上，有人出比昨天高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的价格皋买这块石头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后，院长叫孩子把石头拿到宝石市场上去展示，结果，石头的身价又涨了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，更因为男孩怎么都不肯卖，竞被大家传为“稀世珍宝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男孩兴冲冲捧着石头回到孤儿院，把这一切讲给院长听，并问为什么会这样。院长没有 笑，望着孩子慢慢说道：“生命的价值就像这块石头一样，在不同的环境下就有不同的意义。  一决不起眼的石头，由于你的珍惜而大大提高了它的价值，竞被传为稀世珍宝。你不也像一  块石头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只要自己看重自己、自我珍惜，生命就有价值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55480" y="5934240"/>
            <a:ext cx="43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自己看重自己、自我珍惜，生命就有价值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8520" y="-1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、延伸生命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rcRect l="29414" t="0" r="0" b="0"/>
          <a:stretch/>
        </p:blipFill>
        <p:spPr>
          <a:xfrm>
            <a:off x="533520" y="762120"/>
            <a:ext cx="3809880" cy="28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13333" t="6321" r="13333" b="17816"/>
          <a:stretch/>
        </p:blipFill>
        <p:spPr>
          <a:xfrm>
            <a:off x="5257800" y="685800"/>
            <a:ext cx="350532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3657600"/>
            <a:ext cx="469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任长霞从警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，经历了一次次善与恶、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与邪、情与法、生与死的严峻考验。特别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担任登封市公安局长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多时间，疾恶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仇，忧民疾苦，顶住压力，不畏恐吓，连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端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个涉黑犯罪团伙，被当地老百姓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女包公”、“任青天”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日，任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霞在侦破一起刑事案件由郑州市返回登封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途中，遭遇车祸，不幸牺牲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240" y="3938760"/>
            <a:ext cx="3521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邓小平在中国的历史上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到了不可替代的重要作用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中国的经济发展、对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国成为世界强国并在世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舞台上发挥举足轻重的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用作出了不可磨灭的贡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45720" y="60199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他们的生命是否有价值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1566" t="5003" r="9670" b="75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35600" y="1491120"/>
            <a:ext cx="78984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如何珍爱生命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286000"/>
            <a:ext cx="762120" cy="2895480"/>
          </a:xfrm>
          <a:custGeom>
            <a:avLst/>
            <a:gdLst>
              <a:gd name="textAreaLeft" fmla="*/ 487080 w 762120"/>
              <a:gd name="textAreaRight" fmla="*/ 762480 w 7621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0920" y="2025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永不放弃生的希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46760" y="200196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当自己的生命受到威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时，不轻易放弃，不丧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生的希望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72960" y="3429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肯定生命，尊重生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1880" y="31449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人的生命都是有价值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86280" y="39067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人对国家、社会和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都有价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3880" y="4716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延伸生命的价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248520" y="5791320"/>
            <a:ext cx="2514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5:30:4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0:44Z</dcterms:modified>
  <cp:revision>33</cp:revision>
  <dc:subject>主题班会课件(分28大类): http://shop62905894.taobao.com</dc:subject>
  <dc:title>主题班会课件(分28大类): http://shop62905894.taobao.com</dc:title>
</cp:coreProperties>
</file>