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C65C-C845-4A2E-97A7-4BDB9BDAA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BA3F-BD89-4D99-9F7D-C25AC27E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9B2F-855C-45C8-A2D4-687D8277C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8AD9-630D-4881-9C7E-007FA8DA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51D8-CD33-4032-BBBF-F142325F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120F-A6DE-446F-A59F-DEC58FF4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FC54-4998-4F75-92FA-7544E22A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1E52-A577-4198-B914-6509CB95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F135-F321-4124-9541-49DA9CDC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05B5-9E72-4F53-81A4-8DE342DC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5C77-3F5E-40F7-8FCF-BCADE3E6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5455-960E-4750-A6A2-DE09AF91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0E6D-76A9-4F09-BA40-01CD5256F7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C:/Documents%20and%20Settings/Administrator/Local%20Settings/Temp/Rar$DI00.890/0086.mp3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38160" y="2062080"/>
            <a:ext cx="56880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学习抗震救灾精神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,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做有道德文明的人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90600" y="1800360"/>
            <a:ext cx="4762800" cy="325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116000" y="5897520"/>
            <a:ext cx="29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我的孩子还在那儿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—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4596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537040" y="0"/>
            <a:ext cx="60696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双手间，传递的是爱的力量，生的希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17080" y="260280"/>
            <a:ext cx="45864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5300640"/>
            <a:ext cx="9144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，张关蓉在擦拭丈夫谭千秋的遗体。在地震发生的一瞬间，德阳市东汽中学教师谭千秋双臂张开趴在课桌上，身下死死地护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学生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学生都获救了，谭老师却不幸遇难。这种伟大的牺牲精神，感天动地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56000" cy="5589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5589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5589720"/>
            <a:ext cx="9144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灾后的人们需要援助，也需要外界了解他们的苦难。那里的生命与死亡都将成为历史的一笔，令我们痛苦，令我们焦灼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5950080"/>
            <a:ext cx="9144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是黑色的日子，所有的孩子，所有的成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有的中国人，都处在强烈的震惊和悲伤当中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6093000"/>
            <a:ext cx="9144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无数鲜活的生命，顷刻间就这样离我们而去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与死，真只是一步之遥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39840" y="6099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381720"/>
            <a:ext cx="9144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劫后母女间的重逢，必将“哭”尽甘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5950080"/>
            <a:ext cx="91440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路可以破，石可以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是人们抗震自救的信心不会被打败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6381720"/>
            <a:ext cx="9144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日，国际护士节。天使在人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5805360"/>
            <a:ext cx="91440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又是你们让我们泪流满面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向新时期最可爱的人致敬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826560" y="4724280"/>
            <a:ext cx="831708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cc00"/>
                </a:solidFill>
                <a:latin typeface="Arial"/>
              </a:rPr>
              <a:t>用我们的爱    给你们力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187280" y="1557360"/>
            <a:ext cx="7129800" cy="211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众志成城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6208560" y="213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22640" y="4370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80200" y="44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451640" y="623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0086.m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5877000"/>
            <a:ext cx="9144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向这些在雨夜中、在滚石间、在余震中进发的士兵致敬，向这些在灾区的废墟间挖掘和救生的士兵致敬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6099120"/>
            <a:ext cx="9144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生死的边缘啊，在黑暗的瓦砾之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我们看到了这些红色的救援队的臂膀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20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013880" y="0"/>
            <a:ext cx="213012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伸出手来，孩子，这只曾经饱满圆润的手，为了寻找回家的路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变得如此憔悴，如此疲惫。你找到家了，孩子，我们都是你的家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689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5950080"/>
            <a:ext cx="91440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看不见你的面孔，我只看到破碎的衣衫和皮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还看到父亲般安全的怀抱里不再有破碎的梦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5468760"/>
            <a:ext cx="914400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这些肉乎乎的小客人长大成为栋梁和主人的时候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们一定会回首追寻地震中的洗礼，感念帮助他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全非凡洗礼的亲人们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5300640"/>
            <a:ext cx="914400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年前周总理亲赴邢台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年后温总理亲赴汶川！两任总理，一脉真情！ 向总理致敬！我们是一家人！天佑中华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64200" y="5883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56000" cy="6308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6308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6308640"/>
            <a:ext cx="9144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美国纽约华人在为所有受难的人们祈福！大爱在人间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76560" y="6315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308640"/>
            <a:ext cx="9144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震后的县城，几乎已是一片废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5950080"/>
            <a:ext cx="9144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房子裂了、塌了，我们还可以再修。只要人在，我们就一定能够渡过难关，战胜这场重大自然灾害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5445000"/>
            <a:ext cx="9144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没有选择是否接受灾害的权利，但是我们可以选择对待灾难的态度。灾难发生了，我们要相信党和政府、相信人民群众，相信最终能战胜灾难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5661000"/>
            <a:ext cx="9144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悲痛的泪流，已注入我们的内心。这是无须渲染的灾情，更是无须压抑的哭泣。今天起，狂欢非道德，漠然不人性。今天起，号哭不是软弱，抚胸难掩悲怆。今天起，前仆之处后继，起死而后回生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5661000"/>
            <a:ext cx="9144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不能直面处直面，于不可承受中承受。越是命悬一线，越不轻言放弃。越是绝地生还，越拥有生命尊严。请你一定要挺住，一定要坚信，一定要得救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95360" y="1751040"/>
            <a:ext cx="4553280" cy="335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5878800"/>
            <a:ext cx="9144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孩子，亲爱的孩子，试卷刚刚铺开你就停止了书写，生命刚刚绽放就划上了句号。你的小手还没有洗去泥水，指甲就已泡白，你还想握住亲人的手、握住美好的生命吧，会的，孩子，天堂里仍然有明亮的课堂，我们仍然会在梦里相遇相握相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39:11Z</dcterms:modified>
  <cp:revision>5</cp:revision>
  <dc:subject>主题班会课件(分28大类): http://shop62905894.taobao.com</dc:subject>
  <dc:title>主题班会课件(分28大类): http://shop62905894.taobao.com</dc:title>
</cp:coreProperties>
</file>