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334-1653-4D3A-AAF5-F0000848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AF8A-931F-4DAF-A984-D42DFE9F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75F-9EC9-433B-8535-D6114F2F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E2AC-7964-44C3-B351-0C762243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3D5C-E3D3-4616-9F56-DB5A346C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83ED-7B3A-490F-8A7D-CB0332D6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CF1F-3C27-46BA-AED2-0496D4DC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7B04-DEA6-4E32-959D-FB161F15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039B-60EE-4458-8843-69973459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C975-90E1-4866-AC65-344E7406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BD60-7927-408A-9550-4DEB900A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73D-9CCB-4508-88D8-BF179A28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AAFB-7742-43F0-8609-AA72D772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6A55-7CF1-4D3E-BCCF-A93CDD17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1FB4-391A-4885-821C-CCE7EC74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54EB-9C7A-4F99-9882-9210442B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A9C9-16E1-4A24-8DCF-C38A63EC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63129-82D8-4E0F-991D-6C6CC032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F978C-AE3B-41FC-9FEE-4112E395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7D4AE-77DF-40BC-AD3C-12E8BCA3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ECC01-34C3-43FE-B5CC-6021D51D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70589-47F4-4F41-9854-E6AB893D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B37-E7DD-4F1E-B214-87C751E3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54A8A-584E-4228-BDF7-4A3B8590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C79DD-63C1-46B3-872B-09C78192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758EB-C5F7-4229-89F5-3825E9A2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C0A3-73FB-4720-8618-54DC0CBE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69588-868C-4B96-9436-1D221E7D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B6EAD-66C4-42AC-90DA-E65F741E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3EB67-A872-495F-B197-60C98C68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92A4D-BDAC-400F-AFCA-C4A672B9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7FDBC-F3D7-4E9E-9A26-B5D96E18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D6082-3A1E-465A-89A7-A4F8F46D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45C-A100-48F7-ACD4-5F114B72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815BC-7BE4-4E30-9261-056D4C99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16F0F-C179-46D5-A889-8C0C1337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A923B-D9E8-47B4-A3D5-C452154A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491EF-61DB-4878-9BF8-4CC2D471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393E5-0E4E-4387-8EC8-EC8E0778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0F90C-E74A-4C38-92C3-D653F665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AAEEA-DDB1-4C58-993F-88F209BC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28523-FB0F-4D1A-8D5F-B0DACA70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87638-7A07-4514-9E27-93E83085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F6414-8AB2-4970-BB68-530A3E95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044-1D28-4DC3-BD84-7786A39A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DA6CC-29F9-4541-8A85-75BBFAEF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28C4B-9A58-440A-85C7-3296CC92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3C196-48B4-4AB7-B8BD-D48A4C31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DAEC0-8756-44FB-B098-BE286A53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7B826-70D9-42A1-9CF3-1D613FE9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B6C69-F395-4BDA-AA27-04037257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4F1C6-32B3-40CA-8B38-7A2123CD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E941A-7514-4209-B471-A32FD9E6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E54CA-0F95-4062-A9C9-6EE2C523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A0534-E89F-4416-9FD2-8EF8B207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E77-4A74-43A0-892E-94A440A6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C8B9D-FE2F-4C5A-85A3-CF50DDFD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9707D-9F54-418E-A015-DA7D55A7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E7717-C6D3-481D-805B-B9E6AB94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90729-0849-4608-8081-0466DB1C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F4295-EAF0-4B3B-AC8D-254BBB1E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BC9C5-8459-467F-8EC6-84798C70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659F4-2FCF-4FCF-9D9E-6A09EBEB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632D4-7DB9-4779-AD1F-396C6C76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DA9E3-88B5-4094-9A64-307560C8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F1B9B-4A01-4583-9288-079A2970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5280-3AF2-4868-A2B3-2641500B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38B26-2AA2-469D-9145-BE84200D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F46B1-43E8-4118-9D27-CB3754B0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A22AD-B99E-43FA-9FF0-FEA91AA3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2E13E-F738-4A6C-8995-CBF2F1E9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F5C36-0BED-46DD-92AC-89A85302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6EAAD-6D84-4C10-ACAD-FFF2BEF5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CF0DC-3C26-494A-8933-5D1DC76A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9787F-C49F-48E6-A228-3F6E2E25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43D38-5C1B-47C1-98C2-D2D850FD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BFEC9-BC29-4CE4-84FD-D34E14C2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D12-2E9B-49E6-A8C7-2F789BA4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26FD7-67F3-4B46-8AE5-D7A41314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98E8D-6A82-490E-9C4E-6D6E3678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62FCD-FF35-4BD1-BA46-F3B32103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FBA0D-E893-4E6D-8C8F-F1F4EBE3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05AC6-D32A-43BD-B752-305B0E41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050-42B5-460E-848D-5189036A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0676-2D37-4EEE-9F65-FBAD4C4669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E8CD-D4BF-4A49-9A02-F0560D4295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53F3-EE38-4631-A7BB-E4E3381E32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5082-6B7B-4826-863B-5E0FA22CF3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3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4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5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B812-D4BF-4745-AD83-3652C82D60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F7CE-DBED-42F6-9209-C4394FF76B1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973B-BDD1-42D5-BC63-842E9BF144D0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eastday.com/eastday/node79841/node79861/node121726/userobject1ai1888312.html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539640" y="333360"/>
            <a:ext cx="3095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生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788000" y="90792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华亭一中吕晓盛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050920" y="54000"/>
            <a:ext cx="532944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6000" y="259920"/>
            <a:ext cx="75610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每个人都是一棵树，生命没有排序．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印度圣哲甘地称“从对待动物的态度可以判断这个民族是否伟大，道德是否高尚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物和人类是一家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善待动物就是善待我们自己。”虽然这样的道理很多人都明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虐待动物的事却一再发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765000"/>
            <a:ext cx="3456000" cy="5328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900000" y="765000"/>
            <a:ext cx="35276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案例：同安新民中学的一起校园暴力案件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一名初一的学生拿刀砍伤了同学的手腕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造成被砍伤的同学左手残疾。这起校园暴力案件的起因仅仅是两个学生的一个玩笑，然而一个玩笑竟能让孩子拔刀砍向同学，可见孩子胆子实在可怕，做事情时根本不考虑后果，也没有想过为一点小事而做下了违反法律的行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家庭要培养正确的方法来教导孩子，而不是一味的溺爱，校方也应在教学之外，引导学生多角度思考问题，且适当加强法制教育，使其认识到违反法律的严重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55640" y="-360"/>
            <a:ext cx="604836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北京某中外合资寄宿中学高三和高二学生因琐事发生争执，半夜时分，部分高三学生手持棍棒摸入高二学生宿舍，毒打高二学生，造成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名学生受伤，一名学生眼睛被玻璃扎伤，一名学生眼角被打裂。事发之后，学生惊恐万状，次日上午该班只有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名女生上课…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同学们发生争执时，要控制情绪，各让一步，家长和老师也应注意学生性格上的缺点，注重引导教育，注意方式方法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248436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3059280" cy="4896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987280" y="603360"/>
            <a:ext cx="6156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案例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0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日，内蒙古商都县第一中学三女生郭某、王某和李某持刀抢劫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9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名学生共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88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元现金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块手表。在采访中，内蒙古三女生抢劫案中的王某和李某始终不认为自己抢劫，在她们看来这不过是出于姐妹义气，帮郭某一块向那些学生借点钱罢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于平时表现得喜欢“讲义气”的学生，不要一味的批评指责，家长老师应当采取更容易被接受的方式来与他们交流，把“义气”转化为真正的同学友情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050560" y="5445000"/>
            <a:ext cx="490716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北大一名学生自杀现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沉痛回顾大学生自杀事件(图)"/>
          <p:cNvPicPr/>
          <p:nvPr/>
        </p:nvPicPr>
        <p:blipFill>
          <a:blip r:embed="rId1"/>
          <a:stretch/>
        </p:blipFill>
        <p:spPr>
          <a:xfrm>
            <a:off x="971640" y="549360"/>
            <a:ext cx="7200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1476360" y="5589720"/>
            <a:ext cx="58435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吉林大学毕业实习生跳楼身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沉痛回顾大学生自杀事件(图)"/>
          <p:cNvPicPr/>
          <p:nvPr/>
        </p:nvPicPr>
        <p:blipFill>
          <a:blip r:embed="rId1"/>
          <a:stretch/>
        </p:blipFill>
        <p:spPr>
          <a:xfrm>
            <a:off x="611280" y="333360"/>
            <a:ext cx="7848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000" y="5661000"/>
            <a:ext cx="8351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广州大学一年级的一名学生因饭菜不合口而从七楼跳楼身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沉痛回顾大学生自杀事件(图)"/>
          <p:cNvPicPr/>
          <p:nvPr/>
        </p:nvPicPr>
        <p:blipFill>
          <a:blip r:embed="rId1"/>
          <a:stretch/>
        </p:blipFill>
        <p:spPr>
          <a:xfrm>
            <a:off x="684360" y="260280"/>
            <a:ext cx="78008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1332000" y="6149520"/>
            <a:ext cx="63468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兰州某高校学生在宾馆割腕自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沉痛回顾大学生自杀事件(图)"/>
          <p:cNvPicPr/>
          <p:nvPr/>
        </p:nvPicPr>
        <p:blipFill>
          <a:blip r:embed="rId1"/>
          <a:stretch/>
        </p:blipFill>
        <p:spPr>
          <a:xfrm>
            <a:off x="971640" y="476280"/>
            <a:ext cx="72244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沉痛回顾大学生自杀事件(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14400" y="6165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广州一女大学生因减肥失败而服药自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763280" y="5805360"/>
            <a:ext cx="48243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重庆大学一女生自杀现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沉痛回顾大学生自杀事件(图)"/>
          <p:cNvPicPr/>
          <p:nvPr/>
        </p:nvPicPr>
        <p:blipFill>
          <a:blip r:embed="rId1"/>
          <a:stretch/>
        </p:blipFill>
        <p:spPr>
          <a:xfrm>
            <a:off x="755640" y="260280"/>
            <a:ext cx="752472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沉痛回顾大学生自杀事件(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在北大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33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号宿舍楼，一男生从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楼宿舍的阳台上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　　　　　　　　坠至水泥地面，因抢救无效，而身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九月十九号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左右，北京交通大学一名研究生从学生公寓宿舍楼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层跳下，当场死亡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当在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座公寓对面工作的杨先生讲，当时他正在办公室，一抬头正好看见这名学生从楼上跳下。“我还以为自己眼睛花了，几分钟后保安就封锁了现场。”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在该公寓物业工作的一位女士称，跳楼的学生姓郑，机电学院研三学生，住在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1507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，事发后学校和警方来物业查过资料。记者来到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1507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，看到宿舍门紧锁。一些学生介绍，宿舍里的其他学生都被叫走调查了。该学生家境不是很好。除此之外学生和老师都不愿多说什么。目前大钟寺派出所正就此事进行调查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看到这样的新闻总是免不了又要一翻深思。当大学生自杀率越来越高。甚至不止是大学生。我们的学生越来越脆弱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729800" y="6662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知识回顾：活动教育、尊重的教育的概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13744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关注社会，珍爱生命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Arial"/>
                <a:ea typeface="楷体_GB2312"/>
              </a:rPr>
              <a:t>人最宝贵的是生命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Arial"/>
                <a:ea typeface="楷体_GB2312"/>
              </a:rPr>
              <a:t>每个生命都有活着的权利，每个生命都是美丽的，都是有光彩的！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5:47:2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57:18Z</dcterms:modified>
  <cp:revision>16</cp:revision>
  <dc:subject>主题班会课件(分28大类): http://shop62905894.taobao.com</dc:subject>
  <dc:title>主题班会课件(分28大类): http://shop62905894.taobao.com</dc:title>
</cp:coreProperties>
</file>