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D3B-45D3-4615-B0FF-118FFFFC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33C-0201-4C45-AEAA-96B79F77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4EB-010A-4500-9E57-9F0B0411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2EF-1226-4990-9664-E83DDBC6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DB1-D3BB-40FB-B7A3-5D2E3137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13F-5317-4FFB-857E-9FD85619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37F-0540-4EEE-8A35-AC280523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B321-0921-49BB-AA3F-32E3F2F9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C40-5E6A-4500-A105-33E27AE1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255-5F1B-4E12-BC56-F614C71E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3B32-438E-4954-92D5-A8952E35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BE2-08CA-4A4B-80F6-E7C585FC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FC17-733B-432C-92EB-DF31094BC0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775280" cy="5645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71640" y="2565360"/>
            <a:ext cx="7056360" cy="24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8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生命，在你手中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24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684360" y="62064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何保证游泳的健康和安全，避免溺水事件的发生？对水情不熟而贸然下水，极易造成生命危险。万一不幸遇上了溺水事件，溺水者切莫慌张，应保持镇静，积极自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于手脚抽筋者，若是手指抽筋，则可将手握拳，然后用力张开，迅速反复多做几次，直到抽筋消除为止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若是小腿或脚趾抽筋，先吸一口气仰浮水上，用抽筋肢体对侧的手握住抽筋肢体的脚趾，并用力向身体方向拉，同时用同侧的手掌压在抽筋肢体的膝盖上，帮助抽筋腿伸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要是大腿抽筋的话，可同样采用拉长抽筋肌肉的办法解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900000" y="83664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溺水者，除了积极自救外，还要积极进行陆上抢救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若溺者口鼻中有淤泥、杂草和呕吐物，首先应清除，保持上呼吸道的通畅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溺者若已喝了大量的水，救护者可一腿跪着，另一腿屈膝，将溺者腹部放在屈膝的大腿上，一手扶着溺者的头，将他的嘴向下，另一手压在背部，使水排出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684360" y="90792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若是溺者已昏迷，呼吸很弱或停止呼吸，做完上述处理外，要进行人工呼吸。可使溺者仰卧，救护者在身旁用一手捏住溺者的鼻子，另一手托着他的下颚，吸一口气，然后用嘴对着溺者的嘴将气吹入。吹完一口气后，离开溺者的嘴，同时松开捏鼻子的手，并用手压一下溺者的胸部，帮助他呼气。如此有规律地反复进行，每分钟约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4—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，开始时可稍慢，以后可适当加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826920" y="2775600"/>
            <a:ext cx="756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学们，珍爱我们的生命吧。当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珍爱生命就是珍惜每一天。请同学说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珍惜每天？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命的全部意义在于无穷地探索尚未知道的东西，在无穷的探索里，你会看到光辉、灿烂的前景。祝愿大家今天好，明天会更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sp>
        <p:nvSpPr>
          <p:cNvPr id="81" name=""/>
          <p:cNvSpPr txBox="1"/>
          <p:nvPr/>
        </p:nvSpPr>
        <p:spPr>
          <a:xfrm>
            <a:off x="1547640" y="765000"/>
            <a:ext cx="4248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安全无小事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42920" y="2060640"/>
            <a:ext cx="7274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ff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为了生命安全，时时处处要当心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ffff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3789360"/>
            <a:ext cx="691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隶书"/>
              </a:rPr>
              <a:t>愿我们大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隶书"/>
              </a:rPr>
              <a:t>          </a:t>
            </a:r>
            <a:r>
              <a:rPr b="0" lang="zh-CN" sz="4400" spc="-1" strike="noStrike">
                <a:solidFill>
                  <a:srgbClr val="ff0000"/>
                </a:solidFill>
                <a:latin typeface="Verdana"/>
                <a:ea typeface="隶书"/>
              </a:rPr>
              <a:t>健康、平安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900000" y="692280"/>
            <a:ext cx="7775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二十世纪七十年代末起，西方发达国家儿童死亡排序中，意外死亡就一直居于首位。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9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世界卫生组织发布报告：世界大多数国家中，意外伤害是青少年致伤、致残的主要原因。目前，我国也进入了校园安全事故的多发期。据教育部透露，全国中小学生每年因意外伤害受伤或死亡的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余人。各地校园伤害事例的不断发生，已引起社会各界对校园安全的普遍关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7921440" cy="5616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5867280" y="692280"/>
            <a:ext cx="215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游泳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graphicFrame>
        <p:nvGraphicFramePr>
          <p:cNvPr id="54" name=""/>
          <p:cNvGraphicFramePr/>
          <p:nvPr/>
        </p:nvGraphicFramePr>
        <p:xfrm>
          <a:off x="684360" y="549360"/>
          <a:ext cx="7343640" cy="5472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549360"/>
                    <a:ext cx="734364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graphicFrame>
        <p:nvGraphicFramePr>
          <p:cNvPr id="58" name=""/>
          <p:cNvGraphicFramePr/>
          <p:nvPr/>
        </p:nvGraphicFramePr>
        <p:xfrm>
          <a:off x="684360" y="692280"/>
          <a:ext cx="7777080" cy="5473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692280"/>
                    <a:ext cx="777708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775280" cy="5545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34290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安全教育对学生个人、家庭、学校、社会等各方面会产生什么影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17002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为什么要进行安全教育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775280" cy="547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6920" y="2870280"/>
            <a:ext cx="749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，应该珍爱生命。今天这节课我们就来学习珍爱我们的生命——防溺水教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84360" y="176796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炎热的夏季，许多人喜欢游泳，因为缺少游泳常识而溺水死亡者时有发生。据有些地区统计，溺水死亡率为意外死亡总数的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%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因此，我们外出游泳洗澡严格遵守“四不”：未经家长老师同意不去；没有会游泳的成年人陪同不去；深水的地方不去；不熟悉的江溪池塘不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755640" y="162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溺水原因主要有以下几种：不会游泳；游泳时间过长，疲劳过度；在水中突发病尤其是心脏病；盲目游入深水漩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您的教学资源库【www.ShuLiHua.net】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0:55:4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56:42Z</dcterms:modified>
  <cp:revision>21</cp:revision>
  <dc:subject>主题班会课件(分28大类): http://shop62905894.taobao.com</dc:subject>
  <dc:title>主题班会课件(分28大类): http://shop62905894.taobao.com</dc:title>
</cp:coreProperties>
</file>