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13.wmf" ContentType="image/x-wmf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jpeg" ContentType="image/jpeg"/>
  <Override PartName="/ppt/media/image15.wmf" ContentType="image/x-wmf"/>
  <Override PartName="/ppt/media/image20.png" ContentType="image/png"/>
  <Override PartName="/ppt/media/image1.wmf" ContentType="image/x-wmf"/>
  <Override PartName="/ppt/media/image19.wmf" ContentType="image/x-wmf"/>
  <Override PartName="/ppt/media/image18.jpeg" ContentType="image/jpeg"/>
  <Override PartName="/ppt/media/image16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A0D-ECFF-406B-91C0-FD135EF3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C35-36E2-4338-ACF4-C3632E7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8B3-8F04-42B0-B3FC-382D174F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48B4-81D4-4734-96FE-261C9A72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30C-012F-472D-9C4D-1997FD4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11B-C2A4-4217-9121-9442334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BF3D-5D7A-4E84-B1C4-A8213F76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B73E-0CFB-4A49-95B9-858AE7E5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5A0C-0062-48A2-B8D3-2D443D33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5EB-E7F1-4A73-8D85-575A78B0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BE8-2F1C-4E2F-B9D2-FAD5FF9E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A73-7F33-4A4D-A2D2-AF9E393A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4277-330D-45E8-A0EA-A98BA56678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304920"/>
          <a:ext cx="9144000" cy="7162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4920"/>
                    <a:ext cx="91440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0"/>
          <a:ext cx="929628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96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22096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怎样才能做到防患于未然？同学们有什么建议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69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1447920"/>
            <a:ext cx="856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Times New Roman"/>
                <a:ea typeface="华文彩云"/>
              </a:rPr>
              <a:t>你了解自己的心里健康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0"/>
          <a:ext cx="952488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524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301920"/>
            <a:ext cx="30621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43000" y="32767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安全教育对学生个人、家庭、学校、社会等各方面会产生什么影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8288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为什么要进行安全教育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2910960"/>
            <a:ext cx="741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有人从社会学角度分析马加爵反社会人格的形成，有人从心理学角度研究马加爵不健全性格的成因，有人从文化学角度推论“暴力文化”对马加爵的潜移默化。</a:t>
            </a:r>
            <a:r>
              <a:rPr b="0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　　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42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Verdana"/>
                <a:ea typeface="隶书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Verdana"/>
                <a:ea typeface="隶书"/>
              </a:rPr>
              <a:t>一句话便是几条性命，其背后蕴藏着令人悚然的心理危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4360" y="551592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马加爵是一个“思维理性，内心敏感” 的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马加爵杀人的动机是什么？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马加爵说：“有一次他们说我打牌时作弊，其实我根本没作弊，就和他们吵起来了……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从作案方式来看，他绝对是有一定时间进行准备，而且在作案过程当中的心理状态是相当稳定的，显然不是激情型的。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     “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起因是因为一次吵架，吵架以后，有件事情让我很意外，我把邵瑞杰（被害者之一）当成非常好的朋友，很真心的，这次吵架以后我发现，在他心中我完全不是那个样子，我就想了很多，觉得很绝望，然后就决定杀人了。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301680"/>
            <a:ext cx="749628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9900"/>
                </a:solidFill>
                <a:latin typeface="Times New Roman"/>
              </a:rPr>
              <a:t>“</a:t>
            </a:r>
            <a:r>
              <a:rPr b="1" lang="zh-CN" sz="5500" spc="-1" strike="noStrike">
                <a:solidFill>
                  <a:srgbClr val="ff9900"/>
                </a:solidFill>
                <a:latin typeface="Times New Roman"/>
              </a:rPr>
              <a:t>马加爵是怎样一个人？”</a:t>
            </a:r>
            <a:r>
              <a:rPr b="0" lang="zh-CN" sz="5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8920" y="1916280"/>
            <a:ext cx="64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聪明 —— 学习成绩优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有志向——科学家、生化研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听话、独立——自己挣钱上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孤独——没有太多朋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自卑——过于自尊、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712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人格障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00ff"/>
                </a:solidFill>
                <a:latin typeface="Times New Roman"/>
              </a:rPr>
              <a:t>           </a:t>
            </a:r>
            <a:r>
              <a:rPr b="1" lang="zh-CN" sz="1900" spc="-1" strike="noStrike">
                <a:solidFill>
                  <a:srgbClr val="6600ff"/>
                </a:solidFill>
                <a:latin typeface="Times New Roman"/>
              </a:rPr>
              <a:t>是指从童年或少年时期开始并持续终生的显著偏离常态的人格，它是由心理疾病而导致的。常常表现为怪僻、固执、不通人情、不易与人相处、以自己的恶作剧取乐，常给周围人带来痛苦或憎恶等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</a:rPr>
              <a:t>马加爵的人格是有缺陷的。现在我们有一种概念叫</a:t>
            </a:r>
            <a:r>
              <a:rPr b="1" lang="zh-CN" sz="1900" spc="-1" strike="noStrike">
                <a:solidFill>
                  <a:srgbClr val="ff0066"/>
                </a:solidFill>
                <a:latin typeface="Times New Roman"/>
              </a:rPr>
              <a:t>反社会人格，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</a:rPr>
              <a:t>什么叫反社会人格，就是对其他人和整个社会和集体的一种极度的不忠诚，他表面上表现在什么方面呢，麻木不仁，拒绝忠诚，自我至上，这些在他身上都有所体现，我们说现在根据他的同学的反映，他有的时候沉溺于武侠小说，或者是沉溺于一些光盘、黄色录像，我们再分析，有的时候，有的人说他在高中的时候就有离家出走的记录，在大学里，大家反映他也不是很合群，甚至说他有时候想表现一点幽默，好像也不很恰当。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际关系处理不好是导致心理障碍的主要原因之一，一般表现在那些具有攻击性、反抗性的学生中，他们由于性格上的不合群，而被学生不理解、排斥和冷落，久而久之，就会产生精神压力。人际交往一旦脱离纯粹学习环境，就变得复杂起来，许多人缺乏经验，得不到群体认可后就感到孤立无援。激烈竞争中培养起来的学生擅长单打独干，易于自我封闭，在恐惧失败的心理下，不敢与人交流合作以防止自我暴露和竞争力的丧失，于是就产生了心理障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692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一、学生良好的人际关系与人格形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二、生活经历与人格形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央视采访时问他：“小时候有过什么样的打算？”他的回答特别简单：“就是想当科学家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 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初中就在成绩一般的中班一跃成为全年级８个班的第一名，获得全国物理竞赛二等奖，到高中时沉湎于武侠小说，笔记中记满了关于自杀、凶杀、吸毒等字眼的内容；从写满了各种名人故事、重大新闻，以“人生多艰难，我要自尊，自重”到在房间的墙上贴着大大的“忍”字，再到信中表达“我虽然是大学生，我却绝不能与十哥相比……”、“很多人比我老练，让我很自卑……”，再到“心里很沉重，读书读到何年才是头…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—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什么样的人才是对社会有益的人？他不一定是教授、工程师，不一定是官员、企业家，也不一定是演员歌星、白领灰领。但他首先应该是诚实的人，善良的人，懂得尊重人、能够与人沟通的人。即使他的谋生手段是务农、打工、领救济金、甚至乞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马加爵这个案件也使我们看到，在社会转型期和人生的转折点，一定要调整好自己的心态，用积极的人生观去面对现实，应对挫折，这样才能实现自己的人生理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523880" y="2714760"/>
            <a:ext cx="62280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校园安全教育刻不容缓！</a:t>
            </a:r>
            <a:endParaRPr b="0" lang="en-US" sz="80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0"/>
          <a:ext cx="93726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45:1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9:07Z</dcterms:modified>
  <cp:revision>6</cp:revision>
  <dc:subject>主题班会课件(分28大类): http://shop62905894.taobao.com</dc:subject>
  <dc:title>主题班会课件(分28大类): http://shop62905894.taobao.com</dc:title>
</cp:coreProperties>
</file>