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0.png" ContentType="image/png"/>
  <Override PartName="/ppt/media/image7.jpeg" ContentType="image/jpeg"/>
  <Override PartName="/ppt/media/image28.png" ContentType="image/png"/>
  <Override PartName="/ppt/media/whoosh.wav" ContentType="audio/x-wav"/>
  <Override PartName="/ppt/media/image8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29.png" ContentType="image/png"/>
  <Override PartName="/ppt/media/image33.png" ContentType="image/png"/>
  <Override PartName="/ppt/media/image35.png" ContentType="image/png"/>
  <Override PartName="/ppt/media/image5.jpeg" ContentType="image/jpeg"/>
  <Override PartName="/ppt/media/camera.wav" ContentType="audio/x-wav"/>
  <Override PartName="/ppt/media/image36.png" ContentType="image/png"/>
  <Override PartName="/ppt/media/image9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6.jpeg" ContentType="image/jpeg"/>
  <Override PartName="/ppt/media/type.wav" ContentType="audio/x-wav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912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8091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91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8091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8091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8091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6BA7-68C5-471E-9EBC-D72AFE052A94}" type="slidenum">
              <a:rPr b="0" lang="zh-CN" sz="1200" spc="-1" strike="noStrike">
                <a:solidFill>
                  <a:srgbClr val="08091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这位同学，为了图过马路方便，跨越隔离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这位同学更是胆子大，穿行在车流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个小同学还不满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，就骑车上路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你们看，这几名同学背着书包在路上追逐打闹，不顾身后驶来的自行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96A-2D8C-45A0-AA1E-3BEF5627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66E1-25F1-4A3F-B68F-7DCC862F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277-2B45-43B1-B4F5-2A7E1204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FE5-EF30-4468-9F45-12056EB6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1434-2A6D-4B1E-A3C6-6DAFB15D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1BA4-E86D-4240-A264-C15CF713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6FA0-B81A-4FE5-BC3B-C2983B93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6E36-638B-4EE9-9AEF-C25A5C6C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45CF-00E8-43C0-8671-673DD7CE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2811-69E6-4DB7-B2B2-441F9E38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0BD3-8A1B-4CE2-B570-0889E853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E54-FD11-4300-94DF-08269AB1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7D50-FC6A-41A7-ACE6-FC8EDA9C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444A-4EC6-4EFE-B9EA-64B0C78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8329-36F5-40D4-BBB9-8BA019AC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B63D-07BE-490D-A1BF-846050DD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3C07-E625-4DC1-9283-664E6354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01A-3E34-4061-9F24-F7347E5B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F0B-F4F2-4785-A0AB-C8C8EB8F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BD55-041F-483E-AF1E-E6FF96E3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AE7-3DBD-444A-9F59-0E440530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B623-4915-4424-85A3-4901E856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942A-8CD9-4B28-9302-3A803EED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E8A-3E06-42C1-8181-6ED05234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8B8E-E157-4AA4-9ED9-CF5A595B37C0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E2B1-E6E1-47AA-833C-FD475852F39F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udou.com/programs/view/ti4UGrCBzY8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17jy.com/up_images_u/200612701040_6780.gif" TargetMode="Externa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oke.16dao.com/joke/19276.htm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pic.haosc.cn/Article/qtgs/2006-04-29/Article_11069.shtml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joke.16dao.com/joke/19237.htm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ahoma"/>
                <a:ea typeface="华文行楷"/>
              </a:rPr>
              <a:t>交通安全教育 主题班会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676520"/>
            <a:ext cx="2819520" cy="1904760"/>
          </a:xfrm>
          <a:prstGeom prst="flowChartMultidocumen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</a:rPr>
              <a:t>交通带来的繁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4191120"/>
            <a:ext cx="2819520" cy="1904760"/>
          </a:xfrm>
          <a:prstGeom prst="flowChartMultidocumen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</a:rPr>
              <a:t>安全警示录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038480"/>
            <a:ext cx="2819160" cy="1905120"/>
          </a:xfrm>
          <a:prstGeom prst="flowChartMultidocumen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酒后驾车公益广告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1676520"/>
            <a:ext cx="2819520" cy="1904760"/>
          </a:xfrm>
          <a:prstGeom prst="flowChartMultidocumen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</a:rPr>
              <a:t>检测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352680" y="1825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跨越隔离墩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91280" y="1052640"/>
            <a:ext cx="2376360" cy="1584360"/>
          </a:xfrm>
          <a:prstGeom prst="ellipse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352680" y="228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在汽车间穿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11640" y="1916280"/>
            <a:ext cx="144360" cy="1081080"/>
          </a:xfrm>
          <a:prstGeom prst="downArrow">
            <a:avLst>
              <a:gd name="adj1" fmla="val 50000"/>
              <a:gd name="adj2" fmla="val 1872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98240" y="290520"/>
            <a:ext cx="4178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不满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12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周岁骑自行车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839440" cy="5602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588000" y="3274920"/>
            <a:ext cx="2556000" cy="2592360"/>
          </a:xfrm>
          <a:prstGeom prst="wedgeEllipseCallout">
            <a:avLst>
              <a:gd name="adj1" fmla="val -107578"/>
              <a:gd name="adj2" fmla="val -58819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Arial"/>
                <a:ea typeface="隶书"/>
              </a:rPr>
              <a:t>你年满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12</a:t>
            </a:r>
            <a:r>
              <a:rPr b="0" lang="zh-CN" sz="2400" spc="-1" strike="noStrike">
                <a:solidFill>
                  <a:srgbClr val="40458c"/>
                </a:solidFill>
                <a:latin typeface="Arial"/>
                <a:ea typeface="隶书"/>
              </a:rPr>
              <a:t>周岁了吗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a1e23"/>
                </a:solidFill>
                <a:latin typeface="Arial"/>
                <a:ea typeface="方正姚体"/>
              </a:rPr>
              <a:t>？</a:t>
            </a:r>
            <a:endParaRPr b="0" lang="en-US" sz="7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31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交警提倡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0"/>
            <a:ext cx="6095880" cy="57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骑自行车九不准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一、不在机动车道内骑自行车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二、自行车不逆向行驶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三、骑自行车是不带人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四、骑自行车不闯红灯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五、骑自行车不撑伞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六、骑自行车不攀扶其它车辆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七、骑自行车不双手离把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八、未满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周岁不骑车上路</a:t>
            </a: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Times New Roman"/>
              </a:rPr>
              <a:t>九、骑自行车不突然强行猛拐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-152280" y="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2050920" y="189000"/>
            <a:ext cx="40323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事故案例列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0666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一、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2006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年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04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月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25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日，阴，邓某驾驶未上牌的二轮摩托车，由余杭区城西小学驶向小林村，当日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15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时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15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分许，途径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320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国道余杭区临平街道小林村路段时，在由西向东行驶过程中与前方行驶的金某驾驶的浙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A99310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号大中型拖拉机发生碰撞，造成邓某受伤、摩托车上乘员小学生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80912"/>
                </a:solidFill>
                <a:latin typeface="Tahoma"/>
              </a:rPr>
              <a:t>人死亡，两车不同程度毁坏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30481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4038480"/>
            <a:ext cx="549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3297240"/>
            <a:ext cx="7619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案例分析：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、邓某无证驾驶无牌摩托车，在驾驶过程中未戴安全帽，在行驶中未能做到与前车保持安全车距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、金某驾驶超载的机动车在行驶中未能做到文明驾驶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660066"/>
                </a:solidFill>
                <a:latin typeface="Tahoma"/>
              </a:rPr>
              <a:t>、小学生乘坐摩托车未戴安全帽。由于未戴头盔，车辆发生交通事故时，乘坐人员头部不能有效的保护，致使小学生摔倒在地，头部着地死亡。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ahoma"/>
                <a:ea typeface="华文行楷"/>
              </a:rPr>
              <a:t>酒后驾车</a:t>
            </a:r>
            <a:r>
              <a:rPr b="0" lang="zh-CN" sz="5400" spc="-1" strike="noStrike" u="sng">
                <a:solidFill>
                  <a:srgbClr val="6f89f7"/>
                </a:solidFill>
                <a:uFillTx/>
                <a:latin typeface="Tahoma"/>
                <a:ea typeface="华文行楷"/>
              </a:rPr>
              <a:t>交通安全教育 主题班会</a:t>
            </a:r>
            <a:r>
              <a:rPr b="1" i="1" lang="zh-CN" sz="5400" spc="-1" strike="noStrike">
                <a:solidFill>
                  <a:srgbClr val="ff0000"/>
                </a:solidFill>
                <a:latin typeface="Tahoma"/>
                <a:ea typeface="华文行楷"/>
              </a:rPr>
              <a:t>案例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ahoma"/>
              </a:rPr>
              <a:t>　　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月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日凌晨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点左右，一辆丰田轿车在曙光路友谊新村门口附近，撞了一位在机动车道上的行人，行人送医院抢救无效死亡。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　　事故发生时，肇事司机刘某从东坡路附近一家酒吧开车出来，经曙光路回家，受害人孙某，在杭州当歌手。事故发生时，他正在从歌厅回友谊新村租房的路上。车祸中，肇事司机和受害人都是年轻人，一个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23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岁，一个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26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岁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学骑自行车可以选择哪种场地练习。</a:t>
            </a: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(    )</a:t>
            </a: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、校园内的操场上 </a:t>
            </a: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、行人稀少的平地上 </a:t>
            </a: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CN" sz="6600" spc="-1" strike="noStrike">
                <a:solidFill>
                  <a:srgbClr val="000000"/>
                </a:solidFill>
                <a:latin typeface="Tahoma"/>
              </a:rPr>
              <a:t>、有坡度的路段</a:t>
            </a:r>
            <a:br>
              <a:rPr sz="6600"/>
            </a:br>
            <a:endParaRPr b="0" lang="en-US" sz="6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6095880" y="11430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1295280" y="228600"/>
          <a:ext cx="65833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"/>
                    <a:ext cx="6583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685800" y="54864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禁止非机动车通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0" y="6286680"/>
            <a:ext cx="3809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0" y="0"/>
          <a:ext cx="6858000" cy="67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67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7332840" y="457200"/>
            <a:ext cx="1277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禁止骑自行车下坡通行标志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990720" y="304920"/>
          <a:ext cx="71625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1625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1676520" y="5867280"/>
            <a:ext cx="62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禁止行人通过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286000" y="5335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珍惜生命的名人名言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221" name=""/>
          <p:cNvSpPr/>
          <p:nvPr/>
        </p:nvSpPr>
        <p:spPr>
          <a:xfrm>
            <a:off x="3701880" y="2514600"/>
            <a:ext cx="15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生命在闪耀中现出绚烂，在平凡中现出真实。 ——伯 克 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02400" y="1523880"/>
            <a:ext cx="16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寿命的缩短与思想的虚耗成正比。 ——达尔文 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58680" y="3505320"/>
            <a:ext cx="20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生命不可能有两次，但许多人连一次也不善于度过。 ——吕凯特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54080" y="441972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如能善于利用，生命乃悠长。 ——塞涅卡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5029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人生应该如蜡烛一样，从顶燃到底，一直都是光明的。 ——萧楚女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0"/>
          <a:ext cx="6248520" cy="686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248520" cy="68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7439760" y="914400"/>
            <a:ext cx="10947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黑体"/>
              </a:rPr>
              <a:t>禁 止 拐 弯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912"/>
                </a:solidFill>
                <a:latin typeface="Tahoma"/>
              </a:rPr>
              <a:t>机动车驾驶员严禁酒后驾车，交警常用装有重铬酸钾（</a:t>
            </a:r>
            <a:r>
              <a:rPr b="0" lang="zh-CN" sz="3600" spc="-1" strike="noStrike">
                <a:solidFill>
                  <a:srgbClr val="080912"/>
                </a:solidFill>
                <a:latin typeface="Tahoma"/>
              </a:rPr>
              <a:t>K</a:t>
            </a:r>
            <a:r>
              <a:rPr b="0" lang="zh-CN" sz="2000" spc="-1" strike="noStrike">
                <a:solidFill>
                  <a:srgbClr val="080912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80912"/>
                </a:solidFill>
                <a:latin typeface="Tahoma"/>
              </a:rPr>
              <a:t>Cr</a:t>
            </a:r>
            <a:r>
              <a:rPr b="0" lang="zh-CN" sz="2000" spc="-1" strike="noStrike">
                <a:solidFill>
                  <a:srgbClr val="080912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80912"/>
                </a:solidFill>
                <a:latin typeface="Tahoma"/>
              </a:rPr>
              <a:t>O</a:t>
            </a:r>
            <a:r>
              <a:rPr b="0" lang="zh-CN" sz="2000" spc="-1" strike="noStrike">
                <a:solidFill>
                  <a:srgbClr val="080912"/>
                </a:solidFill>
                <a:latin typeface="Tahoma"/>
              </a:rPr>
              <a:t>7</a:t>
            </a:r>
            <a:r>
              <a:rPr b="0" lang="zh-CN" sz="3600" spc="-1" strike="noStrike">
                <a:solidFill>
                  <a:srgbClr val="080912"/>
                </a:solidFill>
                <a:latin typeface="Tahoma"/>
              </a:rPr>
              <a:t>）的仪器检测司机是否酒后驾车，因为酒中的乙醇分子可以使橙红色重铬酸钾变为绿色硫酸铬，重铬酸钾中（ </a:t>
            </a:r>
            <a:r>
              <a:rPr b="0" lang="zh-CN" sz="3600" spc="-1" strike="noStrike">
                <a:solidFill>
                  <a:srgbClr val="080912"/>
                </a:solidFill>
                <a:latin typeface="Tahoma"/>
              </a:rPr>
              <a:t>K</a:t>
            </a:r>
            <a:r>
              <a:rPr b="0" lang="zh-CN" sz="2000" spc="-1" strike="noStrike">
                <a:solidFill>
                  <a:srgbClr val="080912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80912"/>
                </a:solidFill>
                <a:latin typeface="Tahoma"/>
              </a:rPr>
              <a:t>Cr</a:t>
            </a:r>
            <a:r>
              <a:rPr b="0" lang="zh-CN" sz="2000" spc="-1" strike="noStrike">
                <a:solidFill>
                  <a:srgbClr val="080912"/>
                </a:solidFill>
                <a:latin typeface="Tahoma"/>
              </a:rPr>
              <a:t>2</a:t>
            </a:r>
            <a:r>
              <a:rPr b="0" lang="zh-CN" sz="3600" spc="-1" strike="noStrike">
                <a:solidFill>
                  <a:srgbClr val="080912"/>
                </a:solidFill>
                <a:latin typeface="Tahoma"/>
              </a:rPr>
              <a:t>O</a:t>
            </a:r>
            <a:r>
              <a:rPr b="0" lang="zh-CN" sz="2000" spc="-1" strike="noStrike">
                <a:solidFill>
                  <a:srgbClr val="080912"/>
                </a:solidFill>
                <a:latin typeface="Tahoma"/>
              </a:rPr>
              <a:t>7</a:t>
            </a:r>
            <a:r>
              <a:rPr b="0" lang="zh-CN" sz="3600" spc="-1" strike="noStrike">
                <a:solidFill>
                  <a:srgbClr val="080912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080912"/>
                </a:solidFill>
                <a:latin typeface="Tahoma"/>
              </a:rPr>
              <a:t>）铬元素的化合价是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912"/>
                </a:solidFill>
                <a:latin typeface="Tahoma"/>
              </a:rPr>
              <a:t>A.+3        B+4     C +5     D+6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4267080" y="3352680"/>
            <a:ext cx="10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( D )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0" y="0"/>
          <a:ext cx="6342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342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6572160" y="533520"/>
            <a:ext cx="1521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黑体"/>
              </a:rPr>
              <a:t>人行地下通道标志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1295280" y="304920"/>
          <a:ext cx="7010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7010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1371600" y="54864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靠右侧道路行驶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乘车要选择（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驾驶员驾龄长的有证书  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超载车 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人货混装车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304920" y="0"/>
          <a:ext cx="52578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52578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6038640" y="457200"/>
            <a:ext cx="152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紧 急 电 话 标 志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990720" y="1447920"/>
            <a:ext cx="70102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交通指挥人员持立正姿势，体侧迎向来车，左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或右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臂向左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或右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平伸，手掌向前，五指并拢。这是</a:t>
            </a:r>
            <a:r>
              <a:rPr b="0" lang="zh-CN" sz="3200" spc="-1" strike="noStrike" u="sng">
                <a:solidFill>
                  <a:srgbClr val="1b1b1b"/>
                </a:solidFill>
                <a:uFillTx/>
                <a:latin typeface="Times New Roman"/>
              </a:rPr>
              <a:t>　　　　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(      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．手势指挥放行信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．手势指挥加速信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．手势指挥停止信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2895480"/>
            <a:ext cx="6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e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371600" y="228600"/>
          <a:ext cx="68580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"/>
                    <a:ext cx="6858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1600200" y="52578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注 意 儿 童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52280" y="304920"/>
            <a:ext cx="876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、铁路道口的信号灯，当红灯熄灭白灯亮时，表示火车接近道口，禁止车辆、行人通行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、行人、车辆在通过无人看守路口时应“一停二看三通过”，双向了望，确认安全后再通过。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2133720"/>
            <a:ext cx="927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e"/>
                </a:solidFill>
                <a:latin typeface="宋体"/>
              </a:rPr>
              <a:t>× </a:t>
            </a:r>
            <a:r>
              <a:rPr b="0" lang="zh-CN" sz="3600" spc="-1" strike="noStrike">
                <a:solidFill>
                  <a:srgbClr val="00009e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9e"/>
                </a:solidFill>
                <a:latin typeface="宋体"/>
              </a:rPr>
              <a:t>表示道口开通，准许车辆、行人通过</a:t>
            </a:r>
            <a:r>
              <a:rPr b="0" lang="zh-CN" sz="3600" spc="-1" strike="noStrike">
                <a:solidFill>
                  <a:srgbClr val="00009e"/>
                </a:solidFill>
                <a:latin typeface="Times New Roman"/>
              </a:rPr>
              <a:t>)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4495680"/>
            <a:ext cx="8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e"/>
                </a:solidFill>
                <a:latin typeface="宋体"/>
              </a:rPr>
              <a:t>√</a:t>
            </a:r>
            <a:r>
              <a:rPr b="0" lang="zh-CN" sz="4000" spc="-1" strike="noStrike">
                <a:solidFill>
                  <a:srgbClr val="00009e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1295280" y="304920"/>
          <a:ext cx="65833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6583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1752480" y="55627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会   车     让   行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41878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1295280" y="609480"/>
          <a:ext cx="65534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09480"/>
                    <a:ext cx="6553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1447920" y="5715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禁止驶入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1447920" y="228600"/>
          <a:ext cx="658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"/>
                    <a:ext cx="658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2057400" y="49528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禁止右转弯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295280" y="685800"/>
          <a:ext cx="70106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70106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1676520" y="57913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禁止鸣喇叭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19320" y="533520"/>
          <a:ext cx="693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33520"/>
                    <a:ext cx="693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1676520" y="59436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人行横道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1295280" y="304920"/>
          <a:ext cx="658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658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1752480" y="49528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铁  道 路 口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1371600" y="380880"/>
          <a:ext cx="65833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880"/>
                    <a:ext cx="6583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1447920" y="518148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注  意  危  险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1447920" y="685800"/>
          <a:ext cx="65833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85800"/>
                    <a:ext cx="65833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1828800" y="58672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注 意 信 号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838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实习司机小毛驾驶着后车厢装满危险化学品的大货车回厂，为着急回家，小毛驶入了附近的一条高速公路，他看到最左边第三条超车道没什么车，于是就一踩油门，以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120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公里的时速在超车道高速行驶。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1b1b1b"/>
                </a:solidFill>
                <a:latin typeface="Times New Roman"/>
              </a:rPr>
              <a:t>分钟后，小毛发现油表显示没油了，于是，小毛把车停在了最右边的车道上，下了车，从后车厢拿出随车携带装满汽油的油桶，给车加满油继续上路，不一会，小毛出了高速公路。就要到家了，小毛心情愉快，点上一支烟叼在嘴上，顺手拿出手提电话给厂长拨通电话：“厂长，我就要到了。”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宋体"/>
              </a:rPr>
              <a:t>问：小毛都有哪些交通违规行为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b2b2b2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2b2b2"/>
                </a:solidFill>
                <a:latin typeface="Times New Roman"/>
              </a:rPr>
              <a:t>三</a:t>
            </a:r>
            <a:r>
              <a:rPr b="1" lang="zh-CN" sz="4000" spc="-1" strike="noStrike">
                <a:solidFill>
                  <a:srgbClr val="b2b2b2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b2b2b2"/>
                </a:solidFill>
                <a:latin typeface="Times New Roman"/>
              </a:rPr>
              <a:t>案例题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90080" y="533520"/>
            <a:ext cx="40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2)</a:t>
            </a: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实习司机不许驾车走高速公路；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33800" y="1066680"/>
            <a:ext cx="476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3)</a:t>
            </a: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高速公路大型货车只许在第三条车驶；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52800" y="1676520"/>
            <a:ext cx="45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4)</a:t>
            </a: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高速公路上不允许长期占用超车道；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71440" y="2286000"/>
            <a:ext cx="42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5)</a:t>
            </a: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小毛违反高速公路最高限速规定；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58880" y="2895480"/>
            <a:ext cx="57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6)</a:t>
            </a: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高速公路停车应停在紧急停车带或右侧路肩上；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505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7)</a:t>
            </a: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高速公路上因故障停车必须在车后</a:t>
            </a: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米处放明显标志；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15160" y="4572000"/>
            <a:ext cx="50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8)</a:t>
            </a: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易燃品汽油不能与危险化学品同时装载；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2280" y="510552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9)</a:t>
            </a:r>
            <a:r>
              <a:rPr b="0" lang="zh-CN" sz="3200" spc="-1" strike="noStrike">
                <a:solidFill>
                  <a:srgbClr val="00009e"/>
                </a:solidFill>
                <a:latin typeface="宋体"/>
              </a:rPr>
              <a:t>开车时禁止吸烟；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640" y="5638680"/>
            <a:ext cx="35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10)</a:t>
            </a:r>
            <a:r>
              <a:rPr b="0" lang="zh-CN" sz="3200" spc="-1" strike="noStrike">
                <a:solidFill>
                  <a:srgbClr val="00009e"/>
                </a:solidFill>
                <a:latin typeface="宋体"/>
              </a:rPr>
              <a:t>开车时禁止打手提电话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15160" y="0"/>
            <a:ext cx="50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00009e"/>
                </a:solidFill>
                <a:latin typeface="Times New Roman"/>
              </a:rPr>
              <a:t>实习司机不许驾驶装载危险物品的机车；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096920"/>
            <a:ext cx="7010280" cy="57610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447920" y="228600"/>
            <a:ext cx="3047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交通标志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7391520" y="55627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476760" cy="4842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80010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13495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4" y="10800"/>
                </a:lnTo>
                <a:lnTo>
                  <a:pt x="18804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2" y="10800"/>
                </a:lnTo>
                <a:close/>
              </a:path>
              <a:path fill="darkenLess" w="26990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0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4" y="17989"/>
                </a:lnTo>
                <a:lnTo>
                  <a:pt x="18804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609480" y="1600200"/>
          <a:ext cx="5791320" cy="3282840"/>
        </p:xfrm>
        <a:graphic>
          <a:graphicData uri="http://schemas.openxmlformats.org/drawingml/2006/table">
            <a:tbl>
              <a:tblPr/>
              <a:tblGrid>
                <a:gridCol w="1158840"/>
                <a:gridCol w="1157400"/>
                <a:gridCol w="1158840"/>
                <a:gridCol w="1157400"/>
                <a:gridCol w="1158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交通死亡人数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20.43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4  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770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66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汽车保有量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4400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2.36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亿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7000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4800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死亡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46.43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人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/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1.7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人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1.1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人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1.37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人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中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美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日本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德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4aae"/>
                </a:solidFill>
                <a:latin typeface="Tahoma"/>
                <a:ea typeface="华文行楷"/>
              </a:rPr>
              <a:t>2005</a:t>
            </a:r>
            <a:r>
              <a:rPr b="1" i="1" lang="zh-CN" sz="3600" spc="-1" strike="noStrike">
                <a:solidFill>
                  <a:srgbClr val="004aae"/>
                </a:solidFill>
                <a:latin typeface="Tahoma"/>
                <a:ea typeface="华文行楷"/>
              </a:rPr>
              <a:t>汽车大国交通死亡人数对比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5029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,arial"/>
              </a:rPr>
              <a:t>　　中国“万车死亡率”，是发达国家的几十倍，中国的机动车辆相比较而言，看起来更加危险……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,arial"/>
              </a:rPr>
              <a:t>　　交通事故已超过战争，成仅次于疾病的人类生命的杀手，并给成千上万个家庭带来难以愈合的创伤……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477120" y="1600200"/>
            <a:ext cx="2286000" cy="274320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13495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4" y="10800"/>
                </a:lnTo>
                <a:lnTo>
                  <a:pt x="18804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2" y="10800"/>
                </a:lnTo>
                <a:close/>
              </a:path>
              <a:path fill="darkenLess" w="26990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0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4" y="17989"/>
                </a:lnTo>
                <a:lnTo>
                  <a:pt x="18804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403280" y="189000"/>
            <a:ext cx="75628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日前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经公安交通管理部门专家分析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虽然当前我区的交通安全形势总的趋势有所好转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但仍然十分严峻。据统计，今年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1~8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月份，我区共发生道路交通事故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ahoma"/>
              </a:rPr>
              <a:t>11614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起，死亡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ahoma"/>
              </a:rPr>
              <a:t>99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人，受伤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ahoma"/>
              </a:rPr>
              <a:t>1513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人，直接经济损失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ahoma"/>
              </a:rPr>
              <a:t>3181000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元，涉及学生事故共有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ahoma"/>
              </a:rPr>
              <a:t>7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起，造成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ahoma"/>
              </a:rPr>
              <a:t>1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人死亡，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ahoma"/>
              </a:rPr>
              <a:t>7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人受伤。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综观全国形势，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2005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年全国中小学生共死亡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ahoma"/>
              </a:rPr>
              <a:t>4205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人，平均每天死亡就有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ahoma"/>
              </a:rPr>
              <a:t>12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人，就是每三四天，全国就有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ahoma"/>
              </a:rPr>
              <a:t>1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ahoma"/>
              </a:rPr>
              <a:t>个班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的孩子消失了！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348000" y="4437000"/>
            <a:ext cx="4969080" cy="2421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 rot="5400000">
            <a:off x="-1076040" y="1803240"/>
            <a:ext cx="387828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你知道吗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538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 rot="1167000">
            <a:off x="5219640" y="0"/>
            <a:ext cx="32450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事故如猛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40458c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932360" cy="3429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33360"/>
            <a:ext cx="3438720" cy="4824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990960"/>
            <a:ext cx="4968720" cy="2867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5651640" y="5084640"/>
            <a:ext cx="244764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快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971800" y="3049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马路上追逐打闹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06920" y="1916280"/>
            <a:ext cx="3097080" cy="15840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4:21:0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00:29Z</dcterms:modified>
  <cp:revision>5</cp:revision>
  <dc:subject>主题班会课件(分28大类): http://shop62905894.taobao.com</dc:subject>
  <dc:title>主题班会课件(分28大类): http://shop62905894.taobao.com</dc:title>
</cp:coreProperties>
</file>