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0.jpeg" ContentType="image/jpe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23.gif" ContentType="image/gif"/>
  <Override PartName="/ppt/media/image17.jpeg" ContentType="image/jpeg"/>
  <Override PartName="/ppt/media/image12.gif" ContentType="image/gif"/>
  <Override PartName="/ppt/media/image16.gif" ContentType="image/gif"/>
  <Override PartName="/ppt/media/image13.jpeg" ContentType="image/jpeg"/>
  <Override PartName="/ppt/media/image30.gif" ContentType="image/gif"/>
  <Override PartName="/ppt/media/image32.gif" ContentType="image/gif"/>
  <Override PartName="/ppt/media/image8.jpeg" ContentType="image/jpeg"/>
  <Override PartName="/ppt/media/image39.jpeg" ContentType="image/jpeg"/>
  <Override PartName="/ppt/media/image33.jpeg" ContentType="image/jpeg"/>
  <Override PartName="/ppt/media/image34.gif" ContentType="image/gif"/>
  <Override PartName="/ppt/media/image9.gif" ContentType="image/gif"/>
  <Override PartName="/ppt/media/image37.jpeg" ContentType="image/jpeg"/>
  <Override PartName="/ppt/media/image25.gif" ContentType="image/gif"/>
  <Override PartName="/ppt/media/image18.png" ContentType="image/png"/>
  <Override PartName="/ppt/media/image5.gif" ContentType="image/gif"/>
  <Override PartName="/ppt/media/image7.jpeg" ContentType="image/jpeg"/>
  <Override PartName="/ppt/media/image38.gif" ContentType="image/gif"/>
  <Override PartName="/ppt/media/image40.gif" ContentType="image/gif"/>
  <Override PartName="/ppt/media/image36.gif" ContentType="image/gif"/>
  <Override PartName="/ppt/media/image6.gif" ContentType="image/gif"/>
  <Override PartName="/ppt/media/image15.jpeg" ContentType="image/jpeg"/>
  <Override PartName="/ppt/media/image29.gif" ContentType="image/gif"/>
  <Override PartName="/ppt/media/image4.jpeg" ContentType="image/jpeg"/>
  <Override PartName="/ppt/media/image2.png" ContentType="image/png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31.jpeg" ContentType="image/jpeg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BB1-0A53-46D6-BB50-AF8410FF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4288-975D-4CBA-AB2F-595CE1CB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5DF-7C53-47E7-B000-295DFC4F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476-CB2C-41F3-A569-633B71A3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5BD-2C63-4ACC-8CA2-D3A0079A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1E1-C47A-44BC-8A38-3D6360D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88E-FF0D-4D3D-8BB7-7B99B339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026-55EE-4AB6-82EC-92340B3A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A58-54F7-4238-96DE-18D0AE8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20C-E709-4422-AFA3-AFCC0D3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5A4-25B8-484C-9A41-3151B521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EE4-78A5-4F34-BDA2-BA1086FB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9CF9-F363-4358-AA18-28FD6EBF75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3.gif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2.gif"/><Relationship Id="rId15" Type="http://schemas.openxmlformats.org/officeDocument/2006/relationships/image" Target="../media/image32.gif"/><Relationship Id="rId16" Type="http://schemas.openxmlformats.org/officeDocument/2006/relationships/image" Target="../media/image32.gif"/><Relationship Id="rId17" Type="http://schemas.openxmlformats.org/officeDocument/2006/relationships/image" Target="../media/image32.gif"/><Relationship Id="rId18" Type="http://schemas.openxmlformats.org/officeDocument/2006/relationships/image" Target="../media/image32.gif"/><Relationship Id="rId19" Type="http://schemas.openxmlformats.org/officeDocument/2006/relationships/image" Target="../media/image32.gif"/><Relationship Id="rId20" Type="http://schemas.openxmlformats.org/officeDocument/2006/relationships/image" Target="../media/image32.gif"/><Relationship Id="rId21" Type="http://schemas.openxmlformats.org/officeDocument/2006/relationships/image" Target="../media/image32.gif"/><Relationship Id="rId22" Type="http://schemas.openxmlformats.org/officeDocument/2006/relationships/image" Target="../media/image32.gif"/><Relationship Id="rId23" Type="http://schemas.openxmlformats.org/officeDocument/2006/relationships/image" Target="../media/image32.gif"/><Relationship Id="rId24" Type="http://schemas.openxmlformats.org/officeDocument/2006/relationships/image" Target="../media/image32.gif"/><Relationship Id="rId25" Type="http://schemas.openxmlformats.org/officeDocument/2006/relationships/image" Target="../media/image32.gif"/><Relationship Id="rId26" Type="http://schemas.openxmlformats.org/officeDocument/2006/relationships/image" Target="../media/image32.gif"/><Relationship Id="rId27" Type="http://schemas.openxmlformats.org/officeDocument/2006/relationships/image" Target="../media/image32.gif"/><Relationship Id="rId28" Type="http://schemas.openxmlformats.org/officeDocument/2006/relationships/image" Target="../media/image32.gif"/><Relationship Id="rId29" Type="http://schemas.openxmlformats.org/officeDocument/2006/relationships/image" Target="../media/image32.gif"/><Relationship Id="rId30" Type="http://schemas.openxmlformats.org/officeDocument/2006/relationships/image" Target="../media/image32.gif"/><Relationship Id="rId3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image" Target="../media/image36.gif"/><Relationship Id="rId10" Type="http://schemas.openxmlformats.org/officeDocument/2006/relationships/image" Target="../media/image36.gif"/><Relationship Id="rId11" Type="http://schemas.openxmlformats.org/officeDocument/2006/relationships/image" Target="../media/image36.gif"/><Relationship Id="rId12" Type="http://schemas.openxmlformats.org/officeDocument/2006/relationships/image" Target="../media/image36.gif"/><Relationship Id="rId13" Type="http://schemas.openxmlformats.org/officeDocument/2006/relationships/image" Target="../media/image36.gif"/><Relationship Id="rId14" Type="http://schemas.openxmlformats.org/officeDocument/2006/relationships/image" Target="../media/image36.gif"/><Relationship Id="rId15" Type="http://schemas.openxmlformats.org/officeDocument/2006/relationships/image" Target="../media/image36.gif"/><Relationship Id="rId16" Type="http://schemas.openxmlformats.org/officeDocument/2006/relationships/image" Target="../media/image36.gi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.gif"/><Relationship Id="rId3" Type="http://schemas.openxmlformats.org/officeDocument/2006/relationships/image" Target="../media/image38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80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1484280"/>
            <a:ext cx="6193080" cy="3141720"/>
          </a:xfrm>
          <a:prstGeom prst="rect">
            <a:avLst/>
          </a:prstGeom>
        </p:spPr>
        <p:txBody>
          <a:bodyPr wrap="none" lIns="90000" rIns="90000" tIns="46800" bIns="46800" anchor="t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听音乐故事：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天堂有没有车来车往</a:t>
            </a:r>
            <a:endParaRPr b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404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21000" y="1916280"/>
            <a:ext cx="45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11280" y="1413000"/>
            <a:ext cx="5113080" cy="297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801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安全知识要掌握：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8000"/>
                </a:solidFill>
                <a:latin typeface="楷体_GB2312"/>
              </a:rPr>
              <a:t>你记住哪些消防技能？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8000"/>
              </a:solidFill>
              <a:latin typeface="楷体_GB2312"/>
              <a:ea typeface="楷体_GB2312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1844640" cy="204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258920" y="2060640"/>
            <a:ext cx="576108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交流讨论，畅谈收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55640" y="692280"/>
            <a:ext cx="6840720" cy="554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1413000"/>
            <a:ext cx="87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中学生，上学校，走路要走人行道，过马路别乱     跑，十字路口看信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上下楼梯不拥挤，集体活动守纪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家用电器和煤气，使用要注意，阅读说明再开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发生火灾不要慌，快叫大人来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5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放学回家快快走，回家晚了爸妈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6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遇上骗子多琢磨，抓住机会赶快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7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人在家关好门，与人说话要谨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(8)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发现坏人来撬门，赶快拨打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1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49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牢记安全警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667080" cy="762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56000" y="62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659640" y="342900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971640" y="5373720"/>
            <a:ext cx="1441440" cy="88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556000" y="5373720"/>
            <a:ext cx="1441440" cy="88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5219640" y="5373720"/>
            <a:ext cx="1441440" cy="88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851280" y="5373720"/>
            <a:ext cx="1441440" cy="882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340000" y="243324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家长寄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907920"/>
            <a:ext cx="6192720" cy="4672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92360" y="2276640"/>
            <a:ext cx="4608720" cy="316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676520" y="1752480"/>
            <a:ext cx="49528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班主任赠言</a:t>
            </a:r>
            <a:endParaRPr b="0" lang="en-US" sz="4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156360" y="3209760"/>
            <a:ext cx="863640" cy="744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156360" y="371628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364000" y="443700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164360" y="328464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012000" y="465300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948360" y="558972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5651640" y="515772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6227640" y="436572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7451640" y="83664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8244000" y="458136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8101080" y="299736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2484360" y="63086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2771640" y="2827440"/>
            <a:ext cx="1224000" cy="1055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1476360" y="537372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84360" y="2060640"/>
            <a:ext cx="27612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1908000" y="16286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2771640" y="260280"/>
            <a:ext cx="1295640" cy="1381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>
            <a:off x="6948360" y="1268280"/>
            <a:ext cx="1295640" cy="13813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>
            <a:off x="755640" y="4869000"/>
            <a:ext cx="1295280" cy="1380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2"/>
          <a:stretch/>
        </p:blipFill>
        <p:spPr>
          <a:xfrm>
            <a:off x="3995640" y="4005360"/>
            <a:ext cx="863640" cy="744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3"/>
          <a:stretch/>
        </p:blipFill>
        <p:spPr>
          <a:xfrm>
            <a:off x="4356000" y="1628640"/>
            <a:ext cx="863640" cy="744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4"/>
          <a:stretch/>
        </p:blipFill>
        <p:spPr>
          <a:xfrm>
            <a:off x="826920" y="3716280"/>
            <a:ext cx="863640" cy="74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5"/>
          <a:stretch/>
        </p:blipFill>
        <p:spPr>
          <a:xfrm>
            <a:off x="7596360" y="4724280"/>
            <a:ext cx="86328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6"/>
          <a:stretch/>
        </p:blipFill>
        <p:spPr>
          <a:xfrm>
            <a:off x="6156360" y="5589720"/>
            <a:ext cx="863640" cy="74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7"/>
          <a:stretch/>
        </p:blipFill>
        <p:spPr>
          <a:xfrm>
            <a:off x="1187280" y="98100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8"/>
          <a:stretch/>
        </p:blipFill>
        <p:spPr>
          <a:xfrm>
            <a:off x="900000" y="2781360"/>
            <a:ext cx="276480" cy="237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9"/>
          <a:stretch/>
        </p:blipFill>
        <p:spPr>
          <a:xfrm>
            <a:off x="1619280" y="407664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0"/>
          <a:stretch/>
        </p:blipFill>
        <p:spPr>
          <a:xfrm>
            <a:off x="755640" y="4653000"/>
            <a:ext cx="276120" cy="2379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125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大量理论与事实证明：引发大量安全事故的大多数原因就是人们法律规则意识淡薄，存在侥幸心理，不认真遵守日常生活中各种规章制度。作为新世纪的希望，我们中学生要坚决树立起严格的规范意识，从小做起，从我做起，增强安全观念，做有使命感、对自己生命负责的一代新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5364360" cy="4824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71640" y="189000"/>
            <a:ext cx="71294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格言共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不以规矩，不能成方圆。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孟子》</a:t>
            </a:r>
            <a:r>
              <a:rPr b="1" lang="zh-CN" sz="24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世界上的一切都必须按照一定的规矩秩序各就各位。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莱蒙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圣王者不贵义而贵法，法必明，令必行，则已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韩非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说》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天下之事，不难于立法，而难于法之必行；不难于听言，而难于言之必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居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挣得了安适的睡眠，你就会睡得好；你挣得了很好的胃口，你吃饭就会吃得很香。这儿的情形和人间是一样的——你得规规矩矩，老老实实地挣一样东西，然后才能享受它。你决不能先享受，然后才来挣得。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吐温</a:t>
            </a:r>
            <a:r>
              <a:rPr b="1" lang="zh-CN" sz="2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92360" y="126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59280" y="27972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0" y="3789360"/>
            <a:ext cx="3095640" cy="2033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419640" y="4508640"/>
            <a:ext cx="952200" cy="952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443640" y="2708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175360" y="3500280"/>
            <a:ext cx="2565360" cy="1484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708360" y="3573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7183440" y="1413000"/>
            <a:ext cx="1960560" cy="2320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012000" y="57340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421164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971640" y="1484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5292720" y="19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5"/>
          <a:stretch/>
        </p:blipFill>
        <p:spPr>
          <a:xfrm>
            <a:off x="4959360" y="3816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6"/>
          <a:stretch/>
        </p:blipFill>
        <p:spPr>
          <a:xfrm>
            <a:off x="1619280" y="3333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8360" y="1268280"/>
            <a:ext cx="359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11280" y="0"/>
            <a:ext cx="7867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黑体"/>
              </a:rPr>
              <a:t>志愿者签名活动：</a:t>
            </a:r>
            <a:endParaRPr b="0" lang="en-US" sz="44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3366ff"/>
                </a:solidFill>
                <a:latin typeface="黑体"/>
              </a:rPr>
              <a:t>你愿意做文明的安全小卫士吗？</a:t>
            </a:r>
            <a:endParaRPr b="0" lang="en-US" sz="4400" spc="1" strike="noStrike">
              <a:ln w="9360">
                <a:solidFill>
                  <a:srgbClr val="00ccff"/>
                </a:solidFill>
                <a:miter/>
              </a:ln>
              <a:solidFill>
                <a:srgbClr val="3366ff"/>
              </a:solidFill>
              <a:latin typeface="黑体"/>
              <a:ea typeface="黑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952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886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84360" y="1413000"/>
            <a:ext cx="6840360" cy="29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99">
                    <a:alpha val="4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再见</a:t>
            </a:r>
            <a:endParaRPr b="1" i="1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99">
                  <a:alpha val="4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42920" y="1700280"/>
            <a:ext cx="6696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凝神静思，抒发感受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140976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84360" y="407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六（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89000"/>
            <a:ext cx="7777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规则！生命！责任！</a:t>
            </a:r>
            <a:endParaRPr b="1" i="1" lang="en-US" sz="6600" spc="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0872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96000" y="3860640"/>
            <a:ext cx="3564000" cy="215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619280" y="476280"/>
            <a:ext cx="475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欣赏小品，思考内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checke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125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据上海警方近日公布的交通事故统计，今年头６个月，全市涉及６１岁以上老人的交通事故达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３６１起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，伤２２９起，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死亡８８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人。在这些交通事故中，因老人乱穿马路而导致的占了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８０％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以上。这个百分比，值得人们高度警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调查显示，上半年机动车死亡事故有五大诱因，包括驾驶员违反让行规定；操作不当引发车辆追尾或刮擦；油门控制不当；违反交通信号灯或标志标线的指示；酒后驾车等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 近日从上海市交通工程学会获悉，今年上半年，本市共发生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4601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起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道路交通事故，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死亡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638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人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。学前儿童交通死亡事故同比上升，共发生学前儿童交通死亡事故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起，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死亡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人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，同比去年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上升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300</a:t>
            </a:r>
            <a:r>
              <a:rPr b="1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835280" y="260280"/>
            <a:ext cx="6956280" cy="396072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68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辩论：</a:t>
            </a:r>
            <a:endParaRPr b="0" lang="en-US" sz="48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rnd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交通整治措施是否应严厉？</a:t>
            </a:r>
            <a:endParaRPr b="0" lang="en-US" sz="4800" spc="1" strike="noStrike">
              <a:ln cap="rnd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1773360"/>
            <a:ext cx="1908000" cy="458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269720"/>
            <a:ext cx="914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下面我们来进行选择题比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下课了，不能干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打球。②追赶打闹。③跳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哪些东西不准带进校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皮球。②三角尺。③利器、易燃物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哪种行为不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跳高、跳远。②攀围墙、滑楼梯。③翻单杠、荡秋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．上下楼梯怎样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靠右行。②靠左行。③左右行都可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762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在学校里，我们应该怎样保护自身安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187280" y="5877000"/>
            <a:ext cx="895680" cy="32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05928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12400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399564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485928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5724360" y="5877000"/>
            <a:ext cx="895680" cy="323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32400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7451640" y="5877000"/>
            <a:ext cx="895320" cy="323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6588000" y="5877000"/>
            <a:ext cx="895320" cy="323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56000" y="1844640"/>
            <a:ext cx="14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31920" y="278136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91920" y="3645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79560" y="443700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979640" y="2133720"/>
            <a:ext cx="5256360" cy="388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11280" y="189000"/>
            <a:ext cx="6858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安全意识时时记，一人在家更警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——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品：《星期天，我一人在家……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467480" y="6313320"/>
            <a:ext cx="1676520" cy="544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116000" y="0"/>
            <a:ext cx="640080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生活中我们还要注意哪些危险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1908000" cy="1582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0:11:3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9:36Z</dcterms:modified>
  <cp:revision>148</cp:revision>
  <dc:subject>主题班会课件(分28大类): http://shop62905894.taobao.com</dc:subject>
  <dc:title>主题班会课件(分28大类): http://shop62905894.taobao.com</dc:title>
</cp:coreProperties>
</file>