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9F9-0D13-4A37-91C3-F4D015E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FCD-5422-45F6-811F-62F38C60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D04-E99C-476E-A523-ADAB27D1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58E-D84D-4410-8148-F5AC1184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5C2-A533-4331-8C23-6E55AC48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5F5-7314-4CF5-8F6F-E0E3576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83E-1E49-4630-8461-0D89F0F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9B4-4F5B-461E-8C06-754208A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635-D122-4A1E-9CBB-185CF284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385-163D-48CD-BA5F-84EE3B3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CF4-CA41-4F12-A0AC-C6FC05F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70E-6CBC-43E5-BECA-D7C4754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057-5DE1-4A10-80D1-792396991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2060640"/>
            <a:ext cx="6624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向着梦想飞翔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143840" y="551592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一四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〈一〉切忌冒进，以稳固求发展的策略去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自己会的一定要巩固，平时会考试经常出错的是最主要攻克的，然后再将大家（同程度学生）都可能会的题想办法一一拿下，如果自身水平不高，那么不要刻意去做拔高题（也就是自己听不懂、看不懂的题），老师上课有讲就记下，消化不了的暂时放一边，一定要按照自身水平去检索、建设，圈出自己认为可以掌握的，划出有能力攻克但是常错的，暂时剔出看不懂听不明白的，抓大头，不让能够掌握的分数跑掉才是硬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〈二〉加大思维训练比例点，形成思考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所谓磨刀不误砍柴工。平时做作业时多花费一点时间思考题目为什么这么出，有什么隐含条件？自己做出来的哪一步是可以当作隐含条件的？迷惑信息在哪？有用的信息是什么？这么去考虑刚开始做题会辛苦些，经过一两个星期就可以明显加快，并且能够做更多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341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〈三〉用试题验证知识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有些人还是担忧自己的知识点掌握的不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么每次做题都对照题目翻课本，就能达到课本知识应用、迁移转换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332000" y="2205000"/>
            <a:ext cx="66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各科复习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必须掌握的首要部分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134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一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语文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纲规定的、平时老师上课强调的课本内必须记、背的部分，多出在选择填空。现代文阅读部分：文章大意提炼、中心思想、段落表述。文言文部分：虚词、文章大意（大概的翻译）。词句部分：成语理解、句型变换。作文部分：一开始不要追求词藻，要能初步表达出自己对命题内容的看法即可，既形成文章要有自己的思想和内容，不必强行堆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〈二〉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根据自己的水平，拿下基础题，学会分析理解题目，掌握式子变形，确保达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~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因为这些分数属于基础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难分。〈三〉厌学的学生大多与社会接触过多，容易被社会不良风气所诱惑，讲吃穿，图享受，攀比成风，错误不断甚至走上违法犯罪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-2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三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英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太花时间注重语法、句型、词组。先去理解介词（看之前发的课程视频），注重于以往做过的试卷、试题中的一些用法，如大部分语法考察不同时态时的动词形式，那么我们直接抛开语法，抓住句子所描述的时态做题；如大部分被动语态强调的是对象，我们就根据考题中句子所侧重对象来答题，而不是第一时间去判断这个句子属于过去式、被动式、倒装句等，如近义词辨析，我们可通过介词或者词性的不同去做题，通过题目的形式来巩固自己，而不是再花时间去强记、强背。我们必须通过句子意思表达的重点去做题，如句子重点放在时间、强调动作对象、强调过程，加上对介词的理解后，就能拿下绝大多数题，记住，英语考擦的多是理解和选项间的对比。作文部分以能顺利表达为第一前提，后期再花时间修补语句或作适当的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四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理综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学会分步分析现象，能够罗列表达式基本能做题，因此重点放在题目分析上；化学按照考纲掌握官能团（有机）、元素周期表（有机、无机），记住试验过程中的一些特殊现象如气体、沉淀等；生物部分学会理解各专署名词的意思、各种变化过程的要点（起、终、突变点）、试验特殊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134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五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文综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背的知识全拿下，学会分析综合性题目、图表等。政治部分联系时事。地理须掌握不同地形地貌特性、各种现象（如天气）成因等，着重进行归类总结。历史在记忆的同时要多思考某些事件的意义，如农民起义、工业革命等有着专署名词的解释的部分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3503" t="4433" r="1133" b="56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700360" y="2133720"/>
            <a:ext cx="338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英数的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题思路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311040"/>
            <a:ext cx="88930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镜头一：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流火，热得人透不过气。叶乔波练滑板，地上即刻甩下一滩汗水。别人做这个课目，血乳酸能达到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至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摩尔就算不错，叶乔波却常常超过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。累得实在受不了，她便靠哭来平衡自己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镜头二：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叶乔波宿舍的训练计划周表，每张上面都有一句警言：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距冬奥会还有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2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，明星不是喊出来的，而是脚踏实地练出来的。”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距冬奥会还有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6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，成功属于那些不吝惜自己汗水的人。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镜头三：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速滑队一位男队员，某天有事起个大早。路过冰场时，发现叶乔波正在滑冰，心里好生纳闷：她今天不是出国比赛吗？怎么还上冰？一问顿生感慨：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点多的飞机，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点钟还要练练，真是练疯了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79640" y="5084640"/>
            <a:ext cx="5300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到这三个镜头，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同学们有何感受？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24000"/>
          </a:blip>
          <a:srcRect l="4318" t="6939" r="5905" b="59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134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〈一〉选择题部分多进行比较，本着客观性原则做题，因为语文是非常容易形成主观臆断的，因此在主观想象的同时，加大客观事实的求证，特别是阅读鉴赏部分，容易误导。这些多以选择题形式考察，大家记住，选择题答案是不能有争议的，因此如果代入主观臆断，那么将形成多个答案，是违背出题意图的，因此做题时，题目要我们发挥想象力的时候才发挥，其他的审清题意，看清楚问什么，千万不要以为问了什么，这样才能在现有能力上少丢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24000"/>
          </a:blip>
          <a:srcRect l="4318" t="6939" r="5905" b="59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134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〈二〉大多数题型（除了排列组合、立体几何外所有题型）本着这两个原则，大家日常做题的时候一定要这么思考，顺向做题思维：找出题目和条件的差异点，并想办法一步步弥补这个差异点，即为解题过程；逆向做题思维：当题目条件过多或极少时，采用必要性思维推导，要想求得这个结果，必须要有什么条件，满足这个条件的前提又是什么？再对应原体给的条件，就能顺利做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24000"/>
          </a:blip>
          <a:srcRect l="4318" t="6939" r="5905" b="59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34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〈三〉本着客观性的原则做题，字面表达了什么意思才是所要的，千万不要揣测。另外如果水平较低的同学，可以本着不充分的原则做题。这种方法稍后一些放出详细的搏文视频作介绍，希望同学们及时来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404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的内心做好迎接挑战的准备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12430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积极向上的心态不可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060640"/>
            <a:ext cx="82803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有一位教授曾做过这样一项实验。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年前，教授曾要求他的学生毫无顺序地进入了一个宽敞的大礼堂，并独自找个座位坐下。反复几次后，教授发现有的学生总爱坐前排，有的学生则盲目随意，四处都坐，还有一些学生似乎特别钟情于后面的位置，教授分别记下他们的名字，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年后，教授对他们的调查结果显示：爱坐前排的学生中，成功的比例高出其他两类学生很多。教授曾对他的学生说过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不是说一定要站在最前、永远第一，而是说这种积极向上的心态十分重要。在漫长的人生中，你们一定要积极坐在前排。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2379600"/>
            <a:ext cx="8281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遇犹如梯子两边的侧木，本人的拚搏奋斗犹如梯子中间的横木，两者兼有，才能成为攀向成功的梯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69840" y="541440"/>
            <a:ext cx="82821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想问题是大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思想不滑坡，办法总比困难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思想不消沉，平时学习定发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思想跟得上，学习成绩定向上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88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学习是一种追求、兴趣、责任，一种愿望，学知识是为了使人生更快乐，更有滋味，更有激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341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相信大家排除万难去好好利用这几天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面让我们喊出自己的誓言，请全体起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班长带领着同学们宣誓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这临近考试的最后？天内，我决心：克服艰苦，排除万难。面对考试，沉着冷静；面对作业，不叫苦累；认真完成，吸收经验；面对老师，大胆请教；面对同学，互相督促。向着高考，我们奋斗。以沉着的心态，坚定的信念，迎接每一天的挑战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6560" y="33336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动上，你又应该做怎样的准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1440000" cy="4597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Arial"/>
                <a:ea typeface="楷体_GB2312"/>
              </a:rPr>
              <a:t>重视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073240"/>
            <a:ext cx="7993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习题可以加深理解，融会贯通，锻炼思考问题和解决问题的能力。一道习题做不出来，说明你还没有真懂；即使所有的习题都做出来了，也不一定说明你全懂了，因为你做习题时有时只是在凑公式而已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知道自己懂在什么地方，不懂又在什么地方，还能设法去弄懂它，到了这种地步，习题就可以少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365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严济慈（物理学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084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基础不牢，地动山摇，基础不稳，做题不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08000" y="1596960"/>
            <a:ext cx="55468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心一意想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全心全意谋进步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5902" t="4841" r="5119" b="625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20720" y="270828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如何提高记忆力？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一〉满怀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相信你有能力理解并记住所学知识。坚定的自信心能使大脑神经活动充满活力，激发大脑潜能，使大脑活动朝向你的目标努力。学习和记忆时最重要的就是要满怀记忆的信心和决心。若没有这种自信，脑细胞活动就会受到抑制，脑细胞活性一旦受到抑制，记忆力便会迟钝，记忆效果大大降低。坚信自己大脑的智慧潜能有能力理解并记住所学内容，满怀信心地学习，效果定会好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〈二〉渴望记住它，决心记就能记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渴望学习，愿望强烈，如饥似渴，能激活人脑的相关部位进行记忆，大大增强记忆效果，只要你下定决心记，就能牢牢记住任何事情，关键在于你有没有决心记，有没有这种渴求。渴望记的内容就能记住。有个小窍门，人必须注意某件事至少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秒以上，才能记住那件事物。决心加上小窍门记得更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三〉使之形象化能帮助记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在头脑里将要记忆的内容以清晰的形象呈现出来，再念一、二遍。如此能激活整个大脑的活性，使意识和潜意识都对记忆内容有所察觉，把记忆材料直接安排到适宜的大脑部位，从而增强记忆效果，形象生动的内容也易于提取应用。如果能对所学知识概念理解准确，并使之建构成知识点按层次排列、有内在联系的整体知识网络结构，经常进行整体知识结构形象浮现，那将取得非常好的学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341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〈四〉有意识地命令自己记住它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学习时命令自己：“我要牢牢记住它们！”“我要长期记住它们！”反复对自己说几遍，使信息住潜意识里留下特殊而深刻的印象，学习记忆效果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〈五〉及时而经常复习，或称为循环记忆法、遗忘前复习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仅有信心和决心而不去努力学习的话，那也是空的，无法把学习搞好。在学习中还要讲究方法，好的方法能大大提高学习效果。好的方法有许多，及时经常复习就是其中之。学习后尽快复述一次，当天晚上睡觉前再复习一遍并能回忆出来，第二天早上再复习、回忆一下。所谓经常复习是指，过一周、一个月、二个月、一学期各复习和回忆一遍。如此能将所学内容牢固而持久地储存在大脑里。有人说，这一连串的复习可以使记忆力增强四倍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>
            <a:lum bright="18000"/>
          </a:blip>
          <a:srcRect l="2742" t="3796" r="3543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79640" y="2708280"/>
            <a:ext cx="49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试复习策略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12:33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4:42Z</dcterms:modified>
  <cp:revision>44</cp:revision>
  <dc:subject>主题班会课件(分28大类): http://shop62905894.taobao.com</dc:subject>
  <dc:title>主题班会课件(分28大类): http://shop62905894.taobao.com</dc:title>
</cp:coreProperties>
</file>