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7E3C-C235-420F-BFFD-F86C2A25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037B-CE97-42A2-86C9-31FB6296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D0DC-5F06-4CC2-9FC6-689E8D02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D8C-78B3-4A54-8F04-3CD54BFB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B8CE-D8AE-4A73-8424-A15EB54F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CF04-605B-4341-97D5-8D1441F6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4B15-BCAB-4A50-A182-81166572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7673-5DB6-4FB7-B154-D4EBC11E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35AB-364C-4611-88BC-60D492CB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BC64-E7A0-44CC-B92C-901F5F4E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1161-8D23-43AB-BEE1-7B81A928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C6EA-F757-4093-8B9A-E6D07F7E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0927-EC1B-45FE-BC20-5A9DAC69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4C75-DD6F-45A8-9E75-EF8DC8E4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CE53-0708-42B0-B99F-40672E8E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286F-8428-406B-AAA6-0EDBB5F4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B4B9-781F-43A5-B766-D9666CBB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4BE1-9D0F-4B15-B953-43EE2DE8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E91-CDEF-40D3-B56E-8507CC6B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5A6-828C-400C-9E2D-98A601E9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A489-4EB4-412B-ABF0-298E6ECD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AD0-44B3-4335-B39F-484E33B3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0630-C279-4C4E-9C10-380DD7C9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931-FEC8-41C6-9077-01EBEB25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4E49-F5F5-4D43-A75E-427860559F0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83F8-36BC-49CC-8288-447D2FCC084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5270;&#39057;/%5B&#23376;&#21320;&#20070;&#31616;%5D&#39640;&#32771;_&#36825;&#26159;&#19968;&#20010;&#22278;.wm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5270;&#39057;/&#19968;&#20999;&#30342;&#26377;&#21487;&#33021;11.flv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839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高考</a:t>
            </a:r>
            <a:br>
              <a:rPr sz="8000"/>
            </a:br>
            <a:br>
              <a:rPr sz="8000"/>
            </a:b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是我们圆梦的舞台</a:t>
            </a:r>
            <a:endParaRPr b="0" lang="en-US" sz="8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ff66"/>
                </a:solidFill>
                <a:latin typeface="Arial"/>
              </a:rPr>
              <a:t>让我们在此庄严宣誓：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9372600" cy="70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811600"/>
            <a:ext cx="762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自信创造奇迹，拼搏书写神话。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知识改变命运，现在决定未来。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我自信，我出色；我努力，我成功。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脚踏实地山让路，持之以恒海可移。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走进教室，满怀信心；走出教室，意气风发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信心百倍</a:t>
            </a:r>
            <a:r>
              <a:rPr b="1" lang="zh-CN" sz="18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斗志昂扬</a:t>
            </a:r>
            <a:r>
              <a:rPr b="1" lang="zh-CN" sz="18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全力以赴</a:t>
            </a:r>
            <a:r>
              <a:rPr b="1" lang="zh-CN" sz="18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铸我辉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67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67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67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67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81080" y="609480"/>
            <a:ext cx="571500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 u="sng">
                <a:solidFill>
                  <a:srgbClr val="ccecff"/>
                </a:solidFill>
                <a:uFillTx/>
                <a:latin typeface="Arial"/>
                <a:ea typeface="华文行楷"/>
                <a:hlinkClick r:id="rId2"/>
              </a:rPr>
              <a:t>为了梦想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TextBox 3" descr=""/>
          <p:cNvPicPr/>
          <p:nvPr/>
        </p:nvPicPr>
        <p:blipFill>
          <a:blip r:embed="rId3"/>
          <a:stretch/>
        </p:blipFill>
        <p:spPr>
          <a:xfrm>
            <a:off x="228600" y="1447920"/>
            <a:ext cx="9753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91720" y="763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隶书"/>
              </a:rPr>
              <a:t>也许我们年少轻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91720" y="6271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隶书"/>
              </a:rPr>
              <a:t>也许我们曾经失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76400" y="12034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隶书"/>
              </a:rPr>
              <a:t>也许我们偶尔彷徨迷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59200" y="2367000"/>
            <a:ext cx="32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20e2"/>
                </a:solidFill>
                <a:latin typeface="Times New Roman"/>
              </a:rPr>
              <a:t>…………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07840" y="3124080"/>
            <a:ext cx="22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20e2"/>
                </a:solidFill>
                <a:latin typeface="Times New Roman"/>
              </a:rPr>
              <a:t>……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59200" y="4114800"/>
            <a:ext cx="32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20e2"/>
                </a:solidFill>
                <a:latin typeface="Times New Roman"/>
              </a:rPr>
              <a:t>…………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07840" y="5178600"/>
            <a:ext cx="22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20e2"/>
                </a:solidFill>
                <a:latin typeface="Times New Roman"/>
              </a:rPr>
              <a:t>……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7500"/>
                            </p:stCondLst>
                            <p:childTnLst>
                              <p:par>
                                <p:cTn id="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52480" y="1143000"/>
            <a:ext cx="6248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一切皆有可能！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2286000"/>
            <a:ext cx="381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从改变自己开始！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3429000"/>
            <a:ext cx="487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只要功夫深，铁杵磨成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7000" y="1411560"/>
            <a:ext cx="511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37960"/>
                <a:tab algn="l" pos="476280"/>
                <a:tab algn="l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华文行楷"/>
              </a:rPr>
              <a:t>让我们面对苍天大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37960"/>
                <a:tab algn="l" pos="476280"/>
                <a:tab algn="l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37960"/>
                <a:tab algn="l" pos="476280"/>
                <a:tab algn="l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华文行楷"/>
              </a:rPr>
              <a:t>大声喊出我的梦想：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9520" y="239760"/>
            <a:ext cx="8541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333360"/>
            <a:ext cx="75614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决 战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2009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年高考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考出水平  考出理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24000" y="476280"/>
            <a:ext cx="94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 algn="ctr">
              <a:lnSpc>
                <a:spcPct val="10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2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r>
              <a:rPr b="0" lang="zh-CN" sz="6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同样的</a:t>
            </a:r>
            <a:r>
              <a:rPr b="0" lang="zh-CN" sz="6200" spc="-1" strike="noStrike">
                <a:solidFill>
                  <a:srgbClr val="ffcc00"/>
                </a:solidFill>
                <a:latin typeface="华文行楷"/>
                <a:ea typeface="华文行楷"/>
              </a:rPr>
              <a:t>梦想</a:t>
            </a:r>
            <a:r>
              <a:rPr b="0" lang="zh-CN" sz="6200" spc="-1" strike="noStrike">
                <a:solidFill>
                  <a:srgbClr val="ffffff"/>
                </a:solidFill>
                <a:latin typeface="华文行楷"/>
                <a:ea typeface="华文行楷"/>
              </a:rPr>
              <a:t> 同样的</a:t>
            </a:r>
            <a:r>
              <a:rPr b="0" lang="zh-CN" sz="6200" spc="-1" strike="noStrike">
                <a:solidFill>
                  <a:srgbClr val="ffcc00"/>
                </a:solidFill>
                <a:latin typeface="华文行楷"/>
                <a:ea typeface="华文行楷"/>
              </a:rPr>
              <a:t>渴望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</a:t>
            </a: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努力</a:t>
            </a: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竞争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</a:t>
            </a: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环境</a:t>
            </a: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起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</a:t>
            </a: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知识</a:t>
            </a: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老师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27280" y="522936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2f1f"/>
                </a:solidFill>
                <a:latin typeface="Arial"/>
              </a:rPr>
              <a:t>我们该怎么做？？？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只有比别人（对手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华文行楷"/>
                <a:ea typeface="华文行楷"/>
              </a:rPr>
              <a:t>少想家 少分心 少违纪 少请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才不会被别人落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只有比对手（别人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华文行楷"/>
                <a:ea typeface="华文行楷"/>
              </a:rPr>
              <a:t>更付出 更努力 更坚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华文行楷"/>
                <a:ea typeface="华文行楷"/>
              </a:rPr>
              <a:t>更能持之以恒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才可能会超过别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33000" y="549000"/>
            <a:ext cx="6709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7960"/>
                <a:tab algn="l" pos="47628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让我们一起</a:t>
            </a:r>
            <a:r>
              <a:rPr b="0" lang="zh-CN" sz="8000" spc="-1" strike="noStrike">
                <a:solidFill>
                  <a:srgbClr val="fd2f1f"/>
                </a:solidFill>
                <a:latin typeface="华文行楷"/>
                <a:ea typeface="华文行楷"/>
              </a:rPr>
              <a:t>努力</a:t>
            </a:r>
            <a:r>
              <a:rPr b="0" lang="zh-CN" sz="8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吧！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7960"/>
                <a:tab algn="l" pos="47628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7960"/>
                <a:tab algn="l" pos="47628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为了</a:t>
            </a:r>
            <a:r>
              <a:rPr b="0" lang="zh-CN" sz="8000" spc="-1" strike="noStrike">
                <a:solidFill>
                  <a:srgbClr val="ffffff"/>
                </a:solidFill>
                <a:latin typeface="华文行楷"/>
                <a:ea typeface="华文行楷"/>
              </a:rPr>
              <a:t>09</a:t>
            </a:r>
            <a:r>
              <a:rPr b="0" lang="zh-CN" sz="8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年高考的</a:t>
            </a:r>
            <a:r>
              <a:rPr b="0" lang="zh-CN" sz="8000" spc="-1" strike="noStrike">
                <a:solidFill>
                  <a:srgbClr val="fd2f1f"/>
                </a:solidFill>
                <a:latin typeface="华文行楷"/>
                <a:ea typeface="华文行楷"/>
              </a:rPr>
              <a:t>辉煌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7960"/>
                <a:tab algn="l" pos="47628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</a:t>
            </a:r>
            <a:r>
              <a:rPr b="0" lang="zh-CN" sz="8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从今天开始</a:t>
            </a:r>
            <a:r>
              <a:rPr b="0" lang="zh-CN" sz="8000" spc="-1" strike="noStrike">
                <a:solidFill>
                  <a:srgbClr val="fd2f1f"/>
                </a:solidFill>
                <a:latin typeface="华文行楷"/>
                <a:ea typeface="华文行楷"/>
              </a:rPr>
              <a:t>奋斗</a:t>
            </a:r>
            <a:r>
              <a:rPr b="0" lang="zh-CN" sz="8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吧！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58770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壮志雄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5805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2f1f"/>
                </a:solidFill>
                <a:latin typeface="Arial"/>
              </a:rPr>
              <a:t>真心英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ks5u.comwww.ks5u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17:28Z</dcterms:modified>
  <cp:revision>7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