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1.jpeg" ContentType="image/jpeg"/>
  <Override PartName="/ppt/media/whoosh.wav" ContentType="audio/x-wav"/>
  <Override PartName="/ppt/media/image16.gif" ContentType="image/gif"/>
  <Override PartName="/ppt/media/image14.jpeg" ContentType="image/jpeg"/>
  <Override PartName="/ppt/media/image17.gif" ContentType="image/gif"/>
  <Override PartName="/ppt/media/image7.jpeg" ContentType="image/jpeg"/>
  <Override PartName="/ppt/media/image20.png" ContentType="image/png"/>
  <Override PartName="/ppt/media/chimes.wav" ContentType="audio/x-wav"/>
  <Override PartName="/ppt/media/image15.jpeg" ContentType="image/jpeg"/>
  <Override PartName="/ppt/media/type.wav" ContentType="audio/x-wav"/>
  <Override PartName="/ppt/media/image3.gif" ContentType="image/gif"/>
  <Override PartName="/ppt/media/image18.jpeg" ContentType="image/jpeg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1B0-6113-4DC0-A8F7-F31761B1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F2E-F0BD-4C84-A473-681C59EB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D2A-76CA-4F6A-82B6-D01F8550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B08-2AB6-47F2-8F2D-A3FC8889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1F2-6FB8-4AE7-8CC4-7474824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0FE-C8D2-49D3-8514-B206FD88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9CE-7DCE-44D8-A2A2-137A65C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351-BCFE-42D4-AFB2-4F5807C8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529-6C7C-4144-A303-FD7DB2B1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0E0-7E46-40AE-B40D-D6250EE8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09E-2003-4017-8699-5C7C621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755-0D10-4F0C-9B05-7D490DB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9D7F-4DCC-49DA-BCF0-B6A331BBB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" Target="slide11.xml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-152280" y="1143000"/>
            <a:ext cx="8686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阳光总在风雨后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67480" y="4267080"/>
            <a:ext cx="1676520" cy="130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20968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爱迪生曾经试用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不同的材料作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灯泡的灯丝，都没有成功。有人批评他：“你已经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失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次了。”可是爱迪生不这么认为，他充满自信地说：“我的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成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在于发现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材料不适合做灯丝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53352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爱迪生从挫折中找回自信：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95640" y="476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本的挫折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小小阅读卡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21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本孩子的心理素质被世人称道，源于其重视“挫折教育”。日本的挫折教育简单地说，就是让孩子自小受到艰难困苦的磨练，以培养坚忍不拔的意志和毅力。日本的幼儿园有一条不成文的规定：每逢冬天，幼儿都要赤身裸体于风雪之中摸爬滚打一定时间。天寒地冻，不少幼儿嘴唇冻得发紫，浑身发抖，但站在一边的家长们个个“铁石心肠”，没有一个上前搂住自己的孩子。他们知道，只有这样才能换来孩子真正的健康。在日本，不少中小学还兴起一种“穷留学”之风，即富裕的大城市中小学生到偏远的山区村寨接受艰苦的生活训练。日本人教育孩子有句名言：除了阳光和空气是大自然赐予的，其他一切都要通过劳动获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8600" y="2286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说一说：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92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挫折磨练人生的格言、警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200400" cy="457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116000" y="260280"/>
            <a:ext cx="2666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议一议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1773360"/>
            <a:ext cx="655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通过学习以后，你今后会如何面对挫折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5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58920" y="174600"/>
            <a:ext cx="6264360" cy="65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假如生活欺骗了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普希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假如生活欺骗了你，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不要悲伤，也不要气愤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愁苦的日子里，要心平气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信吧，快乐的日子会来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心儿为将来而热烈地跳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眼前的事情虽叫人悲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但一切转眼就会消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情一过去，便成为欢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433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125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个好心的老人，在草地上，发现了一个蛹，他把蛹带回家。过了几天，蛹壳上出现了一道小裂缝，里面的蝴蝶挣扎了好几个小时，身体似乎被卡住了，一直出不来。老人看着于心不忍，于是，他拿剪刀把蛹壳剪开，帮助蝴蝶脱蛹而出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0"/>
            <a:ext cx="4372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猜一猜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: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蝴蝶怎么了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30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可是，这只蝴蝶的身躯臃肿，翅膀干瘪，根本就飞不起来，不久就死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286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说一说：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152280"/>
            <a:ext cx="6553080" cy="3276720"/>
          </a:xfrm>
          <a:prstGeom prst="cloudCallout">
            <a:avLst>
              <a:gd name="adj1" fmla="val -43314"/>
              <a:gd name="adj2" fmla="val 6114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76212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蝴蝶为什么会死去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16360"/>
            <a:ext cx="4583160" cy="304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4789440"/>
            <a:ext cx="3124440" cy="206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609480"/>
            <a:ext cx="3276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谈一谈：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438280"/>
            <a:ext cx="76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你们曾经历过的挫折。你们是如何面对挫折的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99736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人之逆境十之八九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341360"/>
            <a:ext cx="419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古语说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5373720"/>
            <a:ext cx="705636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932120" cy="3500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341360"/>
            <a:ext cx="6697440" cy="2303640"/>
          </a:xfrm>
          <a:prstGeom prst="cloudCallout">
            <a:avLst>
              <a:gd name="adj1" fmla="val -49810"/>
              <a:gd name="adj2" fmla="val 655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162864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今天我考试考差了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29200" y="4229280"/>
            <a:ext cx="4114800" cy="262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9640" y="404640"/>
            <a:ext cx="2664000" cy="10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小品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5872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数学试卷发放后的教室里，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正在议论这次考试，观点各不相同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今天数学考试才考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分，哎，真倒霉，运气这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我和你考得差不多，不要这么唉声叹气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可我复习了好几遍了。这回又要挨骂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我觉得今天天气太热了，我很烦躁，没有全身心的投入，所以考砸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你们不要这样咯，唉声叹气有什么用。我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分，有什么办法呢？谁叫爸妈生得我这么笨，爸爸妈妈也不会骂我，我去玩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要我说是这张试卷太难了，要是简单一些，我才不至于这么几分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吹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我觉得试卷并不是很难，主要是我太粗心了，因此而失去将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呢，以后我一定加倍仔细。争取下一次考得好一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0"/>
            <a:ext cx="2376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小品的内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360" y="189000"/>
            <a:ext cx="3124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请举例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22050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Times New Roman"/>
                <a:ea typeface="隶书"/>
              </a:rPr>
              <a:t>伟人、有成就之人受挫之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67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220968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爱迪生曾经试用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不同的材料作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灯泡的灯丝，都没有成功。有人批评他：“你已经失败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次了。”可是爱迪生不这么认为，他充满自信地说：“我的成功就在于发现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材料不适合做灯丝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53352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爱迪生从挫折中找回自信：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2:59:27Z</dcterms:created>
  <dc:creator>XLC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5:58Z</dcterms:modified>
  <cp:revision>16</cp:revision>
  <dc:subject>主题班会课件(分28大类): http://shop62905894.taobao.com</dc:subject>
  <dc:title>主题班会课件(分28大类): http://shop62905894.taobao.com</dc:title>
</cp:coreProperties>
</file>