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9.png" ContentType="image/png"/>
  <Override PartName="/ppt/media/image6.jpeg" ContentType="image/jpeg"/>
  <Override PartName="/ppt/media/image10.png" ContentType="image/png"/>
  <Override PartName="/ppt/media/image35.jpeg" ContentType="image/jpeg"/>
  <Override PartName="/ppt/media/image39.jpeg" ContentType="image/jpeg"/>
  <Override PartName="/ppt/media/image8.jpeg" ContentType="image/jpeg"/>
  <Override PartName="/ppt/media/image30.gif" ContentType="image/gif"/>
  <Override PartName="/ppt/media/image33.png" ContentType="image/png"/>
  <Override PartName="/ppt/media/image14.jpeg" ContentType="image/jpeg"/>
  <Override PartName="/ppt/media/image28.gif" ContentType="image/gif"/>
  <Override PartName="/ppt/media/image32.jpeg" ContentType="image/jpeg"/>
  <Override PartName="/ppt/media/image5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6.jpeg" ContentType="image/jpeg"/>
  <Override PartName="/ppt/media/image11.jpeg" ContentType="image/jpeg"/>
  <Override PartName="/ppt/media/image12.jpeg" ContentType="image/jpeg"/>
  <Override PartName="/ppt/media/image4.gif" ContentType="image/gif"/>
  <Override PartName="/ppt/media/image27.gif" ContentType="image/gif"/>
  <Override PartName="/ppt/media/image2.png" ContentType="image/png"/>
  <Override PartName="/ppt/media/image37.jpeg" ContentType="image/jpeg"/>
  <Override PartName="/ppt/media/image3.jpeg" ContentType="image/jpeg"/>
  <Override PartName="/ppt/media/image31.png" ContentType="image/png"/>
  <Override PartName="/ppt/media/image1.png" ContentType="image/png"/>
  <Override PartName="/ppt/media/image29.gif" ContentType="image/gif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56D9-278A-44B9-B13F-82F3965587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246400" y="668160"/>
            <a:ext cx="2617560" cy="19638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0" y="2662200"/>
            <a:ext cx="6858000" cy="59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hoice makes you hu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C58C-632C-4574-B64C-F20A5675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E48-CF7F-4749-AE7E-B23077EF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BCC-EFFC-459A-A8C6-674987D0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F1CF-BEFF-4E7B-9D47-57254A86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B2CC-CEB5-40EE-84CB-E0319252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AFF8-CB58-4C87-980C-F8C746FC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E54E-712C-4569-9500-4AC9F4E1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41B-2622-4B47-8B29-45D10932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3FF-BDB5-4B07-8AE8-B002042B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C194-4A9F-4823-BC27-61320547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6EB0-3B62-4D9A-814C-C9D01BBC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4206-5C5F-4BE5-8718-84B633AC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1113-20C5-454A-ABBC-44A662D68F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295280" y="2286000"/>
            <a:ext cx="6477120" cy="29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选择的智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成功的基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57600" y="5410080"/>
            <a:ext cx="3628800" cy="1238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523880"/>
            <a:ext cx="27622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且歌且行之：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715000" y="5943600"/>
            <a:ext cx="22860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制作：谢安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4952880" cy="6781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2819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715000" y="2819520"/>
            <a:ext cx="2057400" cy="1904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952880" y="4724280"/>
            <a:ext cx="4343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成功不是那么容易！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000680" y="1714680"/>
            <a:ext cx="1600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392120"/>
            <a:ext cx="4419720" cy="546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419720" y="1523880"/>
          <a:ext cx="4724280" cy="4343400"/>
        </p:xfrm>
        <a:graphic>
          <a:graphicData uri="http://schemas.openxmlformats.org/drawingml/2006/table">
            <a:tbl>
              <a:tblPr/>
              <a:tblGrid>
                <a:gridCol w="4724280"/>
              </a:tblGrid>
              <a:tr h="84456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真心追随智慧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496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冷静掌控抉择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522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学习累积经验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478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自觉端正态度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4924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理智反对片面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03" name=""/>
          <p:cNvSpPr txBox="1"/>
          <p:nvPr/>
        </p:nvSpPr>
        <p:spPr>
          <a:xfrm>
            <a:off x="1523880" y="96840"/>
            <a:ext cx="6438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e60d2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选择的智慧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e60d2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24280" y="259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740120" y="339084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572000" y="41799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572000" y="4865760"/>
            <a:ext cx="6858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300" spc="-1" strike="noStrike" u="sng">
                <a:solidFill>
                  <a:srgbClr val="660066"/>
                </a:solidFill>
                <a:uFillTx/>
                <a:latin typeface="华文隶书"/>
                <a:ea typeface="华文隶书"/>
              </a:rPr>
              <a:t>1. </a:t>
            </a:r>
            <a:r>
              <a:rPr b="1" i="1" lang="zh-CN" sz="6300" spc="-1" strike="noStrike" u="sng">
                <a:solidFill>
                  <a:srgbClr val="660066"/>
                </a:solidFill>
                <a:uFillTx/>
                <a:latin typeface="华文隶书"/>
                <a:ea typeface="华文隶书"/>
              </a:rPr>
              <a:t>用冷静掌控抉择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遇到危机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保持冷静，寻找机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坏的打算是什么？可以接受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抉择前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“重重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，抉择后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“轻轻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 rot="21136800">
            <a:off x="4724280" y="1927080"/>
            <a:ext cx="4078440" cy="174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冷静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60d2e"/>
                </a:solidFill>
                <a:latin typeface="华文隶书"/>
                <a:ea typeface="华文隶书"/>
              </a:rPr>
              <a:t>2. </a:t>
            </a:r>
            <a:r>
              <a:rPr b="1" lang="zh-CN" sz="4400" spc="-1" strike="noStrike">
                <a:solidFill>
                  <a:srgbClr val="e60d2e"/>
                </a:solidFill>
                <a:latin typeface="华文隶书"/>
                <a:ea typeface="华文隶书"/>
              </a:rPr>
              <a:t>用学习累积经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800" y="1518120"/>
            <a:ext cx="59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60d2e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e60d2e"/>
                </a:solidFill>
                <a:latin typeface="Arial"/>
              </a:rPr>
              <a:t>The journey is the reward</a:t>
            </a:r>
            <a:r>
              <a:rPr b="1" lang="zh-CN" sz="2400" spc="-1" strike="noStrike">
                <a:solidFill>
                  <a:srgbClr val="e60d2e"/>
                </a:solidFill>
                <a:latin typeface="Arial"/>
              </a:rPr>
              <a:t>（旅途本身就是收获 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-114480" y="2158920"/>
            <a:ext cx="7467480" cy="4259160"/>
            <a:chOff x="-114480" y="2158920"/>
            <a:chExt cx="7467480" cy="4259160"/>
          </a:xfrm>
        </p:grpSpPr>
        <p:sp>
          <p:nvSpPr>
            <p:cNvPr id="116" name=""/>
            <p:cNvSpPr/>
            <p:nvPr/>
          </p:nvSpPr>
          <p:spPr>
            <a:xfrm>
              <a:off x="1439280" y="2201760"/>
              <a:ext cx="1600560" cy="4128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72360" tIns="36000" bIns="360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学生时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7800" y="3863160"/>
              <a:ext cx="1600560" cy="399960"/>
            </a:xfrm>
            <a:prstGeom prst="wedgeRoundRectCallout">
              <a:avLst>
                <a:gd name="adj1" fmla="val -70833"/>
                <a:gd name="adj2" fmla="val 39787"/>
                <a:gd name="adj3" fmla="val 16667"/>
              </a:avLst>
            </a:prstGeom>
            <a:solidFill>
              <a:srgbClr val="fee4be"/>
            </a:solidFill>
            <a:ln w="9360">
              <a:solidFill>
                <a:srgbClr val="ffac33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360" rIns="72360" tIns="36000" bIns="360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你的时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45200" y="4802040"/>
              <a:ext cx="1320120" cy="588600"/>
            </a:xfrm>
            <a:prstGeom prst="wedgeRoundRectCallout">
              <a:avLst>
                <a:gd name="adj1" fmla="val -56939"/>
                <a:gd name="adj2" fmla="val 66129"/>
                <a:gd name="adj3" fmla="val 16667"/>
              </a:avLst>
            </a:prstGeom>
            <a:solidFill>
              <a:srgbClr val="fee4be"/>
            </a:solidFill>
            <a:ln w="9360">
              <a:solidFill>
                <a:srgbClr val="ffac33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360" rIns="72360" tIns="36000" bIns="360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你修正自己的能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91800" y="2158920"/>
              <a:ext cx="28440" cy="41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-114480" y="6090480"/>
              <a:ext cx="74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03640" y="6111720"/>
              <a:ext cx="14493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72360" tIns="36000" bIns="360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人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2160" y="4339080"/>
              <a:ext cx="7158600" cy="1758240"/>
            </a:xfrm>
            <a:custGeom>
              <a:avLst/>
              <a:gdLst/>
              <a:ahLst/>
              <a:rect l="l" t="t" r="r" b="b"/>
              <a:pathLst>
                <a:path w="4080" h="1264">
                  <a:moveTo>
                    <a:pt x="0" y="1264"/>
                  </a:moveTo>
                  <a:cubicBezTo>
                    <a:pt x="72" y="1164"/>
                    <a:pt x="144" y="1064"/>
                    <a:pt x="288" y="880"/>
                  </a:cubicBezTo>
                  <a:cubicBezTo>
                    <a:pt x="432" y="696"/>
                    <a:pt x="688" y="296"/>
                    <a:pt x="864" y="160"/>
                  </a:cubicBezTo>
                  <a:cubicBezTo>
                    <a:pt x="1040" y="24"/>
                    <a:pt x="1160" y="0"/>
                    <a:pt x="1344" y="64"/>
                  </a:cubicBezTo>
                  <a:cubicBezTo>
                    <a:pt x="1528" y="128"/>
                    <a:pt x="1768" y="400"/>
                    <a:pt x="1968" y="544"/>
                  </a:cubicBezTo>
                  <a:cubicBezTo>
                    <a:pt x="2168" y="688"/>
                    <a:pt x="2368" y="840"/>
                    <a:pt x="2544" y="928"/>
                  </a:cubicBezTo>
                  <a:cubicBezTo>
                    <a:pt x="2720" y="1016"/>
                    <a:pt x="2768" y="1024"/>
                    <a:pt x="3024" y="1072"/>
                  </a:cubicBezTo>
                  <a:cubicBezTo>
                    <a:pt x="3280" y="1120"/>
                    <a:pt x="3680" y="1168"/>
                    <a:pt x="4080" y="121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05560" y="2224440"/>
              <a:ext cx="1578240" cy="546120"/>
            </a:xfrm>
            <a:prstGeom prst="wedgeRoundRectCallout">
              <a:avLst>
                <a:gd name="adj1" fmla="val -29449"/>
                <a:gd name="adj2" fmla="val 77097"/>
                <a:gd name="adj3" fmla="val 16667"/>
              </a:avLst>
            </a:prstGeom>
            <a:solidFill>
              <a:srgbClr val="fee4be"/>
            </a:solidFill>
            <a:ln w="9360">
              <a:solidFill>
                <a:srgbClr val="ffac33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360" rIns="72360" tIns="36000" bIns="360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犯错的代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61960" y="2904480"/>
              <a:ext cx="4928400" cy="3205080"/>
            </a:xfrm>
            <a:custGeom>
              <a:avLst/>
              <a:gdLst/>
              <a:ahLst/>
              <a:rect l="l" t="t" r="r" b="b"/>
              <a:pathLst>
                <a:path w="4080" h="2304">
                  <a:moveTo>
                    <a:pt x="0" y="2304"/>
                  </a:moveTo>
                  <a:cubicBezTo>
                    <a:pt x="156" y="2272"/>
                    <a:pt x="312" y="2240"/>
                    <a:pt x="576" y="1920"/>
                  </a:cubicBezTo>
                  <a:cubicBezTo>
                    <a:pt x="840" y="1600"/>
                    <a:pt x="1000" y="704"/>
                    <a:pt x="1584" y="384"/>
                  </a:cubicBezTo>
                  <a:cubicBezTo>
                    <a:pt x="2168" y="64"/>
                    <a:pt x="3124" y="32"/>
                    <a:pt x="4080" y="0"/>
                  </a:cubicBezTo>
                </a:path>
              </a:pathLst>
            </a:custGeom>
            <a:noFill/>
            <a:ln w="19080">
              <a:solidFill>
                <a:srgbClr val="339966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0440" y="2999520"/>
              <a:ext cx="6805440" cy="3002400"/>
            </a:xfrm>
            <a:custGeom>
              <a:avLst/>
              <a:gdLst/>
              <a:ahLst/>
              <a:rect l="l" t="t" r="r" b="b"/>
              <a:pathLst>
                <a:path w="7653" h="4261">
                  <a:moveTo>
                    <a:pt x="0" y="3506"/>
                  </a:moveTo>
                  <a:cubicBezTo>
                    <a:pt x="68" y="3666"/>
                    <a:pt x="136" y="3826"/>
                    <a:pt x="264" y="3940"/>
                  </a:cubicBezTo>
                  <a:cubicBezTo>
                    <a:pt x="392" y="4054"/>
                    <a:pt x="619" y="4174"/>
                    <a:pt x="768" y="4188"/>
                  </a:cubicBezTo>
                  <a:cubicBezTo>
                    <a:pt x="917" y="4202"/>
                    <a:pt x="1037" y="4207"/>
                    <a:pt x="1158" y="4027"/>
                  </a:cubicBezTo>
                  <a:cubicBezTo>
                    <a:pt x="1279" y="3847"/>
                    <a:pt x="1410" y="3502"/>
                    <a:pt x="1497" y="3110"/>
                  </a:cubicBezTo>
                  <a:cubicBezTo>
                    <a:pt x="1584" y="2718"/>
                    <a:pt x="1590" y="2128"/>
                    <a:pt x="1680" y="1677"/>
                  </a:cubicBezTo>
                  <a:cubicBezTo>
                    <a:pt x="1770" y="1226"/>
                    <a:pt x="1912" y="685"/>
                    <a:pt x="2040" y="406"/>
                  </a:cubicBezTo>
                  <a:cubicBezTo>
                    <a:pt x="2168" y="127"/>
                    <a:pt x="2320" y="6"/>
                    <a:pt x="2448" y="3"/>
                  </a:cubicBezTo>
                  <a:cubicBezTo>
                    <a:pt x="2576" y="0"/>
                    <a:pt x="2675" y="58"/>
                    <a:pt x="2811" y="385"/>
                  </a:cubicBezTo>
                  <a:cubicBezTo>
                    <a:pt x="2947" y="712"/>
                    <a:pt x="3121" y="1331"/>
                    <a:pt x="3263" y="1967"/>
                  </a:cubicBezTo>
                  <a:cubicBezTo>
                    <a:pt x="3405" y="2603"/>
                    <a:pt x="3402" y="3481"/>
                    <a:pt x="4138" y="3887"/>
                  </a:cubicBezTo>
                  <a:cubicBezTo>
                    <a:pt x="4870" y="4261"/>
                    <a:pt x="6921" y="4144"/>
                    <a:pt x="7653" y="4211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486400"/>
          </a:xfrm>
          <a:prstGeom prst="rect">
            <a:avLst/>
          </a:prstGeom>
          <a:gradFill rotWithShape="0">
            <a:gsLst>
              <a:gs pos="0">
                <a:srgbClr val="ffffff">
                  <a:alpha val="67058"/>
                </a:srgbClr>
              </a:gs>
              <a:gs pos="50000">
                <a:srgbClr val="ffff00">
                  <a:alpha val="62352"/>
                </a:srgbClr>
              </a:gs>
              <a:gs pos="100000">
                <a:srgbClr val="ffffff">
                  <a:alpha val="67058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没有自觉的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对自己判断过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6992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浮躁、冒进，不善于和他人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6992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遭到挫折时，难以平静对待客观事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对自己判断过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6992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畏首畏尾、踌躇不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6992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没有承担责任和肩负重担的勇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6992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没有主动请缨的积极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有自觉的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遇到挫折：不会轻言失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取得成绩：不会沾沾自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 rot="5400000">
            <a:off x="-2286360" y="2819520"/>
            <a:ext cx="609588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隶书"/>
              </a:rPr>
              <a:t>3. </a:t>
            </a: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隶书"/>
              </a:rPr>
              <a:t>用自觉 端正态度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03200" y="1360440"/>
            <a:ext cx="8577360" cy="19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学习</a:t>
            </a:r>
            <a:r>
              <a:rPr b="1" i="1" lang="en-US" sz="1800" spc="-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+</a:t>
            </a:r>
            <a:r>
              <a:rPr b="1" i="1" lang="zh-CN" sz="1800" spc="-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条件</a:t>
            </a:r>
            <a:r>
              <a:rPr b="1" i="1" lang="en-US" sz="1800" spc="-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+</a:t>
            </a:r>
            <a:r>
              <a:rPr b="1" i="1" lang="zh-CN" sz="1800" spc="-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天赋</a:t>
            </a:r>
            <a:r>
              <a:rPr b="1" i="1" lang="en-US" sz="1800" spc="-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+</a:t>
            </a:r>
            <a:r>
              <a:rPr b="1" i="1" lang="zh-CN" sz="1800" spc="-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真心 </a:t>
            </a:r>
            <a:endParaRPr b="1" i="1" lang="en-US" sz="1800" spc="-1" strike="noStrike">
              <a:ln w="0">
                <a:noFill/>
              </a:ln>
              <a:solidFill>
                <a:srgbClr val="cc99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       </a:t>
            </a:r>
            <a:endParaRPr b="1" i="1" lang="en-US" sz="1800" spc="-1" strike="noStrike">
              <a:ln w="0">
                <a:noFill/>
              </a:ln>
              <a:solidFill>
                <a:srgbClr val="cc99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        </a:t>
            </a:r>
            <a:r>
              <a:rPr b="1" i="1" lang="en-US" sz="1800" spc="-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= </a:t>
            </a:r>
            <a:r>
              <a:rPr b="1" i="1" lang="zh-CN" sz="1800" spc="-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完美人生</a:t>
            </a:r>
            <a:endParaRPr b="1" i="1" lang="en-US" sz="1800" spc="-1" strike="noStrike">
              <a:ln w="0">
                <a:noFill/>
              </a:ln>
              <a:solidFill>
                <a:srgbClr val="cc99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03920" y="2401560"/>
            <a:ext cx="3765960" cy="3889800"/>
            <a:chOff x="403920" y="2401560"/>
            <a:chExt cx="3765960" cy="3889800"/>
          </a:xfrm>
        </p:grpSpPr>
        <p:sp>
          <p:nvSpPr>
            <p:cNvPr id="130" name=""/>
            <p:cNvSpPr/>
            <p:nvPr/>
          </p:nvSpPr>
          <p:spPr>
            <a:xfrm>
              <a:off x="403920" y="2401560"/>
              <a:ext cx="2532600" cy="2567160"/>
            </a:xfrm>
            <a:prstGeom prst="ellipse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7280" y="3721320"/>
              <a:ext cx="2532600" cy="2566080"/>
            </a:xfrm>
            <a:prstGeom prst="ellipse">
              <a:avLst/>
            </a:prstGeom>
            <a:solidFill>
              <a:srgbClr val="ff99cc">
                <a:alpha val="44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42080" y="5258160"/>
              <a:ext cx="70380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3040" bIns="2304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20202"/>
                  </a:solidFill>
                  <a:latin typeface="Arial"/>
                </a:rPr>
                <a:t>天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0560" y="2863080"/>
              <a:ext cx="8650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3040" bIns="2304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20202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020202"/>
                  </a:solidFill>
                  <a:latin typeface="Arial"/>
                </a:rPr>
                <a:t>学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34760" y="2401560"/>
              <a:ext cx="2532600" cy="2565720"/>
            </a:xfrm>
            <a:prstGeom prst="ellipse">
              <a:avLst/>
            </a:prstGeom>
            <a:solidFill>
              <a:srgbClr val="3399ff">
                <a:alpha val="44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53520" y="2825640"/>
              <a:ext cx="56808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3040" bIns="2304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20202"/>
                  </a:solidFill>
                  <a:latin typeface="Arial"/>
                </a:rPr>
                <a:t>条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3920" y="3724200"/>
              <a:ext cx="2532600" cy="2567160"/>
            </a:xfrm>
            <a:prstGeom prst="ellipse">
              <a:avLst/>
            </a:prstGeom>
            <a:solidFill>
              <a:srgbClr val="99ffcc">
                <a:alpha val="44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3760" y="5249520"/>
              <a:ext cx="8647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3040" bIns="2304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20202"/>
                  </a:solidFill>
                  <a:latin typeface="Arial"/>
                </a:rPr>
                <a:t>真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66000" y="4068720"/>
              <a:ext cx="157572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3040" bIns="2304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20202"/>
                  </a:solidFill>
                  <a:latin typeface="Arial"/>
                </a:rPr>
                <a:t>完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20202"/>
                  </a:solidFill>
                  <a:latin typeface="Arial"/>
                </a:rPr>
                <a:t>人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1903320" y="274680"/>
            <a:ext cx="548820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4. </a:t>
            </a:r>
            <a:r>
              <a:rPr b="0" lang="zh-CN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用真心追随智慧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876312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2520">
              <a:lnSpc>
                <a:spcPct val="100000"/>
              </a:lnSpc>
              <a:spcBef>
                <a:spcPts val="751"/>
              </a:spcBef>
              <a:buClr>
                <a:srgbClr val="3333ff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宋体"/>
              </a:rPr>
              <a:t>兴趣 </a:t>
            </a:r>
            <a:r>
              <a:rPr b="1" lang="zh-CN" sz="30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zh-CN" sz="3000" spc="-1" strike="noStrike">
                <a:solidFill>
                  <a:srgbClr val="3333ff"/>
                </a:solidFill>
                <a:latin typeface="宋体"/>
              </a:rPr>
              <a:t> 自信 </a:t>
            </a:r>
            <a:r>
              <a:rPr b="1" lang="zh-CN" sz="30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zh-CN" sz="3000" spc="-1" strike="noStrike">
                <a:solidFill>
                  <a:srgbClr val="3333ff"/>
                </a:solidFill>
                <a:latin typeface="宋体"/>
              </a:rPr>
              <a:t> 快乐 </a:t>
            </a:r>
            <a:r>
              <a:rPr b="1" lang="zh-CN" sz="30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zh-CN" sz="3000" spc="-1" strike="noStrike">
                <a:solidFill>
                  <a:srgbClr val="3333ff"/>
                </a:solidFill>
                <a:latin typeface="宋体"/>
              </a:rPr>
              <a:t> 成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宋体"/>
              </a:rPr>
              <a:t>把握每一个机会，选你所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252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如果不知道兴趣，那就多好奇一点，多尝试一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宋体"/>
              </a:rPr>
              <a:t>试着爱你所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252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在每一个学习领域里，多尝试一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533160" y="190080"/>
            <a:ext cx="7010280" cy="16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100" spc="-1" strike="noStrike">
                <a:solidFill>
                  <a:srgbClr val="ffff00"/>
                </a:solidFill>
                <a:latin typeface="Arial"/>
                <a:ea typeface="华文隶书"/>
              </a:rPr>
              <a:t>追逐兴趣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100" spc="-1" strike="noStrike">
                <a:solidFill>
                  <a:srgbClr val="6600cc"/>
                </a:solidFill>
                <a:latin typeface="Arial"/>
                <a:ea typeface="华文隶书"/>
              </a:rPr>
              <a:t>积极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832500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spcBef>
                <a:spcPts val="9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积极的态度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9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对自己的一切负责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9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Arial"/>
                <a:ea typeface="新宋体"/>
              </a:rPr>
              <a:t>不要等待机遇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  <a:ea typeface="新宋体"/>
              </a:rPr>
              <a:t>,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做好充分的准备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9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以终为始”，积极地规划初中三年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100" spc="-1" strike="noStrike">
                <a:solidFill>
                  <a:srgbClr val="e60d2e"/>
                </a:solidFill>
                <a:latin typeface="Arial"/>
                <a:ea typeface="华文隶书"/>
              </a:rPr>
              <a:t>勇气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17320"/>
            <a:ext cx="822960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263760"/>
            <a:ext cx="72010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spcBef>
                <a:spcPts val="799"/>
              </a:spcBef>
              <a:buClr>
                <a:srgbClr val="0b86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b8697"/>
                </a:solidFill>
                <a:latin typeface="Arial"/>
              </a:rPr>
              <a:t>失败中学习的更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799"/>
              </a:spcBef>
              <a:buClr>
                <a:srgbClr val="0b86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b8697"/>
                </a:solidFill>
                <a:latin typeface="Arial"/>
              </a:rPr>
              <a:t>不妨想一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2520">
              <a:spcBef>
                <a:spcPts val="700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cc00cc"/>
                </a:solidFill>
                <a:uFillTx/>
                <a:latin typeface="Arial"/>
              </a:rPr>
              <a:t>你怕失去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2520">
              <a:spcBef>
                <a:spcPts val="700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cc00cc"/>
                </a:solidFill>
                <a:uFillTx/>
                <a:latin typeface="Arial"/>
              </a:rPr>
              <a:t>最坏的下场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2520"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cc00cc"/>
                </a:solidFill>
                <a:uFillTx/>
                <a:latin typeface="Arial"/>
              </a:rPr>
              <a:t>你不能接受吗？</a:t>
            </a:r>
            <a:r>
              <a:rPr b="1" i="1" lang="zh-CN" sz="2400" spc="-1" strike="noStrike" u="sng">
                <a:solidFill>
                  <a:srgbClr val="cc00cc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2920" y="2057400"/>
            <a:ext cx="812160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99"/>
                </a:solidFill>
                <a:latin typeface="Franklin Gothic Medium"/>
              </a:rPr>
              <a:t>“</a:t>
            </a:r>
            <a:r>
              <a:rPr b="1" i="1" lang="zh-CN" sz="2800" spc="-1" strike="noStrike">
                <a:solidFill>
                  <a:srgbClr val="333399"/>
                </a:solidFill>
                <a:latin typeface="Franklin Gothic Medium"/>
              </a:rPr>
              <a:t>那些有勇气去尝试的人，他们不会输。就算不成功，也可从中学到教训。只有那些没有勇气去尝试的人才是真正的失败者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b8697"/>
                </a:solidFill>
                <a:latin typeface="Franklin Gothic Medium"/>
              </a:rPr>
              <a:t>	</a:t>
            </a:r>
            <a:r>
              <a:rPr b="1" lang="zh-CN" sz="3600" spc="-1" strike="noStrike">
                <a:solidFill>
                  <a:srgbClr val="0b8697"/>
                </a:solidFill>
                <a:latin typeface="Franklin Gothic Medium"/>
              </a:rPr>
              <a:t>	</a:t>
            </a:r>
            <a:r>
              <a:rPr b="1" lang="zh-CN" sz="3600" spc="-1" strike="noStrike">
                <a:solidFill>
                  <a:srgbClr val="0b8697"/>
                </a:solidFill>
                <a:latin typeface="Franklin Gothic Medium"/>
              </a:rPr>
              <a:t>	</a:t>
            </a:r>
            <a:r>
              <a:rPr b="1" lang="zh-CN" sz="2800" spc="-1" strike="noStrike">
                <a:solidFill>
                  <a:srgbClr val="333399"/>
                </a:solidFill>
                <a:latin typeface="Franklin Gothic Medium"/>
              </a:rPr>
              <a:t>	</a:t>
            </a:r>
            <a:r>
              <a:rPr b="1" lang="zh-CN" sz="2800" spc="-1" strike="noStrike">
                <a:solidFill>
                  <a:srgbClr val="333399"/>
                </a:solidFill>
                <a:latin typeface="Franklin Gothic Medium"/>
              </a:rPr>
              <a:t>	</a:t>
            </a:r>
            <a:r>
              <a:rPr b="1" lang="zh-CN" sz="2800" spc="-1" strike="noStrike">
                <a:solidFill>
                  <a:srgbClr val="333399"/>
                </a:solidFill>
                <a:latin typeface="Franklin Gothic Medium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100" spc="-1" strike="noStrike">
                <a:solidFill>
                  <a:srgbClr val="e60d2e"/>
                </a:solidFill>
                <a:latin typeface="Arial"/>
                <a:ea typeface="华文隶书"/>
              </a:rPr>
              <a:t>自信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76680" y="3382560"/>
            <a:ext cx="7867800" cy="30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spcBef>
                <a:spcPts val="799"/>
              </a:spcBef>
              <a:buClr>
                <a:srgbClr val="4747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747e9"/>
                </a:solidFill>
                <a:latin typeface="Arial"/>
                <a:ea typeface="黑体"/>
              </a:rPr>
              <a:t>自信不是自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799"/>
              </a:spcBef>
              <a:buClr>
                <a:srgbClr val="4747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747e9"/>
                </a:solidFill>
                <a:latin typeface="Arial"/>
                <a:ea typeface="黑体"/>
              </a:rPr>
              <a:t>设定合理的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799"/>
              </a:spcBef>
              <a:buClr>
                <a:srgbClr val="4747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747e9"/>
                </a:solidFill>
                <a:latin typeface="Arial"/>
                <a:ea typeface="黑体"/>
              </a:rPr>
              <a:t>多给自己打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424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庆祝每一个小小的成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黑体"/>
              </a:rPr>
              <a:t>从失败中得到自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76320" y="1465200"/>
            <a:ext cx="899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ffff"/>
                </a:solidFill>
                <a:latin typeface="新宋体"/>
                <a:ea typeface="新宋体"/>
              </a:rPr>
              <a:t>“</a:t>
            </a:r>
            <a:r>
              <a:rPr b="1" i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我原来一直是没有自信心的，但是这件事给了我自信。这是我一生中最快乐的经验，散发着一种迷人的力量，一直持续到今天。我发现了天才的全部秘密，其实只有</a:t>
            </a:r>
            <a:r>
              <a:rPr b="1" i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6</a:t>
            </a:r>
            <a:r>
              <a:rPr b="1" i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个字：不要小看自己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	</a:t>
            </a: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	</a:t>
            </a: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	</a:t>
            </a: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	</a:t>
            </a: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	</a:t>
            </a: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52280"/>
            <a:ext cx="3504960" cy="64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未选择的路</a:t>
            </a:r>
            <a:r>
              <a:rPr b="1" lang="zh-CN" sz="1600" spc="-1" strike="noStrike">
                <a:solidFill>
                  <a:srgbClr val="3333cc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Arial"/>
              </a:rPr>
              <a:t>弗罗斯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黄色的树林里分出两条路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可惜我不能同时去涉足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我在那路口久久伫立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我向着一条路极目望去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直到它消失在丛林深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但我却选了另外一条路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它荒草萋萋，十分幽寂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显得更诱人，更美丽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虽然在这条小路上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很少留下旅人的足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914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914400"/>
            <a:ext cx="3809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1066680"/>
            <a:ext cx="35812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那天清晨落叶满地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两条路都未经脚印污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啊，留下一条路等改日再见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但我知道路径延绵无尽头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恐怕我难以再回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也许多少年后在某个地方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我将轻声叹息将往事回顾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一片树林里分出两条路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而我选择了人迹更少的一条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从此决定了我一生的道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100" spc="-1" strike="noStrike">
                <a:solidFill>
                  <a:srgbClr val="6600cc"/>
                </a:solidFill>
                <a:latin typeface="Arial"/>
                <a:ea typeface="华文隶书"/>
              </a:rPr>
              <a:t>自省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87627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90000"/>
              </a:lnSpc>
              <a:spcBef>
                <a:spcPts val="102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ff"/>
                </a:solidFill>
                <a:latin typeface="Arial"/>
              </a:rPr>
              <a:t>自我批评，追求卓越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02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ff"/>
                </a:solidFill>
                <a:latin typeface="Arial"/>
              </a:rPr>
              <a:t>有自知之明，不要不承认错误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02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ff"/>
                </a:solidFill>
                <a:latin typeface="Arial"/>
              </a:rPr>
              <a:t>要进步必须改变自己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100" spc="-1" strike="noStrike">
                <a:solidFill>
                  <a:srgbClr val="ff0000"/>
                </a:solidFill>
                <a:latin typeface="Arial"/>
                <a:ea typeface="华文隶书"/>
              </a:rPr>
              <a:t>胸怀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3644640"/>
            <a:ext cx="876312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230040" indent="-230040">
              <a:spcBef>
                <a:spcPts val="14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600" spc="-1" strike="noStrike" u="sng">
                <a:solidFill>
                  <a:srgbClr val="ff6600"/>
                </a:solidFill>
                <a:uFillTx/>
                <a:latin typeface="Arial"/>
              </a:rPr>
              <a:t>接受那些不能改变的事情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4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600" spc="-1" strike="noStrike" u="sng">
                <a:solidFill>
                  <a:srgbClr val="ff6600"/>
                </a:solidFill>
                <a:uFillTx/>
                <a:latin typeface="Arial"/>
              </a:rPr>
              <a:t>以宽容的心对人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31200" y="2419200"/>
            <a:ext cx="4889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3333cc"/>
                </a:solidFill>
                <a:latin typeface="Franklin Gothic Medium"/>
              </a:rPr>
              <a:t>以责人之心责己，以恕己之心恕人</a:t>
            </a:r>
            <a:r>
              <a:rPr b="1" lang="zh-CN" sz="4000" spc="-1" strike="noStrike">
                <a:solidFill>
                  <a:srgbClr val="3333cc"/>
                </a:solidFill>
                <a:latin typeface="Franklin Gothic Medium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28640" y="2286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100" spc="-1" strike="noStrike">
                <a:solidFill>
                  <a:srgbClr val="ff3300"/>
                </a:solidFill>
                <a:latin typeface="Arial"/>
              </a:rPr>
              <a:t>毅力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51372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83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失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83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经商失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83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选上州参议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835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爱人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836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精神失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838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发表演说失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84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角逐国会议员提名失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846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当选国会议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848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未被再度提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849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想专任地方官失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85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竞选参议员失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856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角逐副总统提名失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858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竞选参议员失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86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：当选总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137200" y="1971720"/>
            <a:ext cx="2857320" cy="3828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692600" y="5816520"/>
            <a:ext cx="3824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Abraham Lincol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152280" y="1252440"/>
            <a:ext cx="4723920" cy="4614480"/>
            <a:chOff x="152280" y="1252440"/>
            <a:chExt cx="4723920" cy="4614480"/>
          </a:xfrm>
        </p:grpSpPr>
        <p:sp>
          <p:nvSpPr>
            <p:cNvPr id="162" name=""/>
            <p:cNvSpPr/>
            <p:nvPr/>
          </p:nvSpPr>
          <p:spPr>
            <a:xfrm>
              <a:off x="152280" y="1252440"/>
              <a:ext cx="4707360" cy="46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42560" y="1782720"/>
              <a:ext cx="1157400" cy="113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42560" y="4131000"/>
              <a:ext cx="1157400" cy="113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7080" y="2954160"/>
              <a:ext cx="1158120" cy="113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53280" y="1675800"/>
              <a:ext cx="1158120" cy="113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25480" y="2996280"/>
              <a:ext cx="1158120" cy="113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55800" y="4272480"/>
              <a:ext cx="1158120" cy="113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73080" y="2070720"/>
              <a:ext cx="13248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20202"/>
                  </a:solidFill>
                  <a:latin typeface="Times New Roman"/>
                </a:rPr>
                <a:t>积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15840" y="4506840"/>
              <a:ext cx="12646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20202"/>
                  </a:solidFill>
                  <a:latin typeface="Times New Roman"/>
                </a:rPr>
                <a:t>自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30080" y="3290040"/>
              <a:ext cx="14461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20202"/>
                  </a:solidFill>
                  <a:latin typeface="Times New Roman"/>
                </a:rPr>
                <a:t>胸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22880" y="4543200"/>
              <a:ext cx="1728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20202"/>
                  </a:solidFill>
                  <a:latin typeface="Times New Roman"/>
                </a:rPr>
                <a:t>换位思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12960" y="1935000"/>
              <a:ext cx="13482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20202"/>
                  </a:solidFill>
                  <a:latin typeface="Times New Roman"/>
                </a:rPr>
                <a:t>自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1680" y="3270240"/>
              <a:ext cx="12618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20202"/>
                  </a:solidFill>
                  <a:latin typeface="Times New Roman"/>
                </a:rPr>
                <a:t>勇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 txBox="1"/>
          <p:nvPr/>
        </p:nvSpPr>
        <p:spPr>
          <a:xfrm>
            <a:off x="301680" y="274680"/>
            <a:ext cx="8385120" cy="97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5</a:t>
            </a:r>
            <a:r>
              <a:rPr b="0" lang="zh-CN" sz="1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、用理智反对片面：择善而从</a:t>
            </a:r>
            <a:endParaRPr b="0" lang="en-US" sz="1800" spc="1" strike="noStrike">
              <a:ln w="1260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1905120" y="2057400"/>
            <a:ext cx="4419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选择入团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1023840"/>
            <a:ext cx="817236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406440"/>
            <a:ext cx="648000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共青团的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共产主义青年团是中国共产党领导的先进青年的群众组织，是广大青年在实践中学习中国特色社会主义和共产主义的学校，是中国共产党的助手和后备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共产主义青年团是中国共产党领导的先进青年的群众组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广大青年在实践中学习中国特色社会主义和共产主义的学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中国共产党的助手和后备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共青团的任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坚定不移地贯彻党在社会主义初级阶段的基本路线，团结带领广大青年，以经济建设为中心，坚持四项基本原则，坚持改革开放，在建设有中国特色社会主义的伟大实践中，造就有理想、有道德、有文化、有纪律的接班人，努力为党输送新鲜血液，为国家培养青年建设人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共青团的建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共青团拥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个基层组织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9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万团员。根据民主集中制的组织原则，建立起从中央到地方直至基层的组织系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共青团中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共青团地方各级委员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共青团的基层组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04920" y="440388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20202"/>
                </a:solidFill>
                <a:latin typeface="Arial"/>
                <a:ea typeface="宋体"/>
              </a:rPr>
              <a:t>老师能够做的不是替我们选择，而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0492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生：一串困难的选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36576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团员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4000" y="1699920"/>
            <a:ext cx="8820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年龄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岁的青年才能申请加入共青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申请入团的青年必须承认团章，积极地履行团员义务，正确地行使团员权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申请入团的青年，必须愿意参加团的一个组织并在其中积极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申请入团的青年在入团后必须执行团的决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申请入团的青年在入团后必须按期向组织交纳团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-305280" y="2361960"/>
            <a:ext cx="838836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spcBef>
                <a:spcPts val="85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33ff"/>
                </a:solidFill>
                <a:latin typeface="Arial"/>
                <a:ea typeface="隶书"/>
              </a:rPr>
              <a:t>慎重选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85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33ff"/>
                </a:solidFill>
                <a:latin typeface="Arial"/>
                <a:ea typeface="隶书"/>
              </a:rPr>
              <a:t>平衡发展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11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Arial"/>
                <a:ea typeface="隶书"/>
              </a:rPr>
              <a:t>梦想成真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129360" y="2995560"/>
            <a:ext cx="3014640" cy="38624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066680" y="0"/>
            <a:ext cx="64771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选择的智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成功的基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62120" y="1600200"/>
            <a:ext cx="769608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传授选择的智慧，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帮助我们找到自己的声音，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能够自己做出智慧的选择！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736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423360"/>
            <a:ext cx="701064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457200" y="2590920"/>
            <a:ext cx="54864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lvl="2"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60d2e"/>
                </a:solidFill>
                <a:latin typeface="Arial"/>
              </a:rPr>
              <a:t>世界不公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7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7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60d2e"/>
                </a:solidFill>
                <a:latin typeface="Arial"/>
              </a:rPr>
              <a:t>我没有时间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7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7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60d2e"/>
                </a:solidFill>
                <a:latin typeface="Arial"/>
              </a:rPr>
              <a:t>不在乎，不必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7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7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60d2e"/>
                </a:solidFill>
                <a:latin typeface="Arial"/>
              </a:rPr>
              <a:t>我实在没有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69080" y="2252520"/>
            <a:ext cx="316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世界不完全公平，但是你可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3284640"/>
            <a:ext cx="6019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是没有时间，是你选择不用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4267080"/>
            <a:ext cx="4496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选择也是一种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25440" y="5257800"/>
            <a:ext cx="2741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至少，你可以选择你的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32720" y="762120"/>
            <a:ext cx="1801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23880" y="423720"/>
            <a:ext cx="5105520" cy="152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真的有选择吗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"/>
          <p:cNvSpPr/>
          <p:nvPr/>
        </p:nvSpPr>
        <p:spPr>
          <a:xfrm>
            <a:off x="2287440" y="3048120"/>
            <a:ext cx="1217880" cy="236520"/>
          </a:xfrm>
          <a:custGeom>
            <a:avLst/>
            <a:gdLst>
              <a:gd name="textAreaLeft" fmla="*/ 163080 w 1217880"/>
              <a:gd name="textAreaRight" fmla="*/ 1054800 w 1217880"/>
              <a:gd name="textAreaTop" fmla="*/ 41400 h 236520"/>
              <a:gd name="textAreaBottom" fmla="*/ 171720 h 23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4038480"/>
            <a:ext cx="533520" cy="228600"/>
          </a:xfrm>
          <a:custGeom>
            <a:avLst/>
            <a:gdLst>
              <a:gd name="textAreaLeft" fmla="*/ 71280 w 533520"/>
              <a:gd name="textAreaRight" fmla="*/ 462240 w 53352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4952880"/>
            <a:ext cx="455400" cy="304920"/>
          </a:xfrm>
          <a:custGeom>
            <a:avLst/>
            <a:gdLst>
              <a:gd name="textAreaLeft" fmla="*/ 60840 w 455400"/>
              <a:gd name="textAreaRight" fmla="*/ 394560 w 455400"/>
              <a:gd name="textAreaTop" fmla="*/ 53280 h 304920"/>
              <a:gd name="textAreaBottom" fmla="*/ 2210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6037200"/>
            <a:ext cx="1217880" cy="381240"/>
          </a:xfrm>
          <a:custGeom>
            <a:avLst/>
            <a:gdLst>
              <a:gd name="textAreaLeft" fmla="*/ 163080 w 1217880"/>
              <a:gd name="textAreaRight" fmla="*/ 1054800 w 121788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52280" y="4114800"/>
            <a:ext cx="8458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你的人生追求又是什么呢？！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33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2057400"/>
            <a:ext cx="60962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你的人生选择是什么呢？！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33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52680" cy="3581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3962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4114800" cy="3276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352680" y="0"/>
            <a:ext cx="2667240" cy="2155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6172200" y="396252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352680" y="2133720"/>
            <a:ext cx="3048120" cy="2057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3352680" y="4038480"/>
            <a:ext cx="2895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304920" y="1905120"/>
            <a:ext cx="3417840" cy="5143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581280" y="-228600"/>
            <a:ext cx="2540160" cy="2413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362320" y="20574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320" y="2286000"/>
            <a:ext cx="1752480" cy="4267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438280" y="304920"/>
            <a:ext cx="2210040" cy="2819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28600" y="838080"/>
            <a:ext cx="1905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毕加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819520" y="3124080"/>
            <a:ext cx="3085920" cy="3657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172200" y="4038480"/>
            <a:ext cx="1676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凡高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876920" y="106668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达芬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2:31:08Z</dcterms:created>
  <dc:creator>微软用户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57:04Z</dcterms:modified>
  <cp:revision>1</cp:revision>
  <dc:subject>主题班会课件(分28大类): http://shop62905894.taobao.com</dc:subject>
  <dc:title>主题班会课件(分28大类): http://shop62905894.taobao.com</dc:title>
</cp:coreProperties>
</file>