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10D-FF42-488A-94C9-0875E96C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240-4596-4B2F-9602-7056767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A87-B0F3-423C-9334-DDAE1098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93B-1404-4A6C-8594-D2604EBC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3A3-12E7-4A82-9C56-EFB37580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DCC-AF6F-447D-B1F9-54EFCD79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131-E415-40BD-AB00-8D781B9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0DD-A500-4360-BA67-B9D8BD10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7E2-17A3-4C15-BC58-D5BFBB57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2E4-CFD7-4AD6-A495-B30B37F1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C1A-BE4B-45CB-9F70-9CBDD43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925-3F83-4722-8479-9E2A420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E8F6-84D6-4709-8E85-60468043E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2880" y="5943600"/>
            <a:ext cx="4191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0"/>
            <a:ext cx="3886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2349360"/>
            <a:ext cx="612144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0cc7"/>
                </a:solidFill>
                <a:latin typeface="仿宋_GB2312"/>
                <a:ea typeface="仿宋_GB2312"/>
              </a:rPr>
              <a:t>适应新环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0cc7"/>
                </a:solidFill>
                <a:latin typeface="仿宋_GB2312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ec0cc7"/>
                </a:solidFill>
                <a:latin typeface="仿宋_GB2312"/>
                <a:ea typeface="仿宋_GB2312"/>
              </a:rPr>
              <a:t>增强自信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76920"/>
            <a:ext cx="1295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74680" y="981000"/>
            <a:ext cx="51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2.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树立信心  加强“四个意识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362320"/>
            <a:ext cx="6400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崇高的目标意识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自主的学习意识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合作的竞争意识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探索的方法意识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9144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（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）崇高的目标意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133720"/>
            <a:ext cx="6477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 Narrow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崇高的理想，是人们精神世界里的太阳。高尚的行为，是这个太阳放射出来的光芒。                                                                （中国锦言）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4572000"/>
            <a:ext cx="605952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1047"/>
                </a:solidFill>
                <a:latin typeface="Arial Narrow"/>
              </a:rPr>
              <a:t> </a:t>
            </a:r>
            <a:r>
              <a:rPr b="0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你进高中的理想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目标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99072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4400" spc="-1" strike="noStrike">
                <a:solidFill>
                  <a:srgbClr val="009999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009999"/>
                </a:solidFill>
                <a:latin typeface="Arial Narrow"/>
              </a:rPr>
              <a:t>2</a:t>
            </a:r>
            <a:r>
              <a:rPr b="1" lang="zh-CN" sz="4400" spc="-1" strike="noStrike">
                <a:solidFill>
                  <a:srgbClr val="009999"/>
                </a:solidFill>
                <a:latin typeface="Arial Narrow"/>
              </a:rPr>
              <a:t>）自主的学习意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981080"/>
            <a:ext cx="44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 Narrow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春是有限的，智慧是无穷的，趁短短的青春，去学无穷的智慧。                           ——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2346120" cy="247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00360" y="4724280"/>
            <a:ext cx="5832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您有否把自己当作主人，       生命的主宰，命运的创造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4400" spc="-1" strike="noStrike">
                <a:solidFill>
                  <a:srgbClr val="009999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009999"/>
                </a:solidFill>
                <a:latin typeface="Arial Narrow"/>
              </a:rPr>
              <a:t>3</a:t>
            </a:r>
            <a:r>
              <a:rPr b="1" lang="zh-CN" sz="4400" spc="-1" strike="noStrike">
                <a:solidFill>
                  <a:srgbClr val="009999"/>
                </a:solidFill>
                <a:latin typeface="Arial Narrow"/>
              </a:rPr>
              <a:t>）合作的竞争意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133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管人努力的目标是什么，不管他干什么，他单抢匹马总是没有力量的。合群永远是一切有善良思想的人的最高需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655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墙角的花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孤芳自赏时。天地便小了。——冰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92360" y="1890720"/>
            <a:ext cx="4800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通向文明社会的今天，人类在呼唤群体意识，人类在唤呼真情，我们要的是团队精神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是人类在精神、情感上对人际交往的永恒的需要，是科技发展本身对人际交往和合作的需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通向成功的需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8954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990720"/>
            <a:ext cx="627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（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4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）探索的方法意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2924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什么是成功的秘诀？   “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=X+Y+Z”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2565360"/>
            <a:ext cx="2971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代表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代表艰苦劳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代表正确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代表少说废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4292640"/>
            <a:ext cx="30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40000" y="2565360"/>
            <a:ext cx="619272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思索，继续不断地思索，以待天曙，渐渐的见及光明……如果说我对世界有些微贡献的话，那不是由于别的，却只是由于我的辛勤耐久的思索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牛顿（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64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727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3.</a:t>
            </a: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把握“五个环节”，养成良好的学习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19280" y="2349000"/>
            <a:ext cx="540072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课前预习，提出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专心听课，做好笔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复习巩固，独立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认真考试，查漏补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课外学习，开阔眼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61840" y="1098720"/>
            <a:ext cx="11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）课前预习，提出疑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51460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高课堂学习质量，准对性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促进自学能力提高，终身受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改变学习被动局面，自主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33480" y="954000"/>
            <a:ext cx="11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）专心听课，做好笔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421000"/>
            <a:ext cx="7010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心身准备，进入学习状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认真观察，把握重点，重于领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积极思考，理清思路，提出疑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记笔记，提高听课效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抓住学科特点，灵活应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762120"/>
            <a:ext cx="78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99cc00"/>
                </a:solidFill>
                <a:latin typeface="Times New Roman"/>
                <a:ea typeface="仿宋_GB2312"/>
              </a:rPr>
              <a:t>高一年级适应能力统计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00200" y="1981080"/>
            <a:ext cx="5834160" cy="3353040"/>
            <a:chOff x="1600200" y="1981080"/>
            <a:chExt cx="5834160" cy="3353040"/>
          </a:xfrm>
        </p:grpSpPr>
        <p:grpSp>
          <p:nvGrpSpPr>
            <p:cNvPr id="49" name=""/>
            <p:cNvGrpSpPr/>
            <p:nvPr/>
          </p:nvGrpSpPr>
          <p:grpSpPr>
            <a:xfrm>
              <a:off x="1604880" y="1984680"/>
              <a:ext cx="5824440" cy="3344400"/>
              <a:chOff x="1604880" y="1984680"/>
              <a:chExt cx="5824440" cy="334440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1604880" y="1984680"/>
                <a:ext cx="1941480" cy="557280"/>
                <a:chOff x="1604880" y="1984680"/>
                <a:chExt cx="1941480" cy="5572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1673280" y="198468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得分段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60488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3546360" y="1984680"/>
                <a:ext cx="1941480" cy="557280"/>
                <a:chOff x="3546360" y="1984680"/>
                <a:chExt cx="1941480" cy="5572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361476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适应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54636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5487840" y="1984680"/>
                <a:ext cx="1941480" cy="557280"/>
                <a:chOff x="5487840" y="1984680"/>
                <a:chExt cx="1941480" cy="5572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55624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人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48784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1604880" y="2541960"/>
                <a:ext cx="1941480" cy="557280"/>
                <a:chOff x="1604880" y="2541960"/>
                <a:chExt cx="1941480" cy="5572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673280" y="254196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3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4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60488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3546360" y="2541960"/>
                <a:ext cx="1941480" cy="557280"/>
                <a:chOff x="3546360" y="2541960"/>
                <a:chExt cx="1941480" cy="557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361476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54636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5487840" y="2541960"/>
                <a:ext cx="1941480" cy="557280"/>
                <a:chOff x="5487840" y="2541960"/>
                <a:chExt cx="1941480" cy="557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55624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8784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1604880" y="3099600"/>
                <a:ext cx="1941480" cy="557280"/>
                <a:chOff x="1604880" y="3099600"/>
                <a:chExt cx="1941480" cy="557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673280" y="30996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29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3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0488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3546360" y="3099600"/>
                <a:ext cx="1941480" cy="557280"/>
                <a:chOff x="3546360" y="3099600"/>
                <a:chExt cx="1941480" cy="5572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61476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良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54636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5487840" y="3099600"/>
                <a:ext cx="1941480" cy="557280"/>
                <a:chOff x="5487840" y="3099600"/>
                <a:chExt cx="1941480" cy="5572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555624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1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48784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1604880" y="3657240"/>
                <a:ext cx="1941480" cy="557280"/>
                <a:chOff x="1604880" y="3657240"/>
                <a:chExt cx="1941480" cy="557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673280" y="365724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17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28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60488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546360" y="3657240"/>
                <a:ext cx="1941480" cy="557280"/>
                <a:chOff x="3546360" y="3657240"/>
                <a:chExt cx="1941480" cy="557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1476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一般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54636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487840" y="3657240"/>
                <a:ext cx="1941480" cy="557280"/>
                <a:chOff x="5487840" y="3657240"/>
                <a:chExt cx="1941480" cy="557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55624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7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48784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604880" y="4214520"/>
                <a:ext cx="1941480" cy="556920"/>
                <a:chOff x="1604880" y="4214520"/>
                <a:chExt cx="1941480" cy="5569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673280" y="4214520"/>
                  <a:ext cx="180468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1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60488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546360" y="4214520"/>
                <a:ext cx="1941480" cy="556920"/>
                <a:chOff x="3546360" y="4214520"/>
                <a:chExt cx="1941480" cy="5569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61476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较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54636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487840" y="4214520"/>
                <a:ext cx="1941480" cy="556920"/>
                <a:chOff x="5487840" y="4214520"/>
                <a:chExt cx="1941480" cy="5569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55624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7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48784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604880" y="4771800"/>
                <a:ext cx="1941480" cy="557280"/>
                <a:chOff x="1604880" y="4771800"/>
                <a:chExt cx="1941480" cy="5572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673280" y="47718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分以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60488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546360" y="4771800"/>
                <a:ext cx="1941480" cy="557280"/>
                <a:chOff x="3546360" y="4771800"/>
                <a:chExt cx="1941480" cy="557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61476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很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54636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487840" y="4771800"/>
                <a:ext cx="1941480" cy="557280"/>
                <a:chOff x="5487840" y="4771800"/>
                <a:chExt cx="1941480" cy="5572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55624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 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仿宋_GB2312"/>
                      <a:ea typeface="仿宋_GB2312"/>
                    </a:rPr>
                    <a:t>4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8784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1600200" y="1981080"/>
              <a:ext cx="5834160" cy="335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80880" y="5410080"/>
            <a:ext cx="851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 Narrow"/>
              </a:rPr>
              <a:t>            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在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221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人中，良好以上占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10.4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％； 一般占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34.8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％；较差以下占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54.8</a:t>
            </a: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33480" y="1098720"/>
            <a:ext cx="11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）复习巩固，独立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286000"/>
            <a:ext cx="8783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尝试回忆。增强记忆，养成思考习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看教科书。勾划要点，写书眉提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整理笔记。正页听课记、副页预习记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选好参考书，灵活掌握时间，扩大知识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高作业质量，增强学习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15480" y="990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）认真考试，查漏补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1989000"/>
            <a:ext cx="7417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能否考出应有水平的三个决定因素：学习（知识）、心理、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怎样才能考出应有水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临考的心身准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临场应有水平的发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考后分析和命题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发扬求真精神，诚实应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583440" y="1125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）课外学习，开阔眼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852640"/>
            <a:ext cx="63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 Narrow"/>
              </a:rPr>
              <a:t>会利用空闲时间学习的人，才是真正会学习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7467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个真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真道德、真知识、真本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四个意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崇高的目标意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自主的学习意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合作的竞争意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探索的方法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47640" y="1125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 Narrow"/>
                <a:ea typeface="仿宋_GB2312"/>
              </a:rPr>
              <a:t>五个环节：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2349360"/>
            <a:ext cx="702936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2f4ef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课前预习，提出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专心听课，做好笔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复习巩固，独立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认真考试，查漏补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课外学习，开阔眼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76360" y="981000"/>
            <a:ext cx="37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 Narrow"/>
                <a:ea typeface="仿宋_GB2312"/>
              </a:rPr>
              <a:t>赠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981080"/>
            <a:ext cx="6400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生就像一本书。傻瓜们走马看花似地随手翻阅它，聪明的人用心地阅读它。因为他知道这本书只能读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——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保罗（德国作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9320" y="2276640"/>
            <a:ext cx="66294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 Narrow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春是有限的，智慧是无穷的，趁短短的青春，去学无穷的智慧。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高尔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适应新环境  增强自信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2276640"/>
            <a:ext cx="73915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进入高一级学校，有哪些不适应的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Narrow"/>
                <a:ea typeface="仿宋_GB2312"/>
              </a:rPr>
              <a:t>产生不适应的原因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为什么要学会适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怎样适应高中的学习生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2205000"/>
            <a:ext cx="5410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教师的不适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课程加深的不适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学习方式的不适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活动内容的不适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自己位置变化的不适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46800" y="206064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5308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125d4"/>
                </a:solidFill>
                <a:latin typeface="Arial Narrow"/>
              </a:rPr>
              <a:t>烦恼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一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进入高一级学校后，有那些不适应的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67240" y="1598400"/>
            <a:ext cx="40384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1004760"/>
            <a:ext cx="7189920" cy="31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二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产生不适应的原因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由于</a:t>
            </a:r>
            <a:r>
              <a:rPr b="0" lang="zh-CN" sz="3200" spc="-1" strike="noStrike">
                <a:solidFill>
                  <a:srgbClr val="ec0cc7"/>
                </a:solidFill>
                <a:latin typeface="仿宋_GB2312"/>
                <a:ea typeface="仿宋_GB2312"/>
              </a:rPr>
              <a:t>环境的变化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使已有的</a:t>
            </a:r>
            <a:r>
              <a:rPr b="0" lang="zh-CN" sz="3200" spc="-1" strike="noStrike">
                <a:solidFill>
                  <a:srgbClr val="ec0cc7"/>
                </a:solidFill>
                <a:latin typeface="仿宋_GB2312"/>
                <a:ea typeface="仿宋_GB2312"/>
              </a:rPr>
              <a:t>心理定势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</a:t>
            </a:r>
            <a:r>
              <a:rPr b="0" lang="zh-CN" sz="3200" spc="-1" strike="noStrike">
                <a:solidFill>
                  <a:srgbClr val="ec0cc7"/>
                </a:solidFill>
                <a:latin typeface="仿宋_GB2312"/>
                <a:ea typeface="仿宋_GB2312"/>
              </a:rPr>
              <a:t>全新的信息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输入不相符合，使之在心理上产生不平衡的缘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新的学习环境中出现不适应的现象是</a:t>
            </a:r>
            <a:r>
              <a:rPr b="0" lang="zh-CN" sz="3200" spc="-1" strike="noStrike">
                <a:solidFill>
                  <a:srgbClr val="ec0cc7"/>
                </a:solidFill>
                <a:latin typeface="仿宋_GB2312"/>
                <a:ea typeface="仿宋_GB2312"/>
              </a:rPr>
              <a:t>难免的，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时也是</a:t>
            </a:r>
            <a:r>
              <a:rPr b="0" lang="zh-CN" sz="3200" spc="-1" strike="noStrike">
                <a:solidFill>
                  <a:srgbClr val="ec0cc7"/>
                </a:solidFill>
                <a:latin typeface="仿宋_GB2312"/>
                <a:ea typeface="仿宋_GB2312"/>
              </a:rPr>
              <a:t>必要的。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应该知道烦恼将促使我们成长，预示着我们走向成熟，它将激发我们的斗志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1028880"/>
            <a:ext cx="8353440" cy="35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三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为什么要学会适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的整个历史也无非是人类本性不断改变而已。”             ——马克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环境是客观存在，多变的环境不会以个人的意愿而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有改变和调节自身，来适应赖以生活的社会环境，从而实现自我，获得自身存在的价值。</a:t>
            </a:r>
            <a:r>
              <a:rPr b="0" lang="zh-CN" sz="28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此学会适应，是个体生存和发展的前提，是人生的必修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四</a:t>
            </a:r>
            <a:r>
              <a:rPr b="1" lang="zh-CN" sz="40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.</a:t>
            </a:r>
            <a:r>
              <a:rPr b="1" lang="zh-CN" sz="40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怎样适应高中的学习生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26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2840" y="2358720"/>
            <a:ext cx="4794480" cy="29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千教万教教人求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千学万学学做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——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陶行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2133720"/>
            <a:ext cx="484344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明确目标，学做真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树立信心，加强“四个意识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握“五个环节”，养成良好的学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9144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ahoma"/>
                <a:ea typeface="仿宋_GB2312"/>
              </a:rPr>
              <a:t>和新同学交流三个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2880" y="3124080"/>
            <a:ext cx="3962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93920" y="914400"/>
            <a:ext cx="375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明确目标  学做真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20574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真人”是指具有完美人格与高超本领的人，是指说真话、办真事、求真知、为真理而奋斗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365720"/>
            <a:ext cx="67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培养自己成为具有真道德、真知识、真本领的全面发展的“四有”新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bai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31:05Z</dcterms:modified>
  <cp:revision>43</cp:revision>
  <dc:subject>主题班会课件(分28大类): http://shop62905894.taobao.com</dc:subject>
  <dc:title>主题班会课件(分28大类): http://shop62905894.taobao.com</dc:title>
</cp:coreProperties>
</file>