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E6BB-452E-4A6C-B24C-D733E8C54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403B-26B0-451C-AEAB-A8AE6DC6F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6606-3F81-4E23-9241-FEF90A2AA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0C6D-AA90-485B-86E6-BB8CF0F1A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321C-4AA6-43D6-B1B0-02BF94FBB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4B42-0F05-45F8-BEED-DDB858D3F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EB90-AF5B-46D4-94EF-416AC2788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5421-C8B5-42FF-84CA-4019BACE8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8557-E751-4263-9402-52C34671B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C0A3-E256-4FBF-B33A-5E7EAFA3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E61D-EF09-48D7-A362-BCCB7A90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5D0A-8FC6-4579-91D1-D518CAD2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F5C75-8B33-47C5-AD5F-51B49B051C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08360" y="1905120"/>
            <a:ext cx="6516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它给人积极进取的勇气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激励发挥自己的最大潜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没有进取心就没有动力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就 会 失  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30360" y="1461960"/>
            <a:ext cx="347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进取心是成功的要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1584360"/>
            <a:ext cx="1219320" cy="375156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0800" y="7462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小实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" dur="3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865400" y="1295280"/>
            <a:ext cx="103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、谈谈长跑的经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58120" y="2286000"/>
            <a:ext cx="4278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50021"/>
                </a:solidFill>
                <a:latin typeface="Times New Roman"/>
              </a:rPr>
              <a:t>讨论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你的激励卡上写的奋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目标是谁？有没有实现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请同学谈谈自己的体会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11160" y="2041560"/>
            <a:ext cx="87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一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、确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792680" y="0"/>
            <a:ext cx="64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《进取心是成功的要素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523120" y="549360"/>
            <a:ext cx="27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高一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主题班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96520" y="609480"/>
            <a:ext cx="1879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成功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过程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96520" y="609480"/>
            <a:ext cx="1879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成功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过程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92560" y="2041560"/>
            <a:ext cx="145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一、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确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93840" y="14320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50021"/>
                </a:solidFill>
                <a:latin typeface="Times New Roman"/>
              </a:rPr>
              <a:t>小结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97360" y="2346480"/>
            <a:ext cx="41432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可以先定一个大目标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再将这个目标分解成一个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小目标，然后再一个目标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个目标地去突破，像登阶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一样一步一步达到目标。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这样的方法永远保持进取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920" y="2819520"/>
            <a:ext cx="99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二、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保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92680" y="0"/>
            <a:ext cx="64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《进取心是成功的要素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23120" y="549360"/>
            <a:ext cx="27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高一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主题班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75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92560" y="2041560"/>
            <a:ext cx="145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一、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确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90920" y="2819520"/>
            <a:ext cx="99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二、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保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88120" y="1216080"/>
            <a:ext cx="4278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根据自己或同学的实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情况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给自己或别人定下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目标有没有实现呢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792680" y="0"/>
            <a:ext cx="64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《进取心是成功的要素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23120" y="549360"/>
            <a:ext cx="27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高一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主题班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96520" y="609480"/>
            <a:ext cx="1879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成功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过程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840760" y="1295280"/>
            <a:ext cx="105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50021"/>
                </a:solidFill>
                <a:latin typeface="Times New Roman"/>
              </a:rPr>
              <a:t>总结</a:t>
            </a:r>
            <a:r>
              <a:rPr b="0" lang="zh-CN" sz="4000" spc="-1" strike="noStrike">
                <a:solidFill>
                  <a:srgbClr val="a50021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75160" y="1981080"/>
            <a:ext cx="4450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如果你觉得自己已经取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一些成功，那么请你不断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力，向更高的目标前进。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果你不够成功，请你不要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心，永远保持进取心，相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你一定会取得成功的！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92560" y="2041560"/>
            <a:ext cx="145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一、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确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90920" y="2819520"/>
            <a:ext cx="99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二、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保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88040" y="3489480"/>
            <a:ext cx="99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三、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成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92680" y="0"/>
            <a:ext cx="64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《进取心是成功的要素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23120" y="549360"/>
            <a:ext cx="27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高一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主题班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96520" y="609480"/>
            <a:ext cx="1879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成功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过程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806640" y="2421000"/>
            <a:ext cx="401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现在我们再来看看我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的兔子到底最后会怎样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92560" y="2041560"/>
            <a:ext cx="145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一、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确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90920" y="2819520"/>
            <a:ext cx="99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二、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保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88040" y="3489480"/>
            <a:ext cx="99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三、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成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792680" y="0"/>
            <a:ext cx="64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《进取心是成功的要素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23120" y="549360"/>
            <a:ext cx="27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高一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主题班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075440" y="3087720"/>
            <a:ext cx="1600200" cy="1565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96520" y="609480"/>
            <a:ext cx="1879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成功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过程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5029560" y="6172200"/>
            <a:ext cx="32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高一（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）主题班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27920" y="1413000"/>
            <a:ext cx="8891640" cy="32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同学们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当你迟疑时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请记住—</a:t>
            </a:r>
            <a:r>
              <a:rPr b="0" lang="zh-CN" sz="4400" spc="-1" strike="noStrike">
                <a:solidFill>
                  <a:srgbClr val="a50021"/>
                </a:solidFill>
                <a:latin typeface="Times New Roman"/>
                <a:ea typeface="隶书"/>
              </a:rPr>
              <a:t>事在人为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当你松懈时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请记住—</a:t>
            </a:r>
            <a:r>
              <a:rPr b="0" lang="zh-CN" sz="4400" spc="-1" strike="noStrike">
                <a:solidFill>
                  <a:srgbClr val="a50021"/>
                </a:solidFill>
                <a:latin typeface="Times New Roman"/>
                <a:ea typeface="隶书"/>
              </a:rPr>
              <a:t>功在不舍。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1082520" y="0"/>
            <a:ext cx="10226160" cy="7865640"/>
            <a:chOff x="-1082520" y="0"/>
            <a:chExt cx="10226160" cy="7865640"/>
          </a:xfrm>
        </p:grpSpPr>
        <p:sp>
          <p:nvSpPr>
            <p:cNvPr id="46" name=""/>
            <p:cNvSpPr/>
            <p:nvPr/>
          </p:nvSpPr>
          <p:spPr>
            <a:xfrm>
              <a:off x="-253440" y="0"/>
              <a:ext cx="9397080" cy="7018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1"/>
            <a:stretch/>
          </p:blipFill>
          <p:spPr>
            <a:xfrm>
              <a:off x="-1082520" y="3412440"/>
              <a:ext cx="1987920" cy="225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-1082520" y="4725360"/>
              <a:ext cx="5041080" cy="314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"/>
          <p:cNvSpPr/>
          <p:nvPr/>
        </p:nvSpPr>
        <p:spPr>
          <a:xfrm>
            <a:off x="1490760" y="41112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50021"/>
                </a:solidFill>
                <a:latin typeface="Times New Roman"/>
              </a:rPr>
              <a:t>我们的特点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66800" y="11970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血气方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63640" y="1916280"/>
            <a:ext cx="7380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65280" y="200664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做事情喜欢追求新鲜的东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06520" y="270828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容易受到鼓舞，产生激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12960" y="3573360"/>
            <a:ext cx="47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喜欢追求新奇而又缺乏坚持的精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86320" y="4383000"/>
            <a:ext cx="47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宝贵的激情容易被情绪起落耗费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4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500"/>
                            </p:stCondLst>
                            <p:childTnLst>
                              <p:par>
                                <p:cTn id="28" nodeType="afterEffect" fill="hold" presetClass="entr" presetID="4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8000"/>
                            </p:stCondLst>
                            <p:childTnLst>
                              <p:par>
                                <p:cTn id="32" nodeType="afterEffect" fill="hold" presetClass="entr" presetID="4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1500"/>
                            </p:stCondLst>
                            <p:childTnLst>
                              <p:par>
                                <p:cTn id="36" nodeType="afterEffect" fill="hold" presetClass="entr" presetID="4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 rot="21226800">
            <a:off x="1523880" y="837720"/>
            <a:ext cx="5867640" cy="312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进取心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7" name=""/>
          <p:cNvSpPr/>
          <p:nvPr/>
        </p:nvSpPr>
        <p:spPr>
          <a:xfrm>
            <a:off x="4710960" y="4495680"/>
            <a:ext cx="26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是成功的要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29560" y="6172200"/>
            <a:ext cx="32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高一（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）主题班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22200" y="762120"/>
            <a:ext cx="692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Times New Roman"/>
              </a:rPr>
              <a:t>讲述《成功的秘诀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05960" y="1736640"/>
            <a:ext cx="54460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某班一位不太显眼，平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又有点腼腆的男同学，开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初的数学成绩并不太拔尖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但经过不断的努力，终于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一次期中考试中勇夺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学科的全级第二名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班内第二名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75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721880" y="762120"/>
            <a:ext cx="4715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50021"/>
                </a:solidFill>
                <a:latin typeface="Times New Roman"/>
              </a:rPr>
              <a:t>讨论</a:t>
            </a:r>
            <a:r>
              <a:rPr b="0" lang="zh-CN" sz="4000" spc="-1" strike="noStrike">
                <a:solidFill>
                  <a:srgbClr val="a50021"/>
                </a:solidFill>
                <a:latin typeface="Times New Roman"/>
              </a:rPr>
              <a:t>1</a:t>
            </a:r>
            <a:r>
              <a:rPr b="0" lang="zh-CN" sz="4000" spc="-1" strike="noStrike">
                <a:solidFill>
                  <a:srgbClr val="a50021"/>
                </a:solidFill>
                <a:latin typeface="Times New Roman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这位同学取得成功的原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是什么呢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93840" y="3260880"/>
            <a:ext cx="4130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有的同学认为，我很有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取心，但我天生就笨，不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能取得成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900440" y="76212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66"/>
                </a:solidFill>
                <a:latin typeface="Times New Roman"/>
              </a:rPr>
              <a:t>近代比较权威的看法是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-88200" y="1400040"/>
            <a:ext cx="9809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</a:t>
            </a:r>
            <a:r>
              <a:rPr b="0" lang="zh-CN" sz="3900" spc="-1" strike="noStrike">
                <a:solidFill>
                  <a:srgbClr val="000000"/>
                </a:solidFill>
                <a:latin typeface="Times New Roman"/>
                <a:ea typeface="隶书"/>
              </a:rPr>
              <a:t>正常人只运用了自身潜力的</a:t>
            </a:r>
            <a:r>
              <a:rPr b="0" lang="zh-CN" sz="3900" spc="-1" strike="noStrike">
                <a:solidFill>
                  <a:srgbClr val="ff3300"/>
                </a:solidFill>
                <a:latin typeface="Times New Roman"/>
                <a:ea typeface="隶书"/>
              </a:rPr>
              <a:t>2%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000000"/>
                </a:solidFill>
                <a:latin typeface="Times New Roman"/>
                <a:ea typeface="隶书"/>
              </a:rPr>
              <a:t>至</a:t>
            </a:r>
            <a:r>
              <a:rPr b="0" lang="zh-CN" sz="3900" spc="-1" strike="noStrike">
                <a:solidFill>
                  <a:srgbClr val="ff3300"/>
                </a:solidFill>
                <a:latin typeface="Times New Roman"/>
                <a:ea typeface="隶书"/>
              </a:rPr>
              <a:t>5%</a:t>
            </a:r>
            <a:r>
              <a:rPr b="0" lang="zh-CN" sz="3900" spc="-1" strike="noStrike">
                <a:solidFill>
                  <a:srgbClr val="000000"/>
                </a:solidFill>
                <a:latin typeface="Times New Roman"/>
                <a:ea typeface="隶书"/>
              </a:rPr>
              <a:t>，也就是说，</a:t>
            </a:r>
            <a:r>
              <a:rPr b="0" lang="zh-CN" sz="3900" spc="-1" strike="noStrike">
                <a:solidFill>
                  <a:srgbClr val="ff3300"/>
                </a:solidFill>
                <a:latin typeface="Times New Roman"/>
                <a:ea typeface="隶书"/>
              </a:rPr>
              <a:t>最成功的人只运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ff3300"/>
                </a:solidFill>
                <a:latin typeface="Times New Roman"/>
                <a:ea typeface="隶书"/>
              </a:rPr>
              <a:t>用了自身潜力的</a:t>
            </a:r>
            <a:r>
              <a:rPr b="0" lang="zh-CN" sz="3900" spc="-1" strike="noStrike">
                <a:solidFill>
                  <a:srgbClr val="ff3300"/>
                </a:solidFill>
                <a:latin typeface="Times New Roman"/>
                <a:ea typeface="隶书"/>
              </a:rPr>
              <a:t>5%</a:t>
            </a:r>
            <a:r>
              <a:rPr b="0" lang="zh-CN" sz="3900" spc="-1" strike="noStrike">
                <a:solidFill>
                  <a:srgbClr val="000000"/>
                </a:solidFill>
                <a:latin typeface="Times New Roman"/>
                <a:ea typeface="隶书"/>
              </a:rPr>
              <a:t>。</a:t>
            </a:r>
            <a:r>
              <a:rPr b="0" lang="zh-CN" sz="3900" spc="-1" strike="noStrike">
                <a:solidFill>
                  <a:srgbClr val="000000"/>
                </a:solidFill>
                <a:latin typeface="Times New Roman"/>
                <a:ea typeface="隶书"/>
              </a:rPr>
              <a:t>苏联学者做了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</a:t>
            </a:r>
            <a:r>
              <a:rPr b="0" lang="zh-CN" sz="3900" spc="-1" strike="noStrike">
                <a:solidFill>
                  <a:srgbClr val="000000"/>
                </a:solidFill>
                <a:latin typeface="Times New Roman"/>
                <a:ea typeface="隶书"/>
              </a:rPr>
              <a:t>一个形象的比喻，一个正常人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    </a:t>
            </a:r>
            <a:r>
              <a:rPr b="0" lang="zh-CN" sz="3900" spc="-1" strike="noStrike">
                <a:solidFill>
                  <a:srgbClr val="000000"/>
                </a:solidFill>
                <a:latin typeface="Times New Roman"/>
                <a:ea typeface="隶书"/>
              </a:rPr>
              <a:t>如果发挥了自身潜力的一半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           </a:t>
            </a:r>
            <a:r>
              <a:rPr b="0" lang="zh-CN" sz="3900" spc="-1" strike="noStrike">
                <a:solidFill>
                  <a:srgbClr val="000000"/>
                </a:solidFill>
                <a:latin typeface="Times New Roman"/>
                <a:ea typeface="隶书"/>
              </a:rPr>
              <a:t>，那么他可以将叠起来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              </a:t>
            </a:r>
            <a:r>
              <a:rPr b="0" lang="zh-CN" sz="3900" spc="-1" strike="noStrike">
                <a:solidFill>
                  <a:srgbClr val="000000"/>
                </a:solidFill>
                <a:latin typeface="Times New Roman"/>
                <a:ea typeface="隶书"/>
              </a:rPr>
              <a:t>几个人厚的全苏百科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                   </a:t>
            </a:r>
            <a:r>
              <a:rPr b="0" lang="zh-CN" sz="3900" spc="-1" strike="noStrike">
                <a:solidFill>
                  <a:srgbClr val="000000"/>
                </a:solidFill>
                <a:latin typeface="Times New Roman"/>
                <a:ea typeface="隶书"/>
              </a:rPr>
              <a:t>全书背得滚瓜烂熟。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75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080160" y="1219320"/>
            <a:ext cx="159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50021"/>
                </a:solidFill>
                <a:latin typeface="Times New Roman"/>
              </a:rPr>
              <a:t>讨论</a:t>
            </a:r>
            <a:r>
              <a:rPr b="0" lang="zh-CN" sz="4000" spc="-1" strike="noStrike">
                <a:solidFill>
                  <a:srgbClr val="a50021"/>
                </a:solidFill>
                <a:latin typeface="Times New Roman"/>
              </a:rPr>
              <a:t>2</a:t>
            </a:r>
            <a:r>
              <a:rPr b="0" lang="zh-CN" sz="4000" spc="-1" strike="noStrike">
                <a:solidFill>
                  <a:srgbClr val="a50021"/>
                </a:solidFill>
                <a:latin typeface="Times New Roman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1660680"/>
            <a:ext cx="5569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看一看，想一想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联系自己或同学的实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情况说说想法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61960" y="4114800"/>
            <a:ext cx="5179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别人能做到的事，我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自己也一定能做到，相信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己，只要坚持不懈地积极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取，就一定会获得成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56480" y="342900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50021"/>
                </a:solidFill>
                <a:latin typeface="Times New Roman"/>
              </a:rPr>
              <a:t>小结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11160" y="2041560"/>
            <a:ext cx="87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一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、确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92680" y="0"/>
            <a:ext cx="64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《进取心是成功的要素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523120" y="549360"/>
            <a:ext cx="27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高一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主题班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96520" y="609480"/>
            <a:ext cx="1879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成功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过程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911160" y="2041560"/>
            <a:ext cx="87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一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、确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77480" y="1182600"/>
            <a:ext cx="66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66"/>
                </a:solidFill>
                <a:latin typeface="Times New Roman"/>
              </a:rPr>
              <a:t>三、学习保持进取心的方法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76360" y="2133720"/>
            <a:ext cx="390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、请听这样的一个故事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96200" y="2955960"/>
            <a:ext cx="313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imes New Roman"/>
                <a:ea typeface="隶书"/>
              </a:rPr>
              <a:t>《一壶</a:t>
            </a:r>
            <a:r>
              <a:rPr b="0" lang="zh-CN" sz="4000" spc="-1" strike="noStrike">
                <a:solidFill>
                  <a:srgbClr val="333399"/>
                </a:solidFill>
                <a:latin typeface="Times New Roman"/>
                <a:ea typeface="隶书"/>
              </a:rPr>
              <a:t>[</a:t>
            </a:r>
            <a:r>
              <a:rPr b="0" lang="zh-CN" sz="4000" spc="-1" strike="noStrike">
                <a:solidFill>
                  <a:srgbClr val="333399"/>
                </a:solidFill>
                <a:latin typeface="Times New Roman"/>
                <a:ea typeface="隶书"/>
              </a:rPr>
              <a:t>救命水</a:t>
            </a:r>
            <a:r>
              <a:rPr b="0" lang="zh-CN" sz="4000" spc="-1" strike="noStrike">
                <a:solidFill>
                  <a:srgbClr val="333399"/>
                </a:solidFill>
                <a:latin typeface="Times New Roman"/>
                <a:ea typeface="隶书"/>
              </a:rPr>
              <a:t>]</a:t>
            </a:r>
            <a:r>
              <a:rPr b="0" lang="zh-CN" sz="4000" spc="-1" strike="noStrike">
                <a:solidFill>
                  <a:srgbClr val="333399"/>
                </a:solidFill>
                <a:latin typeface="Times New Roman"/>
                <a:ea typeface="隶书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240880" y="5318280"/>
            <a:ext cx="2065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、问题：为何只有六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生存。其中一人会死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792680" y="0"/>
            <a:ext cx="64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《进取心是成功的要素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523120" y="549360"/>
            <a:ext cx="27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高一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主题班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96520" y="609480"/>
            <a:ext cx="1879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成功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过程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907160" y="4419720"/>
            <a:ext cx="213120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</a:rPr>
              <a:t>故事人物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大副杰克逊、拳手道格拉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爱丽斯夫人、克劳林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819520" y="3505320"/>
            <a:ext cx="533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</a:rPr>
              <a:t>故事时间、地点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五十年前，                          大西洋   、詹姆斯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11160" y="2041560"/>
            <a:ext cx="87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一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、确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227480" y="1219320"/>
            <a:ext cx="322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66"/>
                </a:solidFill>
                <a:latin typeface="Times New Roman"/>
              </a:rPr>
              <a:t>3</a:t>
            </a:r>
            <a:r>
              <a:rPr b="0" lang="zh-CN" sz="4000" spc="-1" strike="noStrike">
                <a:solidFill>
                  <a:srgbClr val="000066"/>
                </a:solidFill>
                <a:latin typeface="Times New Roman"/>
              </a:rPr>
              <a:t>、有了进取心，那么如何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66"/>
                </a:solidFill>
                <a:latin typeface="Times New Roman"/>
              </a:rPr>
              <a:t>保持进取心呢？讨论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67480" y="2514600"/>
            <a:ext cx="4031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）你在哪些方面区取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过成功，说说你成功后的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觉以后打算怎么做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10240" y="4632480"/>
            <a:ext cx="4031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）如果你某一方面不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理想，请大家帮你想想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法，如何保持进取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92680" y="0"/>
            <a:ext cx="64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《进取心是成功的要素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523120" y="549360"/>
            <a:ext cx="27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高一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主题班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96520" y="609480"/>
            <a:ext cx="1879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成功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过程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02:36:13Z</dcterms:created>
  <dc:creator>微软用户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5:59:21Z</dcterms:modified>
  <cp:revision>1</cp:revision>
  <dc:subject>主题班会课件(分28大类): http://shop62905894.taobao.com</dc:subject>
  <dc:title>主题班会课件(分28大类): http://shop62905894.taobao.com</dc:title>
</cp:coreProperties>
</file>