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19.png" ContentType="image/png"/>
  <Override PartName="/ppt/media/image21.wmf" ContentType="image/x-wmf"/>
  <Override PartName="/ppt/media/type.wav" ContentType="audio/x-wav"/>
  <Override PartName="/ppt/media/image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4.png" ContentType="image/png"/>
  <Override PartName="/ppt/media/image8.jpeg" ContentType="image/jpeg"/>
  <Override PartName="/ppt/media/image13.wmf" ContentType="image/x-wmf"/>
  <Override PartName="/ppt/media/image25.wmf" ContentType="image/x-wmf"/>
  <Override PartName="/ppt/media/image26.png" ContentType="image/png"/>
  <Override PartName="/ppt/media/image5.png" ContentType="image/png"/>
  <Override PartName="/ppt/media/applause.wav" ContentType="audio/x-wav"/>
  <Override PartName="/ppt/media/image28.wmf" ContentType="image/x-wmf"/>
  <Override PartName="/ppt/media/image15.wmf" ContentType="image/x-wmf"/>
  <Override PartName="/ppt/media/image7.png" ContentType="image/png"/>
  <Override PartName="/ppt/media/image27.wmf" ContentType="image/x-wmf"/>
  <Override PartName="/ppt/media/image31.png" ContentType="image/png"/>
  <Override PartName="/ppt/media/image34.wmf" ContentType="image/x-wmf"/>
  <Override PartName="/ppt/media/image35.wmf" ContentType="image/x-wmf"/>
  <Override PartName="/ppt/media/image30.wmf" ContentType="image/x-wmf"/>
  <Override PartName="/ppt/media/drumroll.wav" ContentType="audio/x-wav"/>
  <Override PartName="/ppt/media/image4.jpeg" ContentType="image/jpeg"/>
  <Override PartName="/ppt/media/image10.wmf" ContentType="image/x-wmf"/>
  <Override PartName="/ppt/media/cashreg.wav" ContentType="audio/x-wav"/>
  <Override PartName="/ppt/media/image29.jpeg" ContentType="image/jpeg"/>
  <Override PartName="/ppt/media/image33.wmf" ContentType="image/x-wmf"/>
  <Override PartName="/ppt/media/image3.wmf" ContentType="image/x-wmf"/>
  <Override PartName="/ppt/media/image2.wmf" ContentType="image/x-wmf"/>
  <Override PartName="/ppt/media/chimes.wav" ContentType="audio/x-wav"/>
  <Override PartName="/ppt/media/image9.jpeg" ContentType="image/jpeg"/>
  <Override PartName="/ppt/media/image11.jpeg" ContentType="image/jpeg"/>
  <Override PartName="/ppt/media/image23.wmf" ContentType="image/x-wmf"/>
  <Override PartName="/ppt/media/image1.wmf" ContentType="image/x-wmf"/>
  <Override PartName="/ppt/media/image24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  <p:custShowLst>
    <p:custShow name="1" id="0">
      <p:sldLst>
        <p:sld r:id="rId7"/>
        <p:sld r:id="rId8"/>
        <p:sld r:id="rId9"/>
        <p:sld r:id="rId10"/>
        <p:sld r:id="rId11"/>
      </p:sldLst>
    </p:custShow>
    <p:custShow name="2" id="1">
      <p:sldLst>
        <p:sld r:id="rId12"/>
        <p:sld r:id="rId13"/>
      </p:sldLst>
    </p:custShow>
    <p:custShow name="3" id="2">
      <p:sldLst>
        <p:sld r:id="rId14"/>
        <p:sld r:id="rId15"/>
      </p:sldLst>
    </p:custShow>
    <p:custShow name="4" id="3">
      <p:sldLst>
        <p:sld r:id="rId16"/>
        <p:sld r:id="rId17"/>
      </p:sldLst>
    </p:custShow>
    <p:custShow name="5" id="4">
      <p:sldLst>
        <p:sld r:id="rId18"/>
        <p:sld r:id="rId19"/>
      </p:sldLst>
    </p:custShow>
    <p:custShow name="6" id="5">
      <p:sldLst>
        <p:sld r:id="rId20"/>
        <p:sld r:id="rId21"/>
      </p:sldLst>
    </p:custShow>
    <p:custShow name="7" id="6">
      <p:sldLst>
        <p:sld r:id="rId22"/>
        <p:sld r:id="rId23"/>
      </p:sldLst>
    </p:custShow>
    <p:custShow name="8" id="7">
      <p:sldLst>
        <p:sld r:id="rId24"/>
      </p:sldLst>
    </p:custShow>
    <p:custShow name="9" id="8">
      <p:sldLst>
        <p:sld r:id="rId25"/>
        <p:sld r:id="rId26"/>
      </p:sldLst>
    </p:custShow>
    <p:custShow name="10" id="9">
      <p:sldLst>
        <p:sld r:id="rId27"/>
        <p:sld r:id="rId28"/>
      </p:sldLst>
    </p:custShow>
    <p:custShow name="11" id="10">
      <p:sldLst>
        <p:sld r:id="rId29"/>
        <p:sld r:id="rId30"/>
      </p:sldLst>
    </p:custShow>
    <p:custShow name="12" id="11">
      <p:sldLst>
        <p:sld r:id="rId33"/>
      </p:sldLst>
    </p:custShow>
    <p:custShow name="13" id="12">
      <p:sldLst>
        <p:sld r:id="rId34"/>
      </p:sldLst>
    </p:custShow>
    <p:custShow name="14" id="13">
      <p:sldLst>
        <p:sld r:id="rId35"/>
        <p:sld r:id="rId3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39E0-E2B7-44AA-A1F9-E3DFB5AE48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以开火车猜数字的形式（同学随意地猜，老师做出或高了或低了的判断，最后猜到答案）来加深学生对这些数字的印象，从而得出：不懈努力</a:t>
            </a:r>
            <a:r>
              <a:rPr b="0" lang="zh-CN" sz="700" spc="-1" strike="noStrike">
                <a:solidFill>
                  <a:srgbClr val="000000"/>
                </a:solidFill>
                <a:latin typeface="Times New Roman"/>
              </a:rPr>
              <a:t>是达到成功彼岸的桥梁。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讲述邓亚萍的故事让学生体会竞争的真正意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指导学生树立积极竞争心理素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激发学生发掘自己潜能的欲望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学生自己学习创新品质并举例说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列举消极心态，让学生进行反思：什么是积极的心态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让学生认知积极心态的主要标志并朝这个方向努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由这三个“不如”引发学生对金钱的辩论，最后树立正确的金钱观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通过这一原则，再次教育学生何谓正确的金钱观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运用类似练马步的小游戏来考验学生的意志力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学生自己列举成功者的意志力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让学生谈自己心中的成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教学生一些正确对待挫折的方法，使他们勇敢的面对挫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听班中的部分善于学习的学生讲他们的学习方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强调交际的重要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讲解培养交际能力的方法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通过现场模拟一次面试来巩固交际技巧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猜谜语，知道时间的重要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逐一讲授科学统筹时间的方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通过这四句话突出恪守信用的重要性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三个提问，让学生依次做出选择，了解学生对守信的认识，同时激发他们的好奇心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然后用小品的形式来再现真实故事，引发学生的领悟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个脚印代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个成功的因素，每一个脚印上的数字连接一个主题。由学生自己思考成功的因素，学生想到那里，讲那里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通过说、谈、讲，让学生自己学会耐得挫折，也进一步增进同学之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机遇，相对而言，学生的理解不深刻，体会不真切，因此简单地说明一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段美丽的文字描述美丽的友谊，激发学生对真挚友谊的向往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使学生以真诚、互助、平等、宽容、守信的原则建立友谊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总结成功的因素，对因时间而未讲解的主题，作简单的说明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邀请佳宾谈自己的成功之路，成功的感受，解答同学的疑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结束语。再次激励学生向成功迈进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让学生明白成功的第一步是认识自我，包括自己的身体和家庭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着幻灯的放映，让学生来猜他是谁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同前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通过让学生来介绍牛顿、毛泽东、周恩来、刘墉的出生，是他们认识到成功关键是自己不断的追求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首小诗，渲染气氛，也让学生知道我们应在认识自我的基础上塑造自我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名人名言告诉学生立志的重要性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C46-F684-4C9A-A9F6-6123DCEF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F220-EF7B-4750-836A-79F107D3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504-1AEA-434A-B983-68D119DB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C68-6B11-4F2C-8841-F7DD9D43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2EF8-AACF-4BC9-A166-EAC04F94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76E-1CE2-4366-B37D-62CACEC6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ED5-62D5-4A34-8F1B-729AB30A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653-402F-4975-92D6-786A847B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0402-45F5-4FFE-84BB-47E9488D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78A-E15F-4AA0-B3F9-0E450D8D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3E6-A284-401C-A350-8A3214B4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958-C103-4D48-ABA4-39200472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E99F-A2A5-4351-B615-EE1EDD99A4E6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华文行楷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&lt;footer&gt;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走近成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98F6-CDB8-42E7-AD26-407C53F4931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ports.sina.com.cn/star/deng_yaping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" Target="slide4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5.xml"/><Relationship Id="rId11" Type="http://schemas.openxmlformats.org/officeDocument/2006/relationships/slide" Target="slide17.xml"/><Relationship Id="rId12" Type="http://schemas.openxmlformats.org/officeDocument/2006/relationships/slide" Target="slide19.xml"/><Relationship Id="rId13" Type="http://schemas.openxmlformats.org/officeDocument/2006/relationships/slide" Target="slide21.xml"/><Relationship Id="rId14" Type="http://schemas.openxmlformats.org/officeDocument/2006/relationships/slide" Target="slide22.xml"/><Relationship Id="rId15" Type="http://schemas.openxmlformats.org/officeDocument/2006/relationships/slide" Target="slide24.xml"/><Relationship Id="rId16" Type="http://schemas.openxmlformats.org/officeDocument/2006/relationships/slide" Target="slide26.xml"/><Relationship Id="rId17" Type="http://schemas.openxmlformats.org/officeDocument/2006/relationships/slide" Target="slide32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ashreg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hebeidaily.com.cn/images/20021018/085.jpg&amp;imgrefurl=http://www.hebeidaily.com.cn/ent/&amp;h=235&amp;w=200&amp;prev=/images%3Fq%3D%25E5%2588%2598%25E5%25A2%2589%26svnum%3D10%26hl%3Dzh-CN%26lr%3Dlang_zh-CN%7Clang_zh-TW%26ie%3DUTF-8%26sa%3DN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走近成功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宣桥学校主题班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3581280" cy="2962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EFD-17C4-492B-A32B-2B401329A85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C1B04-EE11-4338-AE7F-2C251A7D0D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不懈努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达到成功彼岸的桥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达尔文写《物种起源》，前后共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？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年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0" i="1" lang="zh-CN" sz="1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zh-CN" sz="1800" spc="-1" strike="noStrike">
                <a:solidFill>
                  <a:srgbClr val="ff0000"/>
                </a:solidFill>
                <a:latin typeface="Times New Roman"/>
              </a:rPr>
              <a:t>二十七</a:t>
            </a:r>
            <a:r>
              <a:rPr b="0" i="1" lang="zh-CN" sz="18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曹雪芹写《红楼梦》，批阅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？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载，增删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？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次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0" i="1" lang="zh-CN" sz="1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zh-CN" sz="1800" spc="-1" strike="noStrike">
                <a:solidFill>
                  <a:srgbClr val="ff0000"/>
                </a:solidFill>
                <a:latin typeface="Times New Roman"/>
              </a:rPr>
              <a:t>十、五</a:t>
            </a:r>
            <a:r>
              <a:rPr b="0" i="1" lang="zh-CN" sz="18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欧立希发明药物“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606”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，失败了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？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i="1" lang="zh-CN" sz="1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zh-CN" sz="1800" spc="-1" strike="noStrike">
                <a:solidFill>
                  <a:srgbClr val="ff0000"/>
                </a:solidFill>
                <a:latin typeface="Times New Roman"/>
              </a:rPr>
              <a:t>六百零五</a:t>
            </a:r>
            <a:r>
              <a:rPr b="0" i="1" lang="zh-CN" sz="18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马克思写《资本论》，钻研过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？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种书，经过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？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年努力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i="1" lang="zh-CN" sz="1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zh-CN" sz="1800" spc="-1" strike="noStrike">
                <a:solidFill>
                  <a:srgbClr val="ff0000"/>
                </a:solidFill>
                <a:latin typeface="Times New Roman"/>
              </a:rPr>
              <a:t>一千五百、二十四</a:t>
            </a:r>
            <a:r>
              <a:rPr b="0" i="1" lang="zh-CN" sz="18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25E-C447-4A4D-B510-E335809A0B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4B148-27DE-49F5-8BCD-82DB2110AA9A}" type="datetime1">
              <a:rPr lang="en-US"/>
              <a:t>07/31/26</a:t>
            </a:fld>
          </a:p>
        </p:txBody>
      </p:sp>
    </p:spTree>
  </p:cSld>
  <p:transition>
    <p:blinds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勇于竞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266652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竞争就是以进取心为动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竞争就是战胜自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竞争就是不断超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sports.sina.com.cncn.c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438280"/>
            <a:ext cx="2306880" cy="2895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96080" y="5562720"/>
            <a:ext cx="609840" cy="76176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761760"/>
              <a:gd name="textAreaBottom" fmla="*/ 722520 h 761760"/>
            </a:gdLst>
            <a:ahLst/>
            <a:rect l="textAreaLeft" t="textAreaTop" r="textAreaRight" b="textAreaBottom"/>
            <a:pathLst>
              <a:path w="21600" h="26978">
                <a:moveTo>
                  <a:pt x="0" y="0"/>
                </a:moveTo>
                <a:lnTo>
                  <a:pt x="21600" y="0"/>
                </a:lnTo>
                <a:lnTo>
                  <a:pt x="21600" y="26978"/>
                </a:lnTo>
                <a:lnTo>
                  <a:pt x="0" y="26978"/>
                </a:lnTo>
                <a:close/>
              </a:path>
              <a:path fill="lightenLess" w="21600" h="269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8">
                <a:moveTo>
                  <a:pt x="21600" y="0"/>
                </a:moveTo>
                <a:lnTo>
                  <a:pt x="21600" y="26978"/>
                </a:lnTo>
                <a:lnTo>
                  <a:pt x="20200" y="25578"/>
                </a:lnTo>
                <a:lnTo>
                  <a:pt x="20200" y="1400"/>
                </a:lnTo>
                <a:close/>
              </a:path>
              <a:path fill="darkenLess" w="21600" h="26978">
                <a:moveTo>
                  <a:pt x="21600" y="26978"/>
                </a:moveTo>
                <a:lnTo>
                  <a:pt x="0" y="26978"/>
                </a:lnTo>
                <a:lnTo>
                  <a:pt x="1400" y="25578"/>
                </a:lnTo>
                <a:lnTo>
                  <a:pt x="20200" y="25578"/>
                </a:lnTo>
                <a:close/>
              </a:path>
              <a:path fill="lighten" w="21600" h="26978">
                <a:moveTo>
                  <a:pt x="0" y="269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8"/>
                </a:lnTo>
                <a:close/>
              </a:path>
              <a:path fill="darken" w="21600" h="26978">
                <a:moveTo>
                  <a:pt x="3794" y="13489"/>
                </a:moveTo>
                <a:lnTo>
                  <a:pt x="17806" y="6482"/>
                </a:lnTo>
                <a:lnTo>
                  <a:pt x="17806" y="20495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275-A03E-439F-9325-A70276F8CBF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67729-AB53-46D1-A9A0-3ECCF8A5F626}" type="datetime1">
              <a:rPr lang="en-US"/>
              <a:t>07/31/26</a:t>
            </a:fld>
          </a:p>
        </p:txBody>
      </p:sp>
    </p:spTree>
  </p:cSld>
  <p:transition>
    <p:dissolv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竞争者应有的心理素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7560" y="2437920"/>
            <a:ext cx="46479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自信：立志的根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自强：力量的源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自励：恒心的强化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5880" y="2971800"/>
            <a:ext cx="152424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098B-C8F5-450A-9677-4BDCEF08173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14280-F1DA-4F5B-A582-4FBD90852A89}" type="datetime1">
              <a:rPr lang="en-US"/>
              <a:t>07/31/26</a:t>
            </a:fld>
          </a:p>
        </p:txBody>
      </p:sp>
    </p:spTree>
  </p:cSld>
  <p:transition>
    <p:split dir="out" orient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创新意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新意识存在于每个人的心底，但他犹如一位熟睡的巨人，期待着人们去唤醒它。有些人的创新潜能被发掘，从而取得了非凡的成就；有些人的潜能始终被压抑，使自己一生碌碌无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4876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每一个正常的人都有创新的潜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4724280"/>
            <a:ext cx="6934320" cy="914400"/>
          </a:xfrm>
          <a:prstGeom prst="horizontalScroll">
            <a:avLst>
              <a:gd name="adj" fmla="val 12500"/>
            </a:avLst>
          </a:prstGeom>
          <a:noFill/>
          <a:ln w="349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865080" cy="990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001000" y="5562720"/>
            <a:ext cx="609480" cy="76176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1760"/>
              <a:gd name="textAreaBottom" fmla="*/ 722520 h 761760"/>
            </a:gdLst>
            <a:ahLst/>
            <a:rect l="textAreaLeft" t="textAreaTop" r="textAreaRight" b="textAreaBottom"/>
            <a:pathLst>
              <a:path w="21600" h="26994">
                <a:moveTo>
                  <a:pt x="0" y="0"/>
                </a:moveTo>
                <a:lnTo>
                  <a:pt x="21600" y="0"/>
                </a:lnTo>
                <a:lnTo>
                  <a:pt x="21600" y="26994"/>
                </a:lnTo>
                <a:lnTo>
                  <a:pt x="0" y="26994"/>
                </a:lnTo>
                <a:close/>
              </a:path>
              <a:path fill="lightenLess" w="21600" h="26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4">
                <a:moveTo>
                  <a:pt x="21600" y="0"/>
                </a:moveTo>
                <a:lnTo>
                  <a:pt x="21600" y="26994"/>
                </a:lnTo>
                <a:lnTo>
                  <a:pt x="20200" y="25594"/>
                </a:lnTo>
                <a:lnTo>
                  <a:pt x="20200" y="1400"/>
                </a:lnTo>
                <a:close/>
              </a:path>
              <a:path fill="darkenLess" w="21600" h="26994">
                <a:moveTo>
                  <a:pt x="21600" y="26994"/>
                </a:moveTo>
                <a:lnTo>
                  <a:pt x="0" y="26994"/>
                </a:lnTo>
                <a:lnTo>
                  <a:pt x="1400" y="25594"/>
                </a:lnTo>
                <a:lnTo>
                  <a:pt x="20200" y="25594"/>
                </a:lnTo>
                <a:close/>
              </a:path>
              <a:path fill="lighten" w="21600" h="26994">
                <a:moveTo>
                  <a:pt x="0" y="26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4"/>
                </a:lnTo>
                <a:close/>
              </a:path>
              <a:path fill="darken" w="21600" h="26994">
                <a:moveTo>
                  <a:pt x="3794" y="13497"/>
                </a:moveTo>
                <a:lnTo>
                  <a:pt x="17806" y="6490"/>
                </a:lnTo>
                <a:lnTo>
                  <a:pt x="17806" y="20503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467-D603-4858-91DD-D6BAF1BCE78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5BEF7-E958-4DE0-B423-BC4394EE8D71}" type="datetime1">
              <a:rPr lang="en-US"/>
              <a:t>07/31/26</a:t>
            </a:fld>
          </a:p>
        </p:txBody>
      </p:sp>
    </p:spTree>
  </p:cSld>
  <p:transition>
    <p:cover dir="l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创新品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4114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积极的时间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非凡的魄力与胆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坚强的意志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充分的自信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正义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85569" b="0"/>
          <a:stretch/>
        </p:blipFill>
        <p:spPr>
          <a:xfrm>
            <a:off x="4648320" y="2743200"/>
            <a:ext cx="377820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012-4B1D-4B25-963D-F0C2FD1D0EF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ED6B5-2C8E-435B-BBBD-348DAA124A00}" type="datetime1">
              <a:rPr lang="en-US"/>
              <a:t>07/31/26</a:t>
            </a:fld>
          </a:p>
        </p:txBody>
      </p:sp>
    </p:spTree>
  </p:cSld>
  <p:transition>
    <p:randomBar dir="ver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积极心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有的同学对自己缺乏信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有的同学与家长、老师对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有的同学固执己见，为所欲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有的同学小心眼，无端猜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有的同学事事只为自己着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有的同学对比自己强的人心怀不满有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2286000" cy="2895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848720" y="548640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3503"/>
                </a:moveTo>
                <a:lnTo>
                  <a:pt x="17806" y="6497"/>
                </a:lnTo>
                <a:lnTo>
                  <a:pt x="17806" y="20510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197-2A3E-4978-813F-E9991A38220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13507-9E07-41AA-B809-C4418E74809B}" type="datetime1">
              <a:rPr lang="en-US"/>
              <a:t>07/31/26</a:t>
            </a:fld>
          </a:p>
        </p:txBody>
      </p:sp>
    </p:spTree>
  </p:cSld>
  <p:transition>
    <p:strips dir="rd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积极心态的主要标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有明确的人生目标和积极的进取精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有坚强的意志品质，耐得挫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有宽广的胸襟，能宽容和接纳他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充满自信，保持稳定而乐观的情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08660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0FB-201C-472A-8493-7BED1DF83E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51337-D5F9-464D-A635-1A3EEFC76962}" type="datetime1">
              <a:rPr lang="en-US"/>
              <a:t>07/31/26</a:t>
            </a:fld>
          </a:p>
        </p:txBody>
      </p:sp>
    </p:spTree>
  </p:cSld>
  <p:transition>
    <p:pull dir="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善待金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09680" y="281916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搞导弹的不如买茶叶蛋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手术刀不如杀猪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写书的不如摆书摊的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4952880"/>
            <a:ext cx="1218960" cy="609840"/>
          </a:xfrm>
          <a:prstGeom prst="flowChartMagneticTape">
            <a:avLst/>
          </a:prstGeom>
          <a:solidFill>
            <a:srgbClr val="ff00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5105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说说你的意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010280" y="1828800"/>
            <a:ext cx="1017720" cy="2076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87680" cy="3441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772400" y="5334120"/>
            <a:ext cx="609480" cy="76176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1760"/>
              <a:gd name="textAreaBottom" fmla="*/ 722520 h 761760"/>
            </a:gdLst>
            <a:ahLst/>
            <a:rect l="textAreaLeft" t="textAreaTop" r="textAreaRight" b="textAreaBottom"/>
            <a:pathLst>
              <a:path w="21600" h="26994">
                <a:moveTo>
                  <a:pt x="0" y="0"/>
                </a:moveTo>
                <a:lnTo>
                  <a:pt x="21600" y="0"/>
                </a:lnTo>
                <a:lnTo>
                  <a:pt x="21600" y="26994"/>
                </a:lnTo>
                <a:lnTo>
                  <a:pt x="0" y="26994"/>
                </a:lnTo>
                <a:close/>
              </a:path>
              <a:path fill="lightenLess" w="21600" h="26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4">
                <a:moveTo>
                  <a:pt x="21600" y="0"/>
                </a:moveTo>
                <a:lnTo>
                  <a:pt x="21600" y="26994"/>
                </a:lnTo>
                <a:lnTo>
                  <a:pt x="20200" y="25594"/>
                </a:lnTo>
                <a:lnTo>
                  <a:pt x="20200" y="1400"/>
                </a:lnTo>
                <a:close/>
              </a:path>
              <a:path fill="darkenLess" w="21600" h="26994">
                <a:moveTo>
                  <a:pt x="21600" y="26994"/>
                </a:moveTo>
                <a:lnTo>
                  <a:pt x="0" y="26994"/>
                </a:lnTo>
                <a:lnTo>
                  <a:pt x="1400" y="25594"/>
                </a:lnTo>
                <a:lnTo>
                  <a:pt x="20200" y="25594"/>
                </a:lnTo>
                <a:close/>
              </a:path>
              <a:path fill="lighten" w="21600" h="26994">
                <a:moveTo>
                  <a:pt x="0" y="26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4"/>
                </a:lnTo>
                <a:close/>
              </a:path>
              <a:path fill="darken" w="21600" h="26994">
                <a:moveTo>
                  <a:pt x="3794" y="13497"/>
                </a:moveTo>
                <a:lnTo>
                  <a:pt x="17806" y="6490"/>
                </a:lnTo>
                <a:lnTo>
                  <a:pt x="17806" y="20503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F41-A2F3-4046-AB58-869BF832B51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EFA72-03B1-4EA5-86BC-1A2DD46B76EB}" type="datetime1">
              <a:rPr lang="en-US"/>
              <a:t>07/31/26</a:t>
            </a:fld>
          </a:p>
        </p:txBody>
      </p:sp>
    </p:spTree>
  </p:cSld>
  <p:transition>
    <p:wipe dir="r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拥有金钱的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4724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君子爱财，取之有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保持爱心，财源广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勤劳俭朴，致富之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科学知识，潜在财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7320" y="1219320"/>
            <a:ext cx="6069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ff"/>
                </a:solidFill>
                <a:latin typeface="黑体"/>
                <a:ea typeface="黑体"/>
              </a:rPr>
              <a:t>俭是聚宝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4600" y="1181160"/>
            <a:ext cx="6069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ff"/>
                </a:solidFill>
                <a:latin typeface="黑体"/>
                <a:ea typeface="黑体"/>
              </a:rPr>
              <a:t>勤是摇钱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68580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364-5BBD-4288-A87A-4C6E16055D6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C536C-2B10-4F14-9402-CC4F537BEDE1}" type="datetime1">
              <a:rPr lang="en-US"/>
              <a:t>07/31/26</a:t>
            </a:fld>
          </a:p>
        </p:txBody>
      </p:sp>
    </p:spTree>
  </p:cSld>
  <p:transition>
    <p:randomBar dir="vert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磨砺意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俗话说：“鸟无翅膀不能飞，人无意志难为人。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古往今来，凡是事业上做出一番成就的人，都是具有坚强意志力的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坚强的意志是成功的手杖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373356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696080" y="5334120"/>
            <a:ext cx="609840" cy="76176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761760"/>
              <a:gd name="textAreaBottom" fmla="*/ 722520 h 761760"/>
            </a:gdLst>
            <a:ahLst/>
            <a:rect l="textAreaLeft" t="textAreaTop" r="textAreaRight" b="textAreaBottom"/>
            <a:pathLst>
              <a:path w="21600" h="26978">
                <a:moveTo>
                  <a:pt x="0" y="0"/>
                </a:moveTo>
                <a:lnTo>
                  <a:pt x="21600" y="0"/>
                </a:lnTo>
                <a:lnTo>
                  <a:pt x="21600" y="26978"/>
                </a:lnTo>
                <a:lnTo>
                  <a:pt x="0" y="26978"/>
                </a:lnTo>
                <a:close/>
              </a:path>
              <a:path fill="lightenLess" w="21600" h="269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8">
                <a:moveTo>
                  <a:pt x="21600" y="0"/>
                </a:moveTo>
                <a:lnTo>
                  <a:pt x="21600" y="26978"/>
                </a:lnTo>
                <a:lnTo>
                  <a:pt x="20200" y="25578"/>
                </a:lnTo>
                <a:lnTo>
                  <a:pt x="20200" y="1400"/>
                </a:lnTo>
                <a:close/>
              </a:path>
              <a:path fill="darkenLess" w="21600" h="26978">
                <a:moveTo>
                  <a:pt x="21600" y="26978"/>
                </a:moveTo>
                <a:lnTo>
                  <a:pt x="0" y="26978"/>
                </a:lnTo>
                <a:lnTo>
                  <a:pt x="1400" y="25578"/>
                </a:lnTo>
                <a:lnTo>
                  <a:pt x="20200" y="25578"/>
                </a:lnTo>
                <a:close/>
              </a:path>
              <a:path fill="lighten" w="21600" h="26978">
                <a:moveTo>
                  <a:pt x="0" y="269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8"/>
                </a:lnTo>
                <a:close/>
              </a:path>
              <a:path fill="darken" w="21600" h="26978">
                <a:moveTo>
                  <a:pt x="3794" y="13489"/>
                </a:moveTo>
                <a:lnTo>
                  <a:pt x="17806" y="6482"/>
                </a:lnTo>
                <a:lnTo>
                  <a:pt x="17806" y="20495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CC8-1236-4E08-8A29-D9CE9B9C0CB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52FF7-9857-4DC0-9B59-1E1653ECC978}" type="datetime1">
              <a:rPr lang="en-US"/>
              <a:t>07/31/26</a:t>
            </a:fld>
          </a:p>
        </p:txBody>
      </p:sp>
    </p:spTree>
  </p:cSld>
  <p:transition>
    <p:randomBar dir="horz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320" y="16765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你心中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971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一个社会个体都是为追求某一目标而活着的，每一个目标的实现都是人生征途中的一次成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生命的意义就在于不断赢得成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4120" y="1523880"/>
            <a:ext cx="2057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成功</a:t>
            </a:r>
            <a:endParaRPr b="0" lang="en-US" sz="2400" spc="1" strike="noStrike">
              <a:ln w="19080">
                <a:solidFill>
                  <a:srgbClr val="ff00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1568160" cy="1860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508-C952-407C-80C6-E972823183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A9E4C-D1B0-4A55-8B29-24F0947479CD}" type="datetime1">
              <a:rPr lang="en-US"/>
              <a:t>07/31/26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正确对待挫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分析产生挫折的原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注意培养调节和控制自己心理活动的能力，提高耐挫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增强自信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勇于克服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51814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困难像弹簧，看你强不强；你强它就弱，你弱它就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FDE-C925-4AEB-808E-514575D304A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A3369-EBCA-4FA2-B84A-BE235CD9696A}" type="datetime1">
              <a:rPr lang="en-US"/>
              <a:t>07/31/26</a:t>
            </a:fld>
          </a:p>
        </p:txBody>
      </p:sp>
    </p:spTree>
  </p:cSld>
  <p:transition>
    <p:split dir="in" orient="vert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学会学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只有善于学习，学会学习、掌握科学的学习方法、提高学习的效率，才能事半功倍，也只有掌握更多的知识、信息，才能跟上时代前进的步伐，从容迎接未来的挑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正确的学习方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800600" y="4267080"/>
            <a:ext cx="2182680" cy="160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848720" y="518148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3503"/>
                </a:moveTo>
                <a:lnTo>
                  <a:pt x="17806" y="6497"/>
                </a:lnTo>
                <a:lnTo>
                  <a:pt x="17806" y="20510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70E0-C89B-445E-9A01-D36E16B073C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21E43-B72A-4E0A-A0AB-E177E190A1E8}" type="datetime1">
              <a:rPr lang="en-US"/>
              <a:t>07/31/26</a:t>
            </a:fld>
          </a:p>
        </p:txBody>
      </p:sp>
    </p:spTree>
  </p:cSld>
  <p:transition>
    <p:checker dir="vert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善于交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19360" y="2438280"/>
            <a:ext cx="3886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时代需要交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交际祝你成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交际丰富你的学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交际增长你的才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124080" cy="2982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848720" y="518148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3503"/>
                </a:moveTo>
                <a:lnTo>
                  <a:pt x="17806" y="6497"/>
                </a:lnTo>
                <a:lnTo>
                  <a:pt x="17806" y="20510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A01-FC9A-4C95-8E26-2B8031CAFE2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DBF8E-1FFC-46FA-922C-5172DF485565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如何培养交际能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了解影响社交的主要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语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体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气质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拥有积极的社交心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克服恐惧心理，增强自信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要占据交际中的主导位置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掌握交际的基本技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善于运用交际语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巧用非语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懂得交际礼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介绍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称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握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仪表举止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2894040" cy="38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F6D-CEF4-45D5-BEC9-AB7361CA5ED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8A4E4-1AF8-4FC7-AF94-457859E35101}" type="datetime1">
              <a:rPr lang="en-US"/>
              <a:t>07/31/26</a:t>
            </a:fld>
          </a:p>
        </p:txBody>
      </p:sp>
    </p:spTree>
  </p:cSld>
  <p:transition>
    <p:cover dir="rd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2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9" dur="500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1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珍惜时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世界上什么东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最长又最短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最快又是最慢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最能分割又是最广大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最不受重视又是最惋惜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假如没有它，什么事情也做不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它使一切渺小的东西归于消灭，使一切伟大的东西生命不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2286000"/>
            <a:ext cx="5105520" cy="1676520"/>
          </a:xfrm>
          <a:prstGeom prst="sun">
            <a:avLst>
              <a:gd name="adj" fmla="val 25000"/>
            </a:avLst>
          </a:prstGeom>
          <a:solidFill>
            <a:srgbClr val="ff0066">
              <a:alpha val="50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      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5334120"/>
            <a:ext cx="609480" cy="76176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1760"/>
              <a:gd name="textAreaBottom" fmla="*/ 722520 h 761760"/>
            </a:gdLst>
            <a:ahLst/>
            <a:rect l="textAreaLeft" t="textAreaTop" r="textAreaRight" b="textAreaBottom"/>
            <a:pathLst>
              <a:path w="21600" h="26994">
                <a:moveTo>
                  <a:pt x="0" y="0"/>
                </a:moveTo>
                <a:lnTo>
                  <a:pt x="21600" y="0"/>
                </a:lnTo>
                <a:lnTo>
                  <a:pt x="21600" y="26994"/>
                </a:lnTo>
                <a:lnTo>
                  <a:pt x="0" y="26994"/>
                </a:lnTo>
                <a:close/>
              </a:path>
              <a:path fill="lightenLess" w="21600" h="26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4">
                <a:moveTo>
                  <a:pt x="21600" y="0"/>
                </a:moveTo>
                <a:lnTo>
                  <a:pt x="21600" y="26994"/>
                </a:lnTo>
                <a:lnTo>
                  <a:pt x="20200" y="25594"/>
                </a:lnTo>
                <a:lnTo>
                  <a:pt x="20200" y="1400"/>
                </a:lnTo>
                <a:close/>
              </a:path>
              <a:path fill="darkenLess" w="21600" h="26994">
                <a:moveTo>
                  <a:pt x="21600" y="26994"/>
                </a:moveTo>
                <a:lnTo>
                  <a:pt x="0" y="26994"/>
                </a:lnTo>
                <a:lnTo>
                  <a:pt x="1400" y="25594"/>
                </a:lnTo>
                <a:lnTo>
                  <a:pt x="20200" y="25594"/>
                </a:lnTo>
                <a:close/>
              </a:path>
              <a:path fill="lighten" w="21600" h="26994">
                <a:moveTo>
                  <a:pt x="0" y="26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4"/>
                </a:lnTo>
                <a:close/>
              </a:path>
              <a:path fill="darken" w="21600" h="26994">
                <a:moveTo>
                  <a:pt x="3794" y="13497"/>
                </a:moveTo>
                <a:lnTo>
                  <a:pt x="17806" y="6490"/>
                </a:lnTo>
                <a:lnTo>
                  <a:pt x="17806" y="20503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7E32-BA20-4BC6-8B45-0C05DF45CAF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2B8CB-0700-46E8-97FB-7ED15F85DD48}" type="datetime1">
              <a:rPr lang="en-US"/>
              <a:t>07/31/26</a:t>
            </a:fld>
          </a:p>
        </p:txBody>
      </p:sp>
    </p:spTree>
  </p:cSld>
  <p:transition>
    <p:cover dir="ru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科学统筹时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0" y="1905120"/>
            <a:ext cx="548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掌握好最佳的学习时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合理的分配时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严格的限制时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巧妙利用零碎时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保持时间的弹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经常总结时间的利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1779480" cy="2369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1295280" cy="20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8D8-54C0-4D29-A435-A32ACBFF41C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7F751-8DA7-4D52-8417-7FA16E8A4697}" type="datetime1">
              <a:rPr lang="en-US"/>
              <a:t>07/31/26</a:t>
            </a:fld>
          </a:p>
        </p:txBody>
      </p:sp>
    </p:spTree>
  </p:cSld>
  <p:transition>
    <p:split dir="in" orient="horz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0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5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0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恪守诚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诚信，就是诚实守信，说过的话要照着去做，作出的承诺要兑现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无信，人难以长久立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无信，国家难以兴旺发达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昨天、今天和明天都需恪守诚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9480" y="1509840"/>
            <a:ext cx="7696440" cy="128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90920" y="4952880"/>
            <a:ext cx="6324480" cy="1143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848720" y="4648320"/>
            <a:ext cx="609480" cy="76176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1760"/>
              <a:gd name="textAreaBottom" fmla="*/ 722520 h 761760"/>
            </a:gdLst>
            <a:ahLst/>
            <a:rect l="textAreaLeft" t="textAreaTop" r="textAreaRight" b="textAreaBottom"/>
            <a:pathLst>
              <a:path w="21600" h="26994">
                <a:moveTo>
                  <a:pt x="0" y="0"/>
                </a:moveTo>
                <a:lnTo>
                  <a:pt x="21600" y="0"/>
                </a:lnTo>
                <a:lnTo>
                  <a:pt x="21600" y="26994"/>
                </a:lnTo>
                <a:lnTo>
                  <a:pt x="0" y="26994"/>
                </a:lnTo>
                <a:close/>
              </a:path>
              <a:path fill="lightenLess" w="21600" h="26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4">
                <a:moveTo>
                  <a:pt x="21600" y="0"/>
                </a:moveTo>
                <a:lnTo>
                  <a:pt x="21600" y="26994"/>
                </a:lnTo>
                <a:lnTo>
                  <a:pt x="20200" y="25594"/>
                </a:lnTo>
                <a:lnTo>
                  <a:pt x="20200" y="1400"/>
                </a:lnTo>
                <a:close/>
              </a:path>
              <a:path fill="darkenLess" w="21600" h="26994">
                <a:moveTo>
                  <a:pt x="21600" y="26994"/>
                </a:moveTo>
                <a:lnTo>
                  <a:pt x="0" y="26994"/>
                </a:lnTo>
                <a:lnTo>
                  <a:pt x="1400" y="25594"/>
                </a:lnTo>
                <a:lnTo>
                  <a:pt x="20200" y="25594"/>
                </a:lnTo>
                <a:close/>
              </a:path>
              <a:path fill="lighten" w="21600" h="26994">
                <a:moveTo>
                  <a:pt x="0" y="26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4"/>
                </a:lnTo>
                <a:close/>
              </a:path>
              <a:path fill="darken" w="21600" h="26994">
                <a:moveTo>
                  <a:pt x="3794" y="13497"/>
                </a:moveTo>
                <a:lnTo>
                  <a:pt x="17806" y="6490"/>
                </a:lnTo>
                <a:lnTo>
                  <a:pt x="17806" y="20503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FFB-87F4-4245-81B0-1D30C3B28B1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6E232-04DC-44FB-88D2-3E34DF497886}" type="datetime1">
              <a:rPr lang="en-US"/>
              <a:t>07/31/26</a:t>
            </a:fld>
          </a:p>
        </p:txBody>
      </p:sp>
    </p:spTree>
  </p:cSld>
  <p:transition>
    <p:split dir="in" orient="vert"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诚信祝她成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你想拥有五百万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你会放弃获得五百万的机会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当第一次你放弃了，第二你还会放弃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47242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她却放弃了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两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次可以拥有获得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五百万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的机会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4724280"/>
            <a:ext cx="1600200" cy="685800"/>
          </a:xfrm>
          <a:prstGeom prst="irregularSeal1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19051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她就是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林海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391520" y="609480"/>
            <a:ext cx="1523880" cy="266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0D3-258D-4DCB-9C71-7CD278DED4E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93B01-ED97-4EBA-8201-C51E27C8EF10}" type="datetime1">
              <a:rPr lang="en-US"/>
              <a:t>07/31/26</a:t>
            </a:fld>
          </a:p>
        </p:txBody>
      </p:sp>
    </p:spTree>
  </p:cSld>
  <p:transition>
    <p:strips dir="ld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承诺准考证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学校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Times New Roman"/>
              </a:rPr>
              <a:t>：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班级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Times New Roman"/>
              </a:rPr>
              <a:t>：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姓名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Times New Roman"/>
              </a:rPr>
              <a:t>：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学号：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承诺：自觉遵守《考场规则》，以自己的模范行为维护诚信美德，做到自律、自爱、自信，并以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onesty is the best policy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作为今后学习和工作的信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承诺：…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533520"/>
            <a:ext cx="807732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1600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168-D68B-4EB1-BB87-0C04CD0C4DE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9EBCC-A235-4729-9224-ED9A8F1A8B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诚信考场”考诚信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考场：秩序井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学生：有无老师监考我都在考试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校长：我们完全相信学生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老师：“诚信考场”是一种引导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4F0-734F-49AB-9618-FF85BF2B258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E238B-5341-4273-AE90-B50EE48310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成功的脚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1981080"/>
            <a:ext cx="8686800" cy="3452760"/>
            <a:chOff x="0" y="1981080"/>
            <a:chExt cx="8686800" cy="3452760"/>
          </a:xfrm>
        </p:grpSpPr>
        <p:pic>
          <p:nvPicPr>
            <p:cNvPr id="59" name="" descr=""/>
            <p:cNvPicPr/>
            <p:nvPr/>
          </p:nvPicPr>
          <p:blipFill>
            <a:blip r:embed="rId1">
              <a:lum contrast="-36000"/>
            </a:blip>
            <a:stretch/>
          </p:blipFill>
          <p:spPr>
            <a:xfrm>
              <a:off x="1295280" y="2362320"/>
              <a:ext cx="2971800" cy="26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>
              <a:lum contrast="-18000"/>
            </a:blip>
            <a:stretch/>
          </p:blipFill>
          <p:spPr>
            <a:xfrm>
              <a:off x="5715000" y="1981080"/>
              <a:ext cx="2971800" cy="269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>
              <a:lum contrast="-42000"/>
            </a:blip>
            <a:stretch/>
          </p:blipFill>
          <p:spPr>
            <a:xfrm>
              <a:off x="3581280" y="2286000"/>
              <a:ext cx="2971800" cy="26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>
              <a:grayscl/>
              <a:lum contrast="-18000"/>
            </a:blip>
            <a:stretch/>
          </p:blipFill>
          <p:spPr>
            <a:xfrm>
              <a:off x="0" y="2743200"/>
              <a:ext cx="2971800" cy="269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1219320" y="2209680"/>
            <a:ext cx="7238880" cy="2517120"/>
            <a:chOff x="1219320" y="2209680"/>
            <a:chExt cx="7238880" cy="2517120"/>
          </a:xfrm>
        </p:grpSpPr>
        <p:sp>
          <p:nvSpPr>
            <p:cNvPr id="64" name=""/>
            <p:cNvSpPr/>
            <p:nvPr/>
          </p:nvSpPr>
          <p:spPr>
            <a:xfrm>
              <a:off x="8153280" y="2209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5" action="ppaction://hlinksldjump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>
              <a:hlinkClick r:id="rId6" action="ppaction://hlinksldjump"/>
            </p:cNvPr>
            <p:cNvSpPr/>
            <p:nvPr/>
          </p:nvSpPr>
          <p:spPr>
            <a:xfrm>
              <a:off x="7238880" y="2438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7" action="ppaction://hlinksldjump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1028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8" action="ppaction://hlinksldjump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1992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9" action="ppaction://hlinksldjump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29200" y="2971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0" action="ppaction://hlinksldjump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0060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1" action="ppaction://hlinksldjump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9880" y="2743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2" action="ppaction://hlinksldjump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09880" y="3733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3" action="ppaction://hlinksldjump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95480" y="3124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4" action="ppaction://hlinksldjump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86000" y="2895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5" action="ppaction://hlinksldjump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3828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6" action="ppaction://hlinksldjump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71600" y="3352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93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228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010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EC1-5C5D-4E32-8D71-62EB83CC814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70541-E18E-4255-B69B-01FDBD6BE2C6}" type="datetime1">
              <a:rPr lang="en-US"/>
              <a:t>07/31/26</a:t>
            </a:fld>
          </a:p>
        </p:txBody>
      </p:sp>
    </p:spTree>
  </p:cSld>
  <p:transition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耐得挫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4647960"/>
            <a:ext cx="4343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说说你所经历的挫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谈谈你面对挫折的感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讲讲你战胜挫折的方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5867280" cy="2743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92920" y="1447920"/>
            <a:ext cx="1870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不经历风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怎么见彩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48720" y="518148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3503"/>
                </a:moveTo>
                <a:lnTo>
                  <a:pt x="17806" y="6497"/>
                </a:lnTo>
                <a:lnTo>
                  <a:pt x="17806" y="20510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821-6798-42C6-B7D8-B011240341A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DF5FA-9626-4125-BB04-E4729A8FC7BC}" type="datetime1">
              <a:rPr lang="en-US"/>
              <a:t>07/31/26</a:t>
            </a:fld>
          </a:p>
        </p:txBody>
      </p:sp>
    </p:spTree>
  </p:cSld>
  <p:transition>
    <p:wipe dir="r"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8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3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把握机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机遇对一个人来说确实很重要。它往往可以成全一个人，使他在通往成功的道路上少了许多曲折。但是，并不是说，我们就可以坐等机遇的到来。机遇其实是属于准备好了的人的。只有在机遇到来之前在物质和精神两方面都做好准备的人，机遇才会降临到他的身边。投机者即使抓住了机遇，机遇也会悄然离去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5452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696080" y="5486400"/>
            <a:ext cx="609840" cy="76212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6990">
                <a:moveTo>
                  <a:pt x="0" y="0"/>
                </a:moveTo>
                <a:lnTo>
                  <a:pt x="21600" y="0"/>
                </a:lnTo>
                <a:lnTo>
                  <a:pt x="21600" y="26990"/>
                </a:lnTo>
                <a:lnTo>
                  <a:pt x="0" y="26990"/>
                </a:lnTo>
                <a:close/>
              </a:path>
              <a:path fill="lightenLess" w="21600" h="269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0">
                <a:moveTo>
                  <a:pt x="21600" y="0"/>
                </a:moveTo>
                <a:lnTo>
                  <a:pt x="21600" y="26990"/>
                </a:lnTo>
                <a:lnTo>
                  <a:pt x="20200" y="25590"/>
                </a:lnTo>
                <a:lnTo>
                  <a:pt x="20200" y="1400"/>
                </a:lnTo>
                <a:close/>
              </a:path>
              <a:path fill="darkenLess" w="21600" h="26990">
                <a:moveTo>
                  <a:pt x="21600" y="26990"/>
                </a:moveTo>
                <a:lnTo>
                  <a:pt x="0" y="26990"/>
                </a:lnTo>
                <a:lnTo>
                  <a:pt x="1400" y="25590"/>
                </a:lnTo>
                <a:lnTo>
                  <a:pt x="20200" y="25590"/>
                </a:lnTo>
                <a:close/>
              </a:path>
              <a:path fill="lighten" w="21600" h="26990">
                <a:moveTo>
                  <a:pt x="0" y="269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0"/>
                </a:lnTo>
                <a:close/>
              </a:path>
              <a:path fill="darken" w="21600" h="26990">
                <a:moveTo>
                  <a:pt x="3794" y="13495"/>
                </a:moveTo>
                <a:lnTo>
                  <a:pt x="17806" y="6489"/>
                </a:lnTo>
                <a:lnTo>
                  <a:pt x="17806" y="20502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D74-BBD7-47D9-B34A-A0D4EA57326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339B0-1AD6-4E2B-9EA6-AA4346616D3C}" type="datetime1">
              <a:rPr lang="en-US"/>
              <a:t>07/31/26</a:t>
            </a:fld>
          </a:p>
        </p:txBody>
      </p:sp>
    </p:spTree>
  </p:cSld>
  <p:transition>
    <p:pull dir="rd"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建立友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友谊，这是一个多么美好的字眼。每个人都需要友谊，就象需要阳光、空气一样。友谊是人生最可贵的无价之宝，是人生最璀璨之花！友谊是神圣的，而且力量也是巨大的。它不仅能调节你的精神状态，促进你的健康成长，而且能够帮助你取得学业上、生活上的成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3760560" cy="388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620120" y="5334120"/>
            <a:ext cx="609480" cy="76176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1760"/>
              <a:gd name="textAreaBottom" fmla="*/ 722520 h 761760"/>
            </a:gdLst>
            <a:ahLst/>
            <a:rect l="textAreaLeft" t="textAreaTop" r="textAreaRight" b="textAreaBottom"/>
            <a:pathLst>
              <a:path w="21600" h="26994">
                <a:moveTo>
                  <a:pt x="0" y="0"/>
                </a:moveTo>
                <a:lnTo>
                  <a:pt x="21600" y="0"/>
                </a:lnTo>
                <a:lnTo>
                  <a:pt x="21600" y="26994"/>
                </a:lnTo>
                <a:lnTo>
                  <a:pt x="0" y="26994"/>
                </a:lnTo>
                <a:close/>
              </a:path>
              <a:path fill="lightenLess" w="21600" h="26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4">
                <a:moveTo>
                  <a:pt x="21600" y="0"/>
                </a:moveTo>
                <a:lnTo>
                  <a:pt x="21600" y="26994"/>
                </a:lnTo>
                <a:lnTo>
                  <a:pt x="20200" y="25594"/>
                </a:lnTo>
                <a:lnTo>
                  <a:pt x="20200" y="1400"/>
                </a:lnTo>
                <a:close/>
              </a:path>
              <a:path fill="darkenLess" w="21600" h="26994">
                <a:moveTo>
                  <a:pt x="21600" y="26994"/>
                </a:moveTo>
                <a:lnTo>
                  <a:pt x="0" y="26994"/>
                </a:lnTo>
                <a:lnTo>
                  <a:pt x="1400" y="25594"/>
                </a:lnTo>
                <a:lnTo>
                  <a:pt x="20200" y="25594"/>
                </a:lnTo>
                <a:close/>
              </a:path>
              <a:path fill="lighten" w="21600" h="26994">
                <a:moveTo>
                  <a:pt x="0" y="26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4"/>
                </a:lnTo>
                <a:close/>
              </a:path>
              <a:path fill="darken" w="21600" h="26994">
                <a:moveTo>
                  <a:pt x="3794" y="13497"/>
                </a:moveTo>
                <a:lnTo>
                  <a:pt x="17806" y="6490"/>
                </a:lnTo>
                <a:lnTo>
                  <a:pt x="17806" y="20503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2C6-B7C1-4B88-B359-3ACB5A881BD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D0085-9265-4609-BDB6-1650FFE26606}" type="datetime1">
              <a:rPr lang="en-US"/>
              <a:t>07/31/26</a:t>
            </a:fld>
          </a:p>
        </p:txBody>
      </p:sp>
    </p:spTree>
  </p:cSld>
  <p:transition>
    <p:randomBar dir="horz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5200" y="380880"/>
            <a:ext cx="1962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友谊的基本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6343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真   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互   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平   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宽   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守   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594360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2FA-8B3F-4733-8E3F-546715057CE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97FFD-C55F-4634-A31C-8A3296FE6A6E}" type="datetime1">
              <a:rPr lang="en-US"/>
              <a:t>07/31/26</a:t>
            </a:fld>
          </a:p>
        </p:txBody>
      </p:sp>
    </p:spTree>
  </p:cSld>
  <p:transition>
    <p:randomBar dir="horz"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1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6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1" dur="5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5715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如何才能成功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905120" y="17524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认识自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断追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勇于竞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创新意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积极心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善待金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磨砺意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0" y="17524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学会学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善于交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珍惜时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恪守信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耐得挫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把握机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建立友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001000" y="5334120"/>
            <a:ext cx="609480" cy="76176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1760"/>
              <a:gd name="textAreaBottom" fmla="*/ 722520 h 761760"/>
            </a:gdLst>
            <a:ahLst/>
            <a:rect l="textAreaLeft" t="textAreaTop" r="textAreaRight" b="textAreaBottom"/>
            <a:pathLst>
              <a:path w="21600" h="26994">
                <a:moveTo>
                  <a:pt x="0" y="0"/>
                </a:moveTo>
                <a:lnTo>
                  <a:pt x="21600" y="0"/>
                </a:lnTo>
                <a:lnTo>
                  <a:pt x="21600" y="26994"/>
                </a:lnTo>
                <a:lnTo>
                  <a:pt x="0" y="26994"/>
                </a:lnTo>
                <a:close/>
              </a:path>
              <a:path fill="lightenLess" w="21600" h="26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4">
                <a:moveTo>
                  <a:pt x="21600" y="0"/>
                </a:moveTo>
                <a:lnTo>
                  <a:pt x="21600" y="26994"/>
                </a:lnTo>
                <a:lnTo>
                  <a:pt x="20200" y="25594"/>
                </a:lnTo>
                <a:lnTo>
                  <a:pt x="20200" y="1400"/>
                </a:lnTo>
                <a:close/>
              </a:path>
              <a:path fill="darkenLess" w="21600" h="26994">
                <a:moveTo>
                  <a:pt x="21600" y="26994"/>
                </a:moveTo>
                <a:lnTo>
                  <a:pt x="0" y="26994"/>
                </a:lnTo>
                <a:lnTo>
                  <a:pt x="1400" y="25594"/>
                </a:lnTo>
                <a:lnTo>
                  <a:pt x="20200" y="25594"/>
                </a:lnTo>
                <a:close/>
              </a:path>
              <a:path fill="lighten" w="21600" h="26994">
                <a:moveTo>
                  <a:pt x="0" y="26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4"/>
                </a:lnTo>
                <a:close/>
              </a:path>
              <a:path fill="darken" w="21600" h="26994">
                <a:moveTo>
                  <a:pt x="3794" y="13497"/>
                </a:moveTo>
                <a:lnTo>
                  <a:pt x="17806" y="6490"/>
                </a:lnTo>
                <a:lnTo>
                  <a:pt x="17806" y="20503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49CF-24BD-4D19-B4C0-C2C84A7393A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DCD69-9E75-4232-938B-634798A0229F}" type="datetime1">
              <a:rPr lang="en-US"/>
              <a:t>07/31/26</a:t>
            </a:fld>
          </a:p>
        </p:txBody>
      </p:sp>
    </p:spTree>
  </p:cSld>
  <p:transition>
    <p:dissolve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828800" y="1600200"/>
            <a:ext cx="5638680" cy="2081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隶书"/>
              </a:rPr>
              <a:t>成功见面会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隶书"/>
              <a:ea typeface="隶书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9880" y="3200400"/>
            <a:ext cx="1919520" cy="2373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057400" y="3733920"/>
            <a:ext cx="1663560" cy="2057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5791320" y="3809880"/>
            <a:ext cx="1725480" cy="213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F75-B766-40A8-83B2-E9573C82BFCE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61061-CDF6-443E-8817-CA68426175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066680" y="1143000"/>
            <a:ext cx="6629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每个人都能事业有成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成功的基础是自信，成功的奥秘是学习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44197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让我们一起向成功迈进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086600" y="3962520"/>
            <a:ext cx="1828800" cy="159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B8F-B8B1-4BCA-9223-BD21A7CBB667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C16D4-7848-4D25-A982-8EBE70A751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认识自我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离自己最近的东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离自己最远的东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亲的朋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大的敌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505320"/>
            <a:ext cx="3505320" cy="1600200"/>
          </a:xfrm>
          <a:custGeom>
            <a:avLst/>
            <a:gdLst>
              <a:gd name="textAreaLeft" fmla="*/ 823680 w 3505320"/>
              <a:gd name="textAreaRight" fmla="*/ 2679120 w 3505320"/>
              <a:gd name="textAreaTop" fmla="*/ 187920 h 1600200"/>
              <a:gd name="textAreaBottom" fmla="*/ 1003680 h 1600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3276720"/>
            <a:ext cx="3733560" cy="1676160"/>
          </a:xfrm>
          <a:custGeom>
            <a:avLst/>
            <a:gdLst>
              <a:gd name="textAreaLeft" fmla="*/ 877320 w 3733560"/>
              <a:gd name="textAreaRight" fmla="*/ 2853720 w 3733560"/>
              <a:gd name="textAreaTop" fmla="*/ 196920 h 1676160"/>
              <a:gd name="textAreaBottom" fmla="*/ 1051560 h 16761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37339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自        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486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琥珀"/>
              </a:rPr>
              <a:t>正视身体的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琥珀"/>
              </a:rPr>
              <a:t>缺陷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琥珀"/>
              </a:rPr>
              <a:t>，接受家庭的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琥珀"/>
              </a:rPr>
              <a:t>差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51814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3794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18148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3503"/>
                </a:moveTo>
                <a:lnTo>
                  <a:pt x="17806" y="6497"/>
                </a:lnTo>
                <a:lnTo>
                  <a:pt x="17806" y="20510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C25-C4BA-46E8-B0A6-6DC01B219DD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11E82-C850-4F34-97E9-15355341FBAF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列夫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托尔斯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他很小的时候，因自己丑陋的相貌而感到苦恼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他的身体很虚弱，经常感冒，受扁桃腺炎、风湿等疾病的折磨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经过苦恼的煎熬后，他开始写作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岁时，他发表处女作《童年时代》，获得好评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其后，他接连写出了《战争与和平》、《复活》、《安娜‘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卡列尼娜》等巨著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141880" y="1981080"/>
            <a:ext cx="282096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DDA-A4A3-475C-9F3F-C2BB21EE28A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54454-8A74-4E64-A77F-E72E33983A02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艾费雷德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诺贝尔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儿童时代，他为消化不良和严重的痉挛而痛苦，几乎卧床不起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因此，他诅咒自己丑陋的外貌，而且认定别人是不会喜爱自己的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但他经过反复实验，在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866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年制造出了甘油炸药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他一生获得专利达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29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项之多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临终前，他用大约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900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万美元的基金设立了“诺贝尔奖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21280" y="1981080"/>
            <a:ext cx="306396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0722-137B-420F-AE69-F07764A8747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240C7-CE19-4B1B-A39E-C8E5CB1B1C6E}" type="datetime1">
              <a:rPr lang="en-US"/>
              <a:t>07/31/26</a:t>
            </a:fld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12408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0" r="0" b="21879"/>
          <a:stretch/>
        </p:blipFill>
        <p:spPr>
          <a:xfrm>
            <a:off x="5867280" y="2286000"/>
            <a:ext cx="27432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981080" y="2209680"/>
            <a:ext cx="2210040" cy="3276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191120" y="1828800"/>
            <a:ext cx="243828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E5E-85E7-4391-ADDD-35B7E7CB151A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76FC5-AD26-4AAB-8D08-027AA64A3A56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塑造自我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6629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你身处冰山，就该是雪莲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你身处大漠，就该是红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你立足在海滨，就应成为椰树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你生活在草原，就要充当牧羊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你航行在大海，就应当是水手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4952880"/>
            <a:ext cx="8153280" cy="9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3B57-81E7-4A4E-B6E9-5A13D3E2C6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33FCE-F4F6-42D4-82E6-24F0D2650B5D}" type="datetime1">
              <a:rPr lang="en-US"/>
              <a:t>07/31/26</a:t>
            </a:fld>
          </a:p>
        </p:txBody>
      </p:sp>
    </p:spTree>
  </p:cSld>
  <p:transition>
    <p:checker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不断追求</a:t>
            </a:r>
            <a:br>
              <a:rPr sz="4400"/>
            </a:b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——扬起理想的风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9250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志当存高远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……………… ………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诸葛亮（三国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人无志，非人也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………… ……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嵇康（晋朝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丈夫为志，穷当益坚，老当益壮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 …..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马援（汉朝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水激石则鸣，人激志则宏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…………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秋瑾（中国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最贫的是无才，最贱的是无志。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……………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约翰逊（英国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72400" y="541008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3503"/>
                </a:moveTo>
                <a:lnTo>
                  <a:pt x="17806" y="6497"/>
                </a:lnTo>
                <a:lnTo>
                  <a:pt x="17806" y="20510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D0BB-4D44-4BF1-859C-183EC917856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B404A-A121-4393-A3B7-D2BAC39DA23B}" type="datetime1">
              <a:rPr lang="en-US"/>
              <a:t>07/31/26</a:t>
            </a:fld>
          </a:p>
        </p:txBody>
      </p:sp>
    </p:spTree>
  </p:cSld>
  <p:transition>
    <p:zoom dir="in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0:34:34Z</dcterms:created>
  <dc:creator>zhu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33:30Z</dcterms:modified>
  <cp:revision>75</cp:revision>
  <dc:subject>主题班会课件(分28大类): http://shop62905894.taobao.com</dc:subject>
  <dc:title>主题班会课件(分28大类): http://shop62905894.taobao.com</dc:title>
</cp:coreProperties>
</file>