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9DA-4888-4C91-ACEC-031B635D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65E-C6D4-460E-8F6D-A9B77823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FB5-DA71-4652-B940-ABD9DF88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14B-0C5A-4396-8AC2-179D567E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CE19-CBC5-4AD0-BC42-176FB868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0E2-0BC5-4C6E-B37E-71D175C0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121-88DF-4C1D-9A52-A79FC96B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0DE-5667-45BE-894F-B249A8D0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96E-8C75-476F-A0F2-FB1A0555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DCC-B17D-439C-9FD5-714819D0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5C1-E764-4578-8474-53E4F85D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DD1-8DA8-404C-9D4B-B0581573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D3C2-A48F-483B-B9FB-EC50D241E4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80" y="333360"/>
            <a:ext cx="9124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在大西北山区，有一个终身贫困的老山农。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次偶然的机会，发现了一个金矿，这个金矿作为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家开采价值不大，但他个人却发了大财。为了表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自己有钱，老山农买了一部汽车，每到节假日他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将车开到附近的城镇，看到左边有熟人，就将车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到左边和熟人打招呼，看到右边有熟人，就将车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到右边和熟人打招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他的车忽左忽右，但从没撞到一个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97960" y="4653000"/>
            <a:ext cx="25124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为什么？</a:t>
            </a:r>
            <a:r>
              <a:rPr b="0" lang="zh-CN" sz="5500" spc="-1" strike="noStrike">
                <a:solidFill>
                  <a:srgbClr val="ff0000"/>
                </a:solidFill>
                <a:latin typeface="Arial"/>
                <a:ea typeface="华文新魏"/>
              </a:rPr>
              <a:t>？</a:t>
            </a:r>
            <a:r>
              <a:rPr b="0" lang="zh-CN" sz="7500" spc="-1" strike="noStrike">
                <a:solidFill>
                  <a:srgbClr val="ff0000"/>
                </a:solidFill>
                <a:latin typeface="Arial"/>
                <a:ea typeface="华文新魏"/>
              </a:rPr>
              <a:t>？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83680" y="1125360"/>
            <a:ext cx="5159520" cy="1556280"/>
          </a:xfrm>
          <a:prstGeom prst="rect">
            <a:avLst/>
          </a:prstGeom>
          <a:noFill/>
          <a:ln w="763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拿破仑被流放到一个小岛，逃出来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法国国王派大军去捉拿他，拿破仑随从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他快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2600" y="3413160"/>
            <a:ext cx="53895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ff0000"/>
                </a:solidFill>
                <a:latin typeface="Arial"/>
                <a:ea typeface="华文新魏"/>
              </a:rPr>
              <a:t>       </a:t>
            </a:r>
            <a:r>
              <a:rPr b="0" lang="zh-CN" sz="55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你猜拿破仑怎么办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如果你是拿破仑，你怎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么办？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5640" y="1413000"/>
            <a:ext cx="7575480" cy="30186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拿破仑却说：“跑什么？我是他们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元帅，他们是我的士兵，为什么要跑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拿破仑迎着捉他的军队走过去，仍然以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帅的气度指挥他们，结果这批军队反而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他回去抓国王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763640" y="907920"/>
            <a:ext cx="612000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丧失信心，走向失败之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260280"/>
            <a:ext cx="8543880" cy="393336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我国早期的乒乓球运动员韩玉珍，在国内屡战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胜。一次，代表国家队参加世界锦标赛，临赛前的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晚上，她患得患失，承受不了心理压力，用刀将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的手腕割破，谎称有人行刺她后跑了。结果这件事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查出来了，成为这国际上一大丑闻，为此，国家队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她开除出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但在随后的国内的比赛中，她又屡战屡胜，为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给她机会，又重新召她回国家队。在一佼次国际重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比赛中，对方的日本运动员，以前没有赢过她。开始，韩玉珍连赢两局，第三局对方赶上几分后，韩玉珍信心开始动摇，结果连输三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41920" y="579132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外电评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韩玉珍不是输在技术上，而是输在信心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30880" y="404640"/>
            <a:ext cx="5474160" cy="59432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国优秀乒乓球运动员蔡振华，在国内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赛很少能进入前三名，但对国外选手却从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输过，被誉为乒坛魔术师。他的技术算不上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尖，之所以能取胜，在于他那种高昂的斗志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顽强的精神。在比赛中他总喜欢用力挥舞拳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给自己鼓劲。每发一个好球，他就用力跺一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脚；每打一个好球，他就要绕场跑几圈。在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瑞典运动员林德的比赛中，比分已经落后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5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到林德发球。这时他站在球台的一端，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手指着林德的鼻子，狠狠地看着林德，这种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形的精神压力，使林德顿时紧张起来，结果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而以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比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22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输了这一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258920" y="476280"/>
            <a:ext cx="6624720" cy="30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自信——现代人才的标准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1413000"/>
            <a:ext cx="8459640" cy="2043720"/>
          </a:xfrm>
          <a:prstGeom prst="rect">
            <a:avLst/>
          </a:prstGeom>
          <a:noFill/>
          <a:ln w="763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日本东京帝国大学有一高材生，毕业后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考某公司，结果落选了，痛不欲生。该生的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杀水平不高，没能如愿，只在脖子上留下深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的痕迹。救醒后，家人告诉他：幸好未自杀成，他是该公司考分的第一名，只是由于计算机的错误，将他漏掉了。这下，他喜出望外，准备摆酒庆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1549440" y="-963720"/>
            <a:ext cx="12242880" cy="9182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87280" y="1341360"/>
            <a:ext cx="12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又传来消息，他还未聘就被解聘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2565360"/>
            <a:ext cx="6913440" cy="327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公司经理这样评价他：这个人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许知识和能力是第一流的，但这样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点小小的生活打击都受不了，又怎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期望他来公司有大的作为？如果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濒临危险，他肯定是第一个逃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84360" y="836640"/>
            <a:ext cx="7667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走向生活成功的金钥匙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43280" y="2924280"/>
            <a:ext cx="273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自信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63320" y="1611360"/>
            <a:ext cx="6288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       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在我的字典中没有不可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的字眼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                       ——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拿破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34080" y="26028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将一只跳蚤放进杯中。开始，跳蚤一下子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能从杯中跳出来。然后，心理学家在杯上盖上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明盖，跳蚤仍然会往上跳，但碰了几次盖后，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疼了，慢慢就不跳那么高了。这时心理学家再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盖拿走，却发现那只跳蚤已经永远不能跳出杯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3141720"/>
            <a:ext cx="797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       </a:t>
            </a:r>
            <a:r>
              <a:rPr b="0" lang="zh-CN" sz="4400" spc="-1" strike="noStrike" u="sng">
                <a:solidFill>
                  <a:srgbClr val="0000cc"/>
                </a:solidFill>
                <a:uFillTx/>
                <a:latin typeface="Arial"/>
                <a:ea typeface="华文新魏"/>
              </a:rPr>
              <a:t>因为它将目标定到了不及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cc"/>
                </a:solidFill>
                <a:uFillTx/>
                <a:latin typeface="Arial"/>
                <a:ea typeface="华文新魏"/>
              </a:rPr>
              <a:t>的高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7200" y="45813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我们从中可以悟出什么道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38800" y="5300640"/>
            <a:ext cx="40820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求上则可能居中，求中则可能居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890000" y="1243080"/>
            <a:ext cx="5545080" cy="3993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吉尼斯世界推销纪录创造者，美国的乔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拉德，他曾在一年中创造了推销汽车平均每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四五部的纪录，他去应聘汽车推销员时，经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问他：“你能推销汽车吗？”吉拉德回答说：“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没有推销过汽车，但我推销过日用品、家用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器，我能成功地推销他们，说明我能成功地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销自己，我能将自己推销出去，自然也能将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车推销出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258920" y="907920"/>
            <a:ext cx="712944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自信——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激发潜能的最佳法宝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18560" y="1197000"/>
            <a:ext cx="5817960" cy="3506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早期的学者认为：一个正常人只运用了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身潜能的一半；后来的研究又发现，一个正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人只运用了自身潜能的</a:t>
            </a:r>
            <a:r>
              <a:rPr b="0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％；近代比较权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看法是：正常人只运用了自身潜能的</a:t>
            </a:r>
            <a:r>
              <a:rPr b="0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％</a:t>
            </a:r>
            <a:r>
              <a:rPr b="0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---5</a:t>
            </a:r>
            <a:r>
              <a:rPr b="0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之间。也就是说，最成功的也只运用了自身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能的</a:t>
            </a:r>
            <a:r>
              <a:rPr b="0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％，最失败的人，只要正常，也运用了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身潜能的</a:t>
            </a:r>
            <a:r>
              <a:rPr b="0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19000" y="1557360"/>
            <a:ext cx="4082040" cy="3506040"/>
          </a:xfrm>
          <a:prstGeom prst="rect">
            <a:avLst/>
          </a:prstGeom>
          <a:noFill/>
          <a:ln cap="rnd" w="7632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苏联学者做了一个形象的比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  </a:t>
            </a: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一个正常人如果发挥了自身的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能的一半，那么他将掌握</a:t>
            </a: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40</a:t>
            </a: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多种外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学完几十门大学的课程，可以将叠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来几人厚的全苏百科全书，背得滚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烂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403280" y="1052640"/>
            <a:ext cx="6624720" cy="23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信心能孕育信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1:27:20Z</dcterms:created>
  <dc:creator>wq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46:13Z</dcterms:modified>
  <cp:revision>27</cp:revision>
  <dc:subject>主题班会课件(分28大类): http://shop62905894.taobao.com</dc:subject>
  <dc:title>主题班会课件(分28大类): http://shop62905894.taobao.com</dc:title>
</cp:coreProperties>
</file>