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applause.wav" ContentType="audio/x-wav"/>
  <Override PartName="/ppt/media/drumroll.wav" ContentType="audio/x-wav"/>
  <Override PartName="/ppt/media/image3.jpeg" ContentType="image/jpeg"/>
  <Override PartName="/ppt/media/image12.gif" ContentType="image/gif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4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3.gif" ContentType="image/gif"/>
  <Override PartName="/ppt/media/chimes.wav" ContentType="audio/x-wav"/>
  <Override PartName="/ppt/media/image1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D4B-37FB-471B-AD00-FC365000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751-AE6C-4BBC-A7A4-8A6C9E03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BF9-6FDE-48DB-AA70-452D3013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2EB-CAB5-4CC4-A401-158C4C66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687-1FDD-4ABE-A25A-E14B2A1B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9A7-E5AA-4290-8F69-15876EAB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590-116C-4BC5-99D4-B51E888F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70D-E3F4-4EBA-A239-35DADB6A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81E-C909-455A-A412-E8E8AB29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6CC-FB89-473F-934C-3719C3CC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DEC-4280-4D51-830E-508A7B18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FC4-E210-4141-BFF5-64FC1E16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E088-ACD1-4050-8C7A-92DB4A1AB5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019920" y="3733920"/>
            <a:ext cx="3124080" cy="286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7920" y="609480"/>
            <a:ext cx="579096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走向成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现自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228600"/>
            <a:ext cx="9144000" cy="7607160"/>
            <a:chOff x="0" y="228600"/>
            <a:chExt cx="9144000" cy="7607160"/>
          </a:xfrm>
        </p:grpSpPr>
        <p:sp>
          <p:nvSpPr>
            <p:cNvPr id="62" name=""/>
            <p:cNvSpPr/>
            <p:nvPr/>
          </p:nvSpPr>
          <p:spPr>
            <a:xfrm>
              <a:off x="0" y="228600"/>
              <a:ext cx="5491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0" y="228600"/>
              <a:ext cx="9144000" cy="7607160"/>
              <a:chOff x="0" y="228600"/>
              <a:chExt cx="9144000" cy="76071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228600"/>
                <a:ext cx="5491080" cy="508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28600"/>
                <a:ext cx="9144000" cy="76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职高生，创业之路天地宽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湖南武冈二职中毕业生创业状况调查启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职高毕业生创业之路如何走，一直是职高生十分关心的问题。为了寻求答案，近日，我们对湖南省武冈市二职中的毕业生做了较为全面的跟踪调查。基本情况如下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武冈市二职中创办于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世纪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年代中期，是一所城镇工商类职业高中，起初以城镇初中毕业生为主要生源，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99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年以后，逐步扩大了办学规模，农村学生逐年增多。十多年来，为社会培养输送了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2036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名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合格人才。就业大致有四条途径：一是参加对口升学考试跨入高等院校继续深造，截止到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200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年该校共有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127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名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毕业生升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大学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，占毕业生总数的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％；二是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5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多名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、约占总数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％的毕业生通过参军、招工、招干、等途径进入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部队、机关、企事业单位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工作；三是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6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多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名、约占总数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％的毕业生立足当地，凭一技之长自谋职业，有的已奔上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致富之路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；四是约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8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多名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、占总数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％多的毕业生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奔赴天南地北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，加入打工队伍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295280" y="1447920"/>
            <a:ext cx="6172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它启示了什么？？？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228600"/>
            <a:ext cx="81532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启示：职高生并不比普高生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普高生除升学之路相对宽广外，其就业、创业之路比职高生相对要狭窄得多。湾头桥镇朝阳村青年熊宏军，从该校家电专业毕业后，一头扎根家乡，办起了以家电维修为主体的多种经营部，每年收入已达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万余元，被当地政府树为“科技致富带头人”。与其同村一位姓刘的青年，同年在某普高毕业后没有考上大学，外出打工，收入微薄，前两年回到家里想创业，苦于无一技之长而计划落空，至今日子过得相当艰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04920" y="884160"/>
            <a:ext cx="8686800" cy="5089320"/>
            <a:chOff x="304920" y="884160"/>
            <a:chExt cx="8686800" cy="5089320"/>
          </a:xfrm>
        </p:grpSpPr>
        <p:sp>
          <p:nvSpPr>
            <p:cNvPr id="69" name=""/>
            <p:cNvSpPr/>
            <p:nvPr/>
          </p:nvSpPr>
          <p:spPr>
            <a:xfrm>
              <a:off x="304920" y="884160"/>
              <a:ext cx="5216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304920" y="884160"/>
              <a:ext cx="8686800" cy="5089320"/>
              <a:chOff x="304920" y="884160"/>
              <a:chExt cx="8686800" cy="5089320"/>
            </a:xfrm>
          </p:grpSpPr>
          <p:sp>
            <p:nvSpPr>
              <p:cNvPr id="71" name=""/>
              <p:cNvSpPr/>
              <p:nvPr/>
            </p:nvSpPr>
            <p:spPr>
              <a:xfrm>
                <a:off x="304920" y="884160"/>
                <a:ext cx="5216400" cy="508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04920" y="884160"/>
                <a:ext cx="8686800" cy="264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启示：“天生我才必有用”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能力是打开富裕大门的金钥匙。该校有一批毕业生，凭借在职校学得的一技之长，主动投身于市场经济的大潮，或经商、或办企业，或打工，历经岁月的洗礼，涌现出一批老板、经理、企业主管。如彭雄毕业后从摆地摊开始涉足商海，单枪匹马闯市场，开过店，跑过贩运，靠勤劳和智慧创下了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多万元的产业，比同辈人早一步过上了小康生活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1143000"/>
            <a:ext cx="7543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路在脚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中职生的成功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985000" y="77760"/>
            <a:ext cx="2778120" cy="3274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47920" y="13716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124080"/>
            <a:ext cx="8458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树立正确的成才与就业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打好知识基础，提高学习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苦练职业技能，树立创新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成良好的个性品质，提高社会适应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85800"/>
            <a:ext cx="4343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它需要我们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0" y="281952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实现自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320040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学们：学了这堂课，你有什么收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你们今后的人生有了有新的认识，请写下来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609480"/>
            <a:ext cx="3048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269040" y="0"/>
            <a:ext cx="2646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90920" y="274320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黑体"/>
              </a:rPr>
              <a:t>再见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4147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03320" y="152280"/>
            <a:ext cx="182628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巨人姚的大灌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500688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95480" y="0"/>
            <a:ext cx="5554800" cy="655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6040" y="152280"/>
            <a:ext cx="1826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在连输三场大半截入土的情况下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中国男人竟然还有发起了“骇人听闻”的绝地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00080"/>
            <a:ext cx="8381880" cy="64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5008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5105520"/>
            <a:ext cx="8991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地时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，在雅典奥运会男篮小组赛最后一战中，中国男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7-6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击败世界冠军塞黑男篮，在生死战中获得关键胜利，以小组第四进入八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4267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于中职生来说，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实现自我也就是一个释放个人潜能、扩展自我、实现个性化成才的过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也通常是一个发现不为人知甚至也不为己的才能的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838080"/>
            <a:ext cx="6248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什么是实现自我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438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自我就是充分发挥自己的潜能、创造力和才能，让自己作出有意义与价值的贡献，并实现自己的理想与抱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400800" y="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219320"/>
            <a:ext cx="807732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释放潜能，体验成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      ——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如何实现自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树立“自己救自己”的信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219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天生我才必有用 —李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905120"/>
            <a:ext cx="7543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树立远大的理想与近期的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释放潜能、发展特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积极行动，体验成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15000" y="4384800"/>
            <a:ext cx="34290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1:08:31Z</dcterms:created>
  <dc:creator> 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06:13Z</dcterms:modified>
  <cp:revision>3</cp:revision>
  <dc:subject>主题班会课件(分28大类): http://shop62905894.taobao.com</dc:subject>
  <dc:title>主题班会课件(分28大类): http://shop62905894.taobao.com</dc:title>
</cp:coreProperties>
</file>