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A09-34D0-4105-B5D4-6932EA58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3C3-691B-4064-8137-634AE2E4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16D-0ED3-49EA-A603-90A08FA7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DBA-4E22-410A-A887-6DF16DA8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ACD0-6994-4595-8CDF-6CDFD482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BF1D-D384-42E2-8016-67496D58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EF7E-989C-4539-8409-8F52778E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87AE-2EDF-44C0-975D-9917128C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E2A7-14BE-437F-91D2-D085B174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4A97-BBEE-49AC-97D1-5779611B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BAC6-7A68-431B-9971-1212EEF5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E1B-8926-4211-9E6D-CEDE8CF8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DF58-A095-4623-8191-7F7E4707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CCB2-2A2F-46EC-A744-1306A57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3C06-36B6-4438-9161-4317AFB4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766D-1A91-4753-A941-6DAE1508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D381-DC37-44FA-BFFE-C1AD090F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3E6-AE1B-4815-B3DB-E4EB19FB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695-8C1B-4AC7-9B87-9AA418A3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11D-8C2D-4C74-B76C-BADCA276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A84-F4F7-4067-BEBB-5F8705BC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7CB-D2E1-4B93-8F8B-984EFB49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40E-000A-4847-B1B6-F5BB0D42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BB3-AC67-47A7-96E3-F7D61A60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236B-2A95-4AE2-9323-1D675B2B3737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E35C-3634-4F54-9057-6254CEA397C7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1711440"/>
            <a:ext cx="603108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认真是学习成功的关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52800" y="3357720"/>
            <a:ext cx="22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顾炎武——明末清初的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爱国主义思想家、著名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学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492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37" b="0"/>
          <a:stretch/>
        </p:blipFill>
        <p:spPr>
          <a:xfrm>
            <a:off x="466560" y="260280"/>
            <a:ext cx="3745080" cy="2938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39120" y="5661000"/>
            <a:ext cx="1531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eec85e"/>
                </a:solidFill>
                <a:uFillTx/>
                <a:latin typeface="Verdana"/>
                <a:hlinkClick r:id="rId4" action="ppaction://hlinksldjump"/>
              </a:rPr>
              <a:t>——</a:t>
            </a:r>
            <a:r>
              <a:rPr b="0" lang="zh-CN" sz="2800" spc="-1" strike="noStrike" u="sng">
                <a:solidFill>
                  <a:srgbClr val="eec85e"/>
                </a:solidFill>
                <a:uFillTx/>
                <a:latin typeface="Verdana"/>
                <a:hlinkClick r:id="rId5" action="ppaction://hlinksldjump"/>
              </a:rPr>
              <a:t>顾炎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93080" y="4205160"/>
            <a:ext cx="179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1712"/>
                </a:solidFill>
                <a:latin typeface="Verdana"/>
                <a:ea typeface="华文彩云"/>
              </a:rPr>
              <a:t>天 下 兴 亡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1712"/>
                </a:solidFill>
                <a:latin typeface="Verdana"/>
                <a:ea typeface="华文彩云"/>
              </a:rPr>
              <a:t>匹 夫 有 责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2680" y="392904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</a:rPr>
              <a:t>昆山亭林公园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7960" y="1528560"/>
            <a:ext cx="66780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学 习 态 度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692280"/>
            <a:ext cx="0" cy="1944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763640" y="549360"/>
            <a:ext cx="21600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2852640"/>
            <a:ext cx="0" cy="1728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4581000"/>
            <a:ext cx="21600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547640" y="2565000"/>
            <a:ext cx="21600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2708280"/>
            <a:ext cx="21600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36360" y="195120"/>
            <a:ext cx="23324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彩云"/>
                <a:ea typeface="华文彩云"/>
              </a:rPr>
              <a:t>积极的学习态度</a:t>
            </a:r>
            <a:r>
              <a:rPr b="0" lang="zh-CN" sz="3600" spc="-1" strike="noStrike">
                <a:solidFill>
                  <a:srgbClr val="eaeaea"/>
                </a:solidFill>
                <a:latin typeface="华文彩云"/>
                <a:ea typeface="华文彩云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4360" y="4221000"/>
            <a:ext cx="2223000" cy="717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ec85e"/>
                </a:solidFill>
                <a:uFillTx/>
                <a:latin typeface="Verdana"/>
                <a:ea typeface="华文彩云"/>
                <a:hlinkClick r:id="rId1" action="ppaction://hlinksldjump"/>
              </a:rPr>
              <a:t>消极的学习态度</a:t>
            </a:r>
            <a:r>
              <a:rPr b="0" lang="zh-CN" sz="3600" spc="-1" strike="noStrike" u="sng">
                <a:solidFill>
                  <a:srgbClr val="eec85e"/>
                </a:solidFill>
                <a:uFillTx/>
                <a:latin typeface="Verdana"/>
                <a:ea typeface="华文彩云"/>
                <a:hlinkClick r:id="rId2" action="ppaction://hlinksldjump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7400" y="333360"/>
            <a:ext cx="50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积极、主动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认真、虚心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有决心、有信心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有恒心、有进取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自强不息、勇往直前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97400" y="4365720"/>
            <a:ext cx="50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消极、被动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马虎、浮躁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无朝气、无进取心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自卑昏庸、得过且过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8680" y="2622600"/>
            <a:ext cx="3594600" cy="520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认真是积极的学习态度的核心和关键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42440" y="103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Verdana"/>
              </a:rPr>
              <a:t>新闻资料：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88000" y="1300320"/>
            <a:ext cx="491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2004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年美国报纸揭出杜邦公司生产特富龙品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不粘和防锈产品可能对人体有害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16920" y="2957400"/>
            <a:ext cx="222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2005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年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月美国环保署状告杜邦公司一案结束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杜邦公司被罚款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···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0720" y="4253040"/>
            <a:ext cx="56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2006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年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月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15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日美国环保署得出结论：生产上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产品的化工原料—全氟辛酸“对人类很可能致癌”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2854440" cy="4076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59200" y="-27000"/>
            <a:ext cx="3052800" cy="3789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094440" y="1484280"/>
            <a:ext cx="3049560" cy="407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68360" y="3849840"/>
            <a:ext cx="3816360" cy="3108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93080" cy="6611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21040" y="3030480"/>
            <a:ext cx="606960" cy="527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舞蹈《千手观音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4349880" cy="6524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6360" y="46080"/>
            <a:ext cx="4367160" cy="655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88520" y="41436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ahoma"/>
                <a:ea typeface="华文彩云"/>
              </a:rPr>
              <a:t>认真 </a:t>
            </a: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是一种为人处世的严谨的态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9160" y="1347840"/>
            <a:ext cx="31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ahoma"/>
                <a:ea typeface="华文彩云"/>
              </a:rPr>
              <a:t>认真 </a:t>
            </a: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是一种做事的作风、风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56960" y="2282760"/>
            <a:ext cx="11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ahoma"/>
                <a:ea typeface="华文彩云"/>
              </a:rPr>
              <a:t>认真</a:t>
            </a: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华文彩云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是一种处世行事的责任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1080" y="3357720"/>
            <a:ext cx="49662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ahoma"/>
                <a:ea typeface="华文彩云"/>
              </a:rPr>
              <a:t>学习态度</a:t>
            </a:r>
            <a:r>
              <a:rPr b="0" lang="zh-CN" sz="3600" spc="-1" strike="noStrike" u="sng">
                <a:solidFill>
                  <a:srgbClr val="eec85e"/>
                </a:solidFill>
                <a:uFillTx/>
                <a:latin typeface="Tahoma"/>
                <a:ea typeface="华文彩云"/>
                <a:hlinkClick r:id="rId1" action="ppaction://hlinksldjump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指学习者对待学习比较稳定的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                          </a:t>
            </a: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反应倾向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84240" y="4732200"/>
            <a:ext cx="292392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ahoma"/>
                <a:ea typeface="华文彩云"/>
              </a:rPr>
              <a:t>认真是积极的学习态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6920" y="431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Verdana"/>
                <a:ea typeface="华文彩云"/>
              </a:rPr>
              <a:t>认真是学生应有的学习态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2400" y="1584360"/>
            <a:ext cx="4569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ec85e"/>
                </a:solidFill>
                <a:uFillTx/>
                <a:latin typeface="Verdana"/>
                <a:ea typeface="华文彩云"/>
                <a:hlinkClick r:id="rId1" action="ppaction://hlinksldjump"/>
              </a:rPr>
              <a:t>认真是学生的应有的责任心、责任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24040" y="2716200"/>
            <a:ext cx="2923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ec85e"/>
                </a:solidFill>
                <a:uFillTx/>
                <a:latin typeface="Verdana"/>
                <a:ea typeface="华文彩云"/>
                <a:hlinkClick r:id="rId2" action="ppaction://hlinksldjump"/>
              </a:rPr>
              <a:t>认真是学习成功的关键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20480" y="3860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Verdana"/>
                <a:ea typeface="华文彩云"/>
              </a:rPr>
              <a:t>用认真的态度来规范自己的学习行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86200" y="801720"/>
            <a:ext cx="531612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佩奇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·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皮特</a:t>
            </a:r>
            <a:r>
              <a:rPr b="0" lang="zh-CN" sz="36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——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美国马塞尔大学传播系教授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五岁时失去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97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％的视力。靠勤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和认真赢得顶级教授美誉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43080" y="2793960"/>
            <a:ext cx="474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Verdana"/>
              </a:rPr>
              <a:t>      “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</a:rPr>
              <a:t>了无生气，不负责任，欠缺渴求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Verdana"/>
              </a:rPr>
              <a:t>才是真正的伤残”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8000" y="58104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测测评评——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4920" y="202104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试试练练——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51160" y="338940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比比学学—— 顾炎武“自督读书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30960" y="36504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试试练练—— 改变学习态度和习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65320" y="137304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。 在自身找原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0760" y="216540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。 养成认真检查的习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7320" y="3100320"/>
            <a:ext cx="29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。 自我惩罚（多遍纠错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27880" y="3965400"/>
            <a:ext cx="50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。 从小事做起，认认真真对待每一天、每一件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Verdana"/>
              </a:rPr>
              <a:t>认真学习是认真做事、认真做人的开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6:26:14Z</dcterms:created>
  <dc:creator>MS User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22:59Z</dcterms:modified>
  <cp:revision>23</cp:revision>
  <dc:subject>主题班会课件(分28大类): http://shop62905894.taobao.com</dc:subject>
  <dc:title>主题班会课件(分28大类): http://shop62905894.taobao.com</dc:title>
</cp:coreProperties>
</file>