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7.jpeg" ContentType="image/jpeg"/>
  <Override PartName="/ppt/media/image28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4E0E-94E9-44DE-BC98-C509CFC3E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EB70-BB8D-486B-9F12-18303AB49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1540-03A6-442E-AFFD-E6BB00C19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D7C9-CA72-4413-A161-253409D4E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435A-497A-4B96-887A-6F29B8054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97E2-3C76-4766-B9F3-96DF7486F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61A1-FD60-4675-BC46-98D37FEB6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5FA3-E29F-4964-B66E-292F71BE9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C0B5-7ABD-4DDB-8041-2CC375E94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9254-E113-47E8-9638-A224C16D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A78F-57D2-4084-B27E-5DCC4679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2BF9-B79C-48E9-8867-4748C632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A42FC-5628-4002-9022-223B84C3886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file:///C:/Documents%20and%20Settings/Administrator/Local%20Settings/voice/1.mp3" TargetMode="External"/><Relationship Id="rId3" Type="http://schemas.openxmlformats.org/officeDocument/2006/relationships/hyperlink" Target="file:///C:/Documents%20and%20Settings/Administrator/Local%20Settings/voice/2.mp3" TargetMode="External"/><Relationship Id="rId4" Type="http://schemas.openxmlformats.org/officeDocument/2006/relationships/hyperlink" Target="file:///C:/Documents%20and%20Settings/Administrator/Local%20Settings/voice/V00.WAV" TargetMode="Externa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C:/Documents%20and%20Settings/Administrator/Local%20Settings/banhui/xzqh1.rm" TargetMode="External"/><Relationship Id="rId3" Type="http://schemas.openxmlformats.org/officeDocument/2006/relationships/hyperlink" Target="file:///C:/Documents%20and%20Settings/Administrator/Local%20Settings/banhui/xzqh1.rm" TargetMode="External"/><Relationship Id="rId4" Type="http://schemas.openxmlformats.org/officeDocument/2006/relationships/hyperlink" Target="file:///C:/Documents%20and%20Settings/Administrator/Local%20Settings/banhui/xzqh2.rm" TargetMode="External"/><Relationship Id="rId5" Type="http://schemas.openxmlformats.org/officeDocument/2006/relationships/hyperlink" Target="file:///C:/Documents%20and%20Settings/Administrator/Local%20Settings/banhui/xzqh2.rm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916280"/>
            <a:ext cx="8915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</a:t>
            </a:r>
            <a:r>
              <a:rPr b="1" lang="zh-CN" sz="6600" spc="-1" strike="noStrike">
                <a:solidFill>
                  <a:srgbClr val="ff0000"/>
                </a:solidFill>
                <a:latin typeface="华文新魏"/>
                <a:ea typeface="华文新魏"/>
              </a:rPr>
              <a:t>触及灵魂，激发动力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257800" y="35053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高三（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743200" y="5257800"/>
            <a:ext cx="58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主持人：余振  朱晓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362320" y="2057400"/>
            <a:ext cx="54864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Times New Roman"/>
                <a:ea typeface="华文彩云"/>
              </a:rPr>
              <a:t>许  愿  瓶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5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295280" y="1371600"/>
            <a:ext cx="7162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 u="sng">
                <a:solidFill>
                  <a:srgbClr val="ff3300"/>
                </a:solidFill>
                <a:uFillTx/>
                <a:latin typeface="Times New Roman"/>
                <a:ea typeface="华文彩云"/>
              </a:rPr>
              <a:t>牢记父母的嘱托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5638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" dur="1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62120" y="685800"/>
            <a:ext cx="5181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家长电话录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2362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3880" y="2362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4320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384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25780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19320" y="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隶书"/>
                <a:ea typeface="隶书"/>
              </a:rPr>
              <a:t>《高三（</a:t>
            </a:r>
            <a:r>
              <a:rPr b="1" lang="zh-CN" sz="4400" spc="-1" strike="noStrike">
                <a:solidFill>
                  <a:srgbClr val="3333cc"/>
                </a:solidFill>
                <a:latin typeface="隶书"/>
                <a:ea typeface="隶书"/>
              </a:rPr>
              <a:t>5</a:t>
            </a:r>
            <a:r>
              <a:rPr b="1" lang="zh-CN" sz="4400" spc="-1" strike="noStrike">
                <a:solidFill>
                  <a:srgbClr val="3333cc"/>
                </a:solidFill>
                <a:latin typeface="隶书"/>
                <a:ea typeface="隶书"/>
              </a:rPr>
              <a:t>）班行动指南》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914400"/>
            <a:ext cx="8839080" cy="36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、模范遵守学校各项规章制度，做其他人的表率。</a:t>
            </a:r>
            <a:br>
              <a:rPr sz="3200"/>
            </a:b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、以饱满的斗志投入备考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认真对待，一丝不苟，不被惰性情绪左右。</a:t>
            </a:r>
            <a:br>
              <a:rPr sz="3200"/>
            </a:b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、充分利用时间，最大限度地压缩非学习时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、提升自己的心理承受力，做到心胸豁达，不为小事所累，让自己尽快成熟起来。</a:t>
            </a:r>
            <a:br>
              <a:rPr sz="3200"/>
            </a:b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、重视解题规范，规范要立足平时，注重积累和总结，让解题规范贯穿于各个学习环节中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                       高三（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）班全体同学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28600" y="762120"/>
            <a:ext cx="914400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在我心中曾经有一个梦 要用歌声让你忘了所有的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灿烂星空谁是真的英雄  平凡的人们给我最多感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再没有恨也没有了痛   但愿人间处处都有爱的影踪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用我们的歌换你真心笑容  祝福你的人生从此与众不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把握生命里的每一分钟  全力以赴我们心中的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不经历风雨怎么见彩虹  没有人能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黑体"/>
                <a:ea typeface="黑体"/>
              </a:rPr>
              <a:t>随随便便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成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把握生命里每一次感动  和心爱的朋友热情相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让真心的话和开心的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在你我的心里流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啦啦啦啦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..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52480" y="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真心英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117880" y="-55440"/>
            <a:ext cx="397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86000" y="2057400"/>
            <a:ext cx="48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  <a:ea typeface="幼圆"/>
              </a:rPr>
              <a:t>   </a:t>
            </a:r>
            <a:r>
              <a:rPr b="1" lang="zh-CN" sz="9600" spc="-1" strike="noStrike">
                <a:solidFill>
                  <a:srgbClr val="ff3300"/>
                </a:solidFill>
                <a:latin typeface="隶书"/>
                <a:ea typeface="隶书"/>
              </a:rPr>
              <a:t>再 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0880" y="632448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视频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05120" y="632448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视频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03640" cy="3370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2260440"/>
            <a:ext cx="9144000" cy="4597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029200" y="0"/>
            <a:ext cx="4114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809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3809880"/>
            <a:ext cx="4648320" cy="3024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648320" y="3809880"/>
            <a:ext cx="44956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76920" cy="3576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76920" y="0"/>
            <a:ext cx="4267080" cy="3576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0" y="3581280"/>
            <a:ext cx="4876920" cy="3276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4876920" y="3581280"/>
            <a:ext cx="42670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352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572000" y="3352680"/>
            <a:ext cx="45720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95680" cy="3625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495680" y="0"/>
            <a:ext cx="4648320" cy="3591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0" y="3657600"/>
            <a:ext cx="4495680" cy="3200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4495680" y="3581280"/>
            <a:ext cx="464832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276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3276720"/>
            <a:ext cx="91440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6561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6576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0" y="3657600"/>
            <a:ext cx="4495680" cy="31654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4495680" y="3657600"/>
            <a:ext cx="4648320" cy="32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5T13:08:53Z</dcterms:created>
  <dc:creator>aaa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6:43:53Z</dcterms:modified>
  <cp:revision>17</cp:revision>
  <dc:subject>主题班会课件(分28大类): http://shop62905894.taobao.com</dc:subject>
  <dc:title>主题班会课件(分28大类): http://shop62905894.taobao.com</dc:title>
</cp:coreProperties>
</file>