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8.png" ContentType="image/png"/>
  <Override PartName="/ppt/media/image5.gif" ContentType="image/gif"/>
  <Override PartName="/ppt/media/image6.jpeg" ContentType="image/jpeg"/>
  <Override PartName="/ppt/media/image10.png" ContentType="image/png"/>
  <Override PartName="/ppt/media/image27.jpeg" ContentType="image/jpeg"/>
  <Override PartName="/ppt/media/image9.png" ContentType="image/png"/>
  <Override PartName="/ppt/media/image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3.gif" ContentType="image/gif"/>
  <Override PartName="/ppt/media/image2.jpeg" ContentType="image/jpeg"/>
  <Override PartName="/ppt/media/image25.wmf" ContentType="image/x-wmf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48A-05A0-4313-AD40-8C9BCB06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960-D8BD-4337-84D6-8589B0A7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239-BC8E-49C1-A497-6ECFF3DE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6AA-E2F3-4EF6-AD07-2A45CAE2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0C2-FB44-4B5C-ACC7-659C18F4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D9E-85BA-40DB-9B06-ECB63F74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D7E-5610-499D-ABE3-B102D5BD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4D0-7C55-4359-BCE7-28243C42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41B-CDAE-4C6F-BDA4-07B196C0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863-EDE1-4BB1-81F8-89086F3E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DC1-67F1-496C-BE2A-6CF0C378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D94-720C-4D5A-8946-A0407030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6DE2-AED8-4D9B-9FB0-1E0EF7D223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476280"/>
            <a:ext cx="7848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花样年华，前程锦绣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3500280"/>
            <a:ext cx="518328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高二（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）班学风主题班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8064360" cy="4819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258920" y="2349360"/>
            <a:ext cx="6697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两科不合格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5783040" cy="6120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258920" y="2349360"/>
            <a:ext cx="6697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三科不合格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6265800" cy="32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"/>
          <p:cNvSpPr txBox="1"/>
          <p:nvPr/>
        </p:nvSpPr>
        <p:spPr>
          <a:xfrm>
            <a:off x="684360" y="2492280"/>
            <a:ext cx="764856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期中期末各班分数段人数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692360" y="3357720"/>
            <a:ext cx="7270560" cy="3332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76360" y="1341360"/>
            <a:ext cx="719280" cy="287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1628640"/>
            <a:ext cx="719280" cy="358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1341360"/>
            <a:ext cx="719280" cy="287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341360"/>
            <a:ext cx="719280" cy="287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51640" y="1341360"/>
            <a:ext cx="718920" cy="287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2000" y="4724280"/>
            <a:ext cx="719280" cy="287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5013360"/>
            <a:ext cx="719280" cy="358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4653000"/>
            <a:ext cx="71928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0000" y="4653000"/>
            <a:ext cx="71928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04000" y="4653000"/>
            <a:ext cx="71928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56720" y="4724280"/>
            <a:ext cx="718920" cy="2890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24000" y="189000"/>
            <a:ext cx="4897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学习方法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34136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最大的必要是积累</a:t>
            </a:r>
            <a:r>
              <a:rPr b="1" lang="zh-CN" sz="2400" spc="-1" strike="noStrike">
                <a:solidFill>
                  <a:srgbClr val="0066ff"/>
                </a:solidFill>
                <a:latin typeface="华文中宋"/>
                <a:ea typeface="华文中宋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华文中宋"/>
                <a:ea typeface="华文中宋"/>
              </a:rPr>
              <a:t>具体可归纳为“三步曲”（理解—识记—运用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2421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华文中宋"/>
              </a:rPr>
              <a:t>听课中注意老师讲解时的思维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中宋"/>
              </a:rPr>
              <a:t>多问为什么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华文中宋"/>
              </a:rPr>
              <a:t>要这样思考，这样的方法怎样是产生的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建立纠错本</a:t>
            </a:r>
            <a:r>
              <a:rPr b="1" lang="zh-CN" sz="2400" spc="-1" strike="noStrike">
                <a:solidFill>
                  <a:srgbClr val="cc0099"/>
                </a:solidFill>
                <a:latin typeface="华文中宋"/>
                <a:ea typeface="华文中宋"/>
              </a:rPr>
              <a:t>。把平时容易出现错误的知识或推理记载下来，以防再犯。争取做到：找错、析错、改错、防错。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华文中宋"/>
              </a:rPr>
              <a:t>反复巩固，背熟公式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中宋"/>
              </a:rPr>
              <a:t>消灭前学后忘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00536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黑体"/>
              </a:rPr>
              <a:t>、特殊学科的特殊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例如英语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中宋"/>
              </a:rPr>
              <a:t>坚持听说练习，着重扩大词汇量和阅读量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中宋"/>
              </a:rPr>
              <a:t>多读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中宋"/>
              </a:rPr>
              <a:t>，多背单词、词组、句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58972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记笔记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华文中宋"/>
                <a:ea typeface="华文中宋"/>
              </a:rPr>
              <a:t>好记性不如烂笔头，眼过百遍不如手动十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08000" y="1052640"/>
            <a:ext cx="6337440" cy="1630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自我实现的预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你想成为什么样的人，你自己就会不自觉地去证明你自己就是这样的人；你认为你是很有力量的，你就很有力量；你认为你是一个容易失败，被别人抛弃的人，你就会找很多的理由证明你是一个失败者。</a:t>
            </a: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700360" y="0"/>
            <a:ext cx="4176720" cy="12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中宋"/>
              </a:rPr>
              <a:t>班主任寄语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916360" y="3573000"/>
            <a:ext cx="590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黑体"/>
              </a:rPr>
              <a:t>战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“两考”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黑体"/>
              </a:rPr>
              <a:t>，超越自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95640" y="1341360"/>
            <a:ext cx="3200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目标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2316240" cy="33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219320"/>
            <a:ext cx="594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430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260280"/>
            <a:ext cx="46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期末各科成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219320"/>
          <a:ext cx="7391520" cy="5230800"/>
        </p:xfrm>
        <a:graphic>
          <a:graphicData uri="http://schemas.openxmlformats.org/drawingml/2006/table">
            <a:tbl>
              <a:tblPr/>
              <a:tblGrid>
                <a:gridCol w="2011320"/>
                <a:gridCol w="2013120"/>
                <a:gridCol w="1662120"/>
                <a:gridCol w="1704960"/>
              </a:tblGrid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科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班平均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级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最高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7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3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历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5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地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4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03280" y="130320"/>
          <a:ext cx="7543800" cy="6727680"/>
        </p:xfrm>
        <a:graphic>
          <a:graphicData uri="http://schemas.openxmlformats.org/drawingml/2006/table">
            <a:tbl>
              <a:tblPr/>
              <a:tblGrid>
                <a:gridCol w="3097440"/>
                <a:gridCol w="2232000"/>
                <a:gridCol w="221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文科班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班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  <a:ea typeface="黑体"/>
                        </a:rPr>
                        <a:t>沈敏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  <a:ea typeface="黑体"/>
                        </a:rPr>
                        <a:t>李惠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胡悦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  <a:ea typeface="黑体"/>
                        </a:rPr>
                        <a:t>梁嘉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  <a:ea typeface="黑体"/>
                        </a:rPr>
                        <a:t>龚桂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  <a:ea typeface="黑体"/>
                        </a:rPr>
                        <a:t>龚焯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谭伟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  <a:ea typeface="黑体"/>
                        </a:rPr>
                        <a:t>刘美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  <a:ea typeface="黑体"/>
                        </a:rPr>
                        <a:t>陈明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冯嘉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  <a:ea typeface="黑体"/>
                        </a:rPr>
                        <a:t>陈锡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李燕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 txBox="1"/>
          <p:nvPr/>
        </p:nvSpPr>
        <p:spPr>
          <a:xfrm>
            <a:off x="2916360" y="2205000"/>
            <a:ext cx="4495680" cy="20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班前十名同学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40000" y="9079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进步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87000" y="981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退步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5305320"/>
            <a:ext cx="39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逆水行舟，不进则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敲响学习警钟，希望并且相信这些同学会在期中考试前奋起直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2243160" cy="460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765840" y="2060640"/>
            <a:ext cx="2378160" cy="460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620640"/>
            <a:ext cx="2335320" cy="5545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340000" y="2276640"/>
            <a:ext cx="2089080" cy="280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89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学习榜样就在身边，同时可以成为你的“学科小老师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382840" cy="5759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987640" y="765000"/>
            <a:ext cx="2820960" cy="561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195960" y="981000"/>
            <a:ext cx="2835360" cy="5543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411280" y="2421000"/>
            <a:ext cx="4465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语数英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189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学习榜样就在身边，同时可以成为你的“学科小老师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2641680" cy="496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03640" y="1557360"/>
            <a:ext cx="2801880" cy="4968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300720" y="692280"/>
            <a:ext cx="2482920" cy="5976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411280" y="2421000"/>
            <a:ext cx="475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文综三科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189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学习榜样就在身边，同时可以成为你的“学科小老师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2230200" cy="561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419640" y="765000"/>
            <a:ext cx="2241360" cy="5761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300720" y="692280"/>
            <a:ext cx="2478240" cy="5761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258920" y="2349360"/>
            <a:ext cx="6697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学业水平测试三科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8351640" cy="4405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258920" y="2349360"/>
            <a:ext cx="6697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一科不合格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2:32:41Z</dcterms:created>
  <dc:creator>该资料由书利华教育网【www.ShuLiHua.net】为您整理提供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14:22Z</dcterms:modified>
  <cp:revision>42</cp:revision>
  <dc:subject>主题班会课件(分28大类): http://shop62905894.taobao.com</dc:subject>
  <dc:title>主题班会课件(分28大类): http://shop62905894.taobao.com</dc:title>
</cp:coreProperties>
</file>