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65A6-4344-404E-94C4-F3114B383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5960" y="465444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AEFE-86D6-44ED-BBF0-2E3A07FA1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91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67A5-BE27-4D70-87C3-685647312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3064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532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8596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3064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532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00C6-7265-40D8-A16A-23281AD20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35618-7916-4D5B-A3DC-21932B0B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BD8A4-7744-4194-9B01-7083C275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26C48-FD85-4CDE-B7AC-7EEF424C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293F7-8F7B-45B8-90E3-C4770F82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29CBC-181E-4236-8F40-8B93BBF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42560" y="19252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4F0B7-1A8D-48A6-9587-69786532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D15C4-63BE-4FD9-9A19-02EF88BE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8E18-D513-4A1D-B3DF-4DA2263FB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91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B5047-4074-4089-9581-243AE9C6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CB3BA-9AD9-422E-BD24-40786A1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85960" y="465444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35EC9-65EA-4E22-949D-10310A52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91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D7EB6-4150-41EC-B8EE-9A838B1D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3064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7532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8596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3064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7532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64374-E81F-4546-B8E3-3062BFF2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7E96-9FC7-4ED6-8CBC-DF27D456C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4752-832A-4D9B-84F7-E217B90C3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D465-C923-4B59-86D8-76C4038E0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9252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706C-A8C3-4C12-9F08-16B6202CA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E0F4-DCF8-4D05-B850-6BF940623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91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29DD-514C-43FB-8865-FC1550C42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7635-DCBD-41E0-92BD-075752B75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1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00520" y="1600200"/>
              <a:ext cx="839304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714480" y="60958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42968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F4E-297D-4E8A-AEB9-282965F7E8EA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45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1042560" y="6100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684600" y="61009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7399440" y="6100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7BFC-395E-4CFF-AED3-FC1FA6D4C043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24160" y="9874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胖娃简体"/>
              </a:rPr>
              <a:t>主题班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8160" y="242100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自信的中国 自信的我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24160" y="443700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主讲人</a:t>
            </a:r>
            <a:r>
              <a:rPr b="0" lang="en-US" sz="4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: </a:t>
            </a:r>
            <a:r>
              <a:rPr b="0" lang="zh-CN" sz="4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李  玲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5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184520" y="1628640"/>
            <a:ext cx="115596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新宋体"/>
                <a:ea typeface="新宋体"/>
              </a:rPr>
              <a:t>①</a:t>
            </a:r>
            <a:r>
              <a:rPr b="1" lang="zh-CN" sz="4000" spc="-1" strike="noStrike">
                <a:solidFill>
                  <a:srgbClr val="6600ff"/>
                </a:solidFill>
                <a:latin typeface="文鼎香肠体"/>
                <a:ea typeface="文鼎香肠体"/>
              </a:rPr>
              <a:t> </a:t>
            </a:r>
            <a:r>
              <a:rPr b="1" lang="zh-CN" sz="4000" spc="-1" strike="noStrike">
                <a:solidFill>
                  <a:srgbClr val="6600ff"/>
                </a:solidFill>
                <a:latin typeface="文鼎香肠体"/>
                <a:ea typeface="文鼎香肠体"/>
              </a:rPr>
              <a:t>我是天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57240" y="333360"/>
            <a:ext cx="48531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96880" y="692280"/>
            <a:ext cx="5159520" cy="561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9720" y="1700280"/>
            <a:ext cx="13993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② </a:t>
            </a:r>
            <a:r>
              <a:rPr b="1" lang="zh-CN" sz="4000" spc="-1" strike="noStrike">
                <a:solidFill>
                  <a:srgbClr val="000000"/>
                </a:solidFill>
                <a:latin typeface="文鼎霹雳体"/>
                <a:ea typeface="文鼎霹雳体"/>
              </a:rPr>
              <a:t>自卑的不利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33360"/>
            <a:ext cx="4753080" cy="6167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011360" y="1700280"/>
            <a:ext cx="13993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③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汉鼎繁中变"/>
              </a:rPr>
              <a:t>自信的春春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36520" y="3141720"/>
            <a:ext cx="33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08160" y="260280"/>
            <a:ext cx="3301920" cy="3346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737240" y="3141720"/>
            <a:ext cx="3514680" cy="343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521240" y="260280"/>
            <a:ext cx="3533760" cy="326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803360" y="1628640"/>
            <a:ext cx="13993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④ </a:t>
            </a:r>
            <a:r>
              <a:rPr b="1" lang="zh-CN" sz="4000" spc="-1" strike="noStrike">
                <a:solidFill>
                  <a:srgbClr val="cc9900"/>
                </a:solidFill>
                <a:latin typeface="文鼎中特广告体"/>
                <a:ea typeface="文鼎中特广告体"/>
              </a:rPr>
              <a:t>合理的自信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方正剪纸简体"/>
              </a:rPr>
              <a:t>问题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1800" y="2923920"/>
            <a:ext cx="6048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</a:rPr>
              <a:t>自我认识的几种表现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48880" y="1828800"/>
            <a:ext cx="87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文鼎霹雳体"/>
              </a:rPr>
              <a:t>自卑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  <a:ea typeface="仿宋_GB2312"/>
              </a:rPr>
              <a:t>——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过低地评价自己，看不到自己的优点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文鼎霹雳体"/>
              </a:rPr>
              <a:t>自负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过高地评价自己，看不到自己的缺点 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胖娃简体"/>
              </a:rPr>
              <a:t>自信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恰当地评价自己的优缺点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comb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黑体"/>
              </a:rPr>
              <a:t>三、建立自信的方法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44520" y="2923920"/>
            <a:ext cx="67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ff"/>
                </a:solidFill>
                <a:latin typeface="方正隶书简体"/>
                <a:ea typeface="方正隶书简体"/>
              </a:rPr>
              <a:t>如何增强自信</a:t>
            </a:r>
            <a:r>
              <a:rPr b="1" lang="en-US" sz="7200" spc="-1" strike="noStrike">
                <a:solidFill>
                  <a:srgbClr val="6600ff"/>
                </a:solidFill>
                <a:latin typeface="方正隶书简体"/>
                <a:ea typeface="方正隶书简体"/>
              </a:rPr>
              <a:t>?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、认识自己的优点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40160" y="1628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的优点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08160" y="2349360"/>
          <a:ext cx="8130960" cy="3713400"/>
        </p:xfrm>
        <a:graphic>
          <a:graphicData uri="http://schemas.openxmlformats.org/drawingml/2006/table">
            <a:tbl>
              <a:tblPr/>
              <a:tblGrid>
                <a:gridCol w="2500200"/>
                <a:gridCol w="2887560"/>
                <a:gridCol w="27432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类  别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他人评价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学习能力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交际能力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文体才能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创新能力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solidFill>
                      <a:srgbClr val="eca07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3160" y="340920"/>
            <a:ext cx="474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学生才艺展示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08160" y="1701720"/>
            <a:ext cx="8208720" cy="4967280"/>
          </a:xfrm>
          <a:prstGeom prst="rect">
            <a:avLst/>
          </a:prstGeom>
          <a:solidFill>
            <a:srgbClr val="eca07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自  信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自信是一种精神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更是一种品质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自信是一种态度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更是一种完善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拥抱着自信的太阳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你的周围充满阳光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紧握着自信的船浆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你的世界渡向前方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用一个微笑告诉你面前的困难“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行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！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用一个微笑告诉你自己“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一定行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！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用一个微笑告诉你周围的世界“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肯定行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！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哪怕你有百分之一的希望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把它告诉大山“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定会成功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！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因为你拥有自信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自信可以放大能力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缩小困难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相信自己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45240" y="69228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187" dur="18781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3160" y="456840"/>
            <a:ext cx="46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学生才艺展示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2800" y="1557360"/>
            <a:ext cx="8420040" cy="48960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隐形的翅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每一次    都在徘徊孤单中坚强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每一次    就算很受伤也不闪泪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知道    我一直有双隐形的翅膀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带我飞    飞过绝望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不去想     他们拥有美丽的太阳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看见     每天的夕阳也会有变化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知道     我一直有双隐形的翅膀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带我飞      给我希望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终於看到    所有梦想都开花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追逐的年轻    歌声多嘹亮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我终於翱翔    用心凝望不害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哪里会有风    就飞多远吧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473960" y="69228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4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24160" y="9874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胖娃简体"/>
              </a:rPr>
              <a:t>主题班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8160" y="242100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自信的中国 自信的我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24160" y="443700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主讲人</a:t>
            </a:r>
            <a:r>
              <a:rPr b="0" lang="en-US" sz="4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: </a:t>
            </a:r>
            <a:r>
              <a:rPr b="0" lang="zh-CN" sz="4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李  玲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方正剪纸简体"/>
              </a:rPr>
              <a:t>小结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4880" y="2565360"/>
            <a:ext cx="8420040" cy="196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  <a:ea typeface="方正胖娃简体"/>
              </a:rPr>
              <a:t>当我们知道自己有这么多优点时，信心自然会增强！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996633"/>
                </a:solidFill>
                <a:latin typeface="黑体"/>
                <a:ea typeface="黑体"/>
              </a:rPr>
              <a:t>、感受别人的赞美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4880" y="1628280"/>
            <a:ext cx="8427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活动：“优点轰炸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要求：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.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组成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人小组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　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先找一位同学作被“轰炸”者，其它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个   同学轮流说出他的优点、能力和特长，直到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人均被“轰炸”过为止。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可根据 “我的优点”的项目给每位同学指出优点，并列在“他人评价”一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    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态度要认真、真诚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方正剪纸简体"/>
              </a:rPr>
              <a:t>小结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2800" y="2565000"/>
            <a:ext cx="8420040" cy="3095640"/>
          </a:xfrm>
          <a:prstGeom prst="rect">
            <a:avLst/>
          </a:prstGeom>
          <a:solidFill>
            <a:srgbClr val="ff9900">
              <a:alpha val="7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方正隶书简体"/>
                <a:ea typeface="方正隶书简体"/>
              </a:rPr>
              <a:t>别人肯定性的评价能增强自信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方正隶书简体"/>
                <a:ea typeface="方正隶书简体"/>
              </a:rPr>
              <a:t>别人否定性的评价会削弱自信</a:t>
            </a:r>
            <a:r>
              <a:rPr b="0" lang="zh-CN" sz="3200" spc="-1" strike="noStrike">
                <a:solidFill>
                  <a:srgbClr val="402000"/>
                </a:solidFill>
                <a:latin typeface="方正隶书简体"/>
                <a:ea typeface="方正隶书简体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996633"/>
                </a:solidFill>
                <a:latin typeface="黑体"/>
                <a:ea typeface="黑体"/>
              </a:rPr>
              <a:t>、全面提高自身的综合素质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9240" y="692280"/>
            <a:ext cx="7632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2000"/>
                </a:solidFill>
                <a:latin typeface="Times New Roman"/>
                <a:ea typeface="方正综艺简体"/>
              </a:rPr>
              <a:t>介绍邓建军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36520" y="1828800"/>
            <a:ext cx="84250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65240" y="33336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6005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2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33"/>
                </a:solidFill>
                <a:latin typeface="Times New Roman"/>
                <a:ea typeface="黑体"/>
              </a:rPr>
              <a:t>小结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85920" y="2698560"/>
            <a:ext cx="7843680" cy="2530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fae2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bfae2"/>
                </a:solidFill>
                <a:latin typeface="方正胖娃简体"/>
                <a:ea typeface="方正胖娃简体"/>
              </a:rPr>
              <a:t>总而言之</a:t>
            </a:r>
            <a:r>
              <a:rPr b="0" lang="en-US" sz="3600" spc="-1" strike="noStrike">
                <a:solidFill>
                  <a:srgbClr val="fbfae2"/>
                </a:solidFill>
                <a:latin typeface="方正胖娃简体"/>
                <a:ea typeface="方正胖娃简体"/>
              </a:rPr>
              <a:t>,</a:t>
            </a:r>
            <a:r>
              <a:rPr b="0" lang="zh-CN" sz="3600" spc="-1" strike="noStrike">
                <a:solidFill>
                  <a:srgbClr val="fbfae2"/>
                </a:solidFill>
                <a:latin typeface="方正胖娃简体"/>
                <a:ea typeface="方正胖娃简体"/>
              </a:rPr>
              <a:t>要使自己各方本领都过硬才能成为一个真正自信的人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魏碑繁体"/>
                <a:ea typeface="方正魏碑繁体"/>
              </a:rPr>
              <a:t>五  心</a:t>
            </a:r>
            <a:endParaRPr b="0" lang="en-US" sz="6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行楷简体"/>
              </a:rPr>
              <a:t>忠心献给祖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行楷简体"/>
              </a:rPr>
              <a:t>爱心献给社会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行楷简体"/>
              </a:rPr>
              <a:t>关心献给他人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行楷简体"/>
              </a:rPr>
              <a:t>孝心献给父母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行楷简体"/>
              </a:rPr>
              <a:t>信心留给自己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 rot="556800">
            <a:off x="2476440" y="2506680"/>
            <a:ext cx="612000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16160" y="4437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5.0)">
                                      <p:cBhvr>
                                        <p:cTn id="338" dur="17838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07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904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08160" y="404640"/>
            <a:ext cx="8208720" cy="608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193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36520" y="404640"/>
            <a:ext cx="835200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138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36520" y="333360"/>
            <a:ext cx="842508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0958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4880" y="4568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方正剪纸简体"/>
              </a:rPr>
              <a:t>问题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28680" y="2420640"/>
            <a:ext cx="7777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剪纸简体"/>
              </a:rPr>
              <a:t>他们成功的秘诀是什么呢？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40160" y="3933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方正细珊瑚简体"/>
              </a:rPr>
              <a:t>自信与坚持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黑体"/>
              </a:rPr>
              <a:t>一、自信的重要性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4880" y="2781000"/>
            <a:ext cx="84200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6600"/>
                </a:solidFill>
                <a:latin typeface="微软简隶书"/>
                <a:ea typeface="微软简隶书"/>
              </a:rPr>
              <a:t>自信是向成功迈出的第一步</a:t>
            </a:r>
            <a:r>
              <a:rPr b="1" lang="en-US" sz="4800" spc="-1" strike="noStrike">
                <a:solidFill>
                  <a:srgbClr val="cc6600"/>
                </a:solidFill>
                <a:latin typeface="黑体"/>
                <a:ea typeface="黑体"/>
              </a:rPr>
              <a:t>!</a:t>
            </a:r>
            <a:r>
              <a:rPr b="1" lang="en-US" sz="3600" spc="-1" strike="noStrike">
                <a:solidFill>
                  <a:srgbClr val="cc66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                     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黑体"/>
              </a:rPr>
              <a:t>                                       ——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黑体"/>
              </a:rPr>
              <a:t>爱因斯坦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wheel spokes="1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黑体"/>
              </a:rPr>
              <a:t>二、自信的表现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99800" y="2923920"/>
            <a:ext cx="842004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</a:rPr>
              <a:t>看几幅漫画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402000"/>
                </a:solidFill>
                <a:latin typeface="Times New Roman"/>
              </a:rPr>
              <a:t>从中有什么启示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11:05:21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2000-02-18T07:34:09Z</cp:lastPrinted>
  <dcterms:modified xsi:type="dcterms:W3CDTF">2013-04-13T16:30:27Z</dcterms:modified>
  <cp:revision>109</cp:revision>
  <dc:subject>主题班会课件(分28大类): http://shop62905894.taobao.com</dc:subject>
  <dc:title>主题班会课件(分28大类): http://shop62905894.taobao.com</dc:title>
</cp:coreProperties>
</file>