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BF3-242C-4C02-B600-ECEBDAF9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18A-A542-471D-B17C-6D93170A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CC1-0B38-4DC5-8CEF-DB73E885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25E-BAED-41AC-9141-239E7FD9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DFA4-6B9C-42E7-B92D-62C171D8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5203-9391-4EBD-BCB0-0B1CC436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1F6B-2AC2-4178-BDE6-77D85377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2EC5-195F-4F47-8FCA-F1E94B7F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D50C-FCFE-4114-8679-91094B5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09C3-E4A4-4959-8BD5-EF4C67C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A79-5545-4F0B-9C94-6DDAD0A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F91-52E8-4D48-A574-23634F9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6EB-6AA6-4B7A-9E39-C33FAB5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E53E-11EB-4463-9033-B24683D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2B8F-5F86-4A6A-97C8-FC23964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AF80-B787-492E-822F-64BD26D5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B9DF-E3DF-4B3B-8988-CAA6D554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77F-ED76-46D4-89CD-3C9BCE9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CE5-6B2F-44C2-BDDF-7408BF9D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A9C-5893-4747-A9BB-7780EF91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F30-718C-48B9-8438-D8C73F2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4A4-8DFB-4522-8C0D-418FBA4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2B3-BA96-40F2-AFC5-DD70BE2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58F-71F2-46C6-9072-0C4D534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EBF-7166-4F52-963E-F96F0801C79F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1A89-CE0B-470D-A3DC-38119086C426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../../../&#20891;&#35757;&#27468;/&#24320;&#22823;&#33337;.DA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057400"/>
            <a:ext cx="86104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自信——成功的第一秘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高一（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）班主题班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561960"/>
            <a:ext cx="72392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2514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7a"/>
                </a:solidFill>
                <a:latin typeface="Arial Narrow"/>
                <a:ea typeface="永中黑体"/>
              </a:rPr>
              <a:t>合唱：</a:t>
            </a:r>
            <a:r>
              <a:rPr b="0" lang="zh-CN" sz="3600" spc="-1" strike="noStrike" u="sng">
                <a:solidFill>
                  <a:srgbClr val="b97c01"/>
                </a:solidFill>
                <a:uFillTx/>
                <a:latin typeface="Arial Narrow"/>
                <a:ea typeface="永中粗黑"/>
                <a:hlinkClick r:id="rId2"/>
              </a:rPr>
              <a:t>《众人划桨开大船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95280" y="380880"/>
            <a:ext cx="6324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Bookman Old Style"/>
              </a:rPr>
              <a:t>Thank you ! 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Bookman Old Style"/>
              </a:rPr>
              <a:t>      </a:t>
            </a:r>
            <a:r>
              <a:rPr b="1" lang="en-US" sz="7200" spc="-1" strike="noStrike">
                <a:solidFill>
                  <a:srgbClr val="660033"/>
                </a:solidFill>
                <a:latin typeface="Bookman Old Style"/>
              </a:rPr>
              <a:t>88 !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0" y="3220920"/>
            <a:ext cx="4191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4"/>
                </a:solidFill>
                <a:latin typeface="Arial Narrow"/>
              </a:rPr>
              <a:t>If you  want ,you can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 Narrow"/>
                <a:ea typeface="幼圆"/>
              </a:rPr>
              <a:t>我一直认为：如果一个人决心想获得成功，那么他就能得到成功！——林肯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600200"/>
            <a:ext cx="800100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aeaea"/>
                </a:solidFill>
                <a:latin typeface="Arial Narrow"/>
                <a:ea typeface="华文行楷"/>
              </a:rPr>
              <a:t>是</a:t>
            </a:r>
            <a:r>
              <a:rPr b="1" lang="zh-CN" sz="9600" spc="-1" strike="noStrike">
                <a:solidFill>
                  <a:srgbClr val="ffff00"/>
                </a:solidFill>
                <a:latin typeface="Arial Narrow"/>
                <a:ea typeface="华文行楷"/>
              </a:rPr>
              <a:t>自信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aeaea"/>
                </a:solidFill>
                <a:latin typeface="Arial Narrow"/>
                <a:ea typeface="华文行楷"/>
              </a:rPr>
              <a:t>让他们获得了成功！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0" y="1905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62320" y="42670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</a:rPr>
              <a:t>小品表演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62120"/>
            <a:ext cx="86104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自信——成功的第一秘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高一（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）班主题班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5335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9092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Narrow"/>
                <a:ea typeface="永中粗黑"/>
              </a:rPr>
              <a:t>自卑：过低地评价自己，看不到自己的优点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514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Narrow"/>
                <a:ea typeface="永中粗黑"/>
              </a:rPr>
              <a:t>自大：过高地评价自己，看不到自己的缺点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114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Narrow"/>
                <a:ea typeface="永中粗黑"/>
              </a:rPr>
              <a:t>自信：恰当地评价自己的优缺点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200" y="342900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7a"/>
                </a:solidFill>
                <a:latin typeface="Arial Narrow"/>
                <a:ea typeface="永中粗黑"/>
              </a:rPr>
              <a:t>自我评价：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57200"/>
            <a:ext cx="86108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自信——成功的第一秘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高一（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）班主题班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44792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00"/>
                </a:solidFill>
                <a:latin typeface="Arial Narrow"/>
                <a:ea typeface="永中楷体"/>
              </a:rPr>
              <a:t>诗朗诵：</a:t>
            </a:r>
            <a:r>
              <a:rPr b="1" i="1" lang="zh-CN" sz="7200" spc="-1" strike="noStrike">
                <a:solidFill>
                  <a:srgbClr val="990000"/>
                </a:solidFill>
                <a:latin typeface="Arial Narrow"/>
                <a:ea typeface="永中楷体"/>
              </a:rPr>
              <a:t>《如果你认为》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00"/>
                </a:solidFill>
                <a:latin typeface="Arial Narrow"/>
                <a:ea typeface="永中楷体"/>
              </a:rPr>
              <a:t>                   </a:t>
            </a:r>
            <a:r>
              <a:rPr b="1" i="1" lang="zh-CN" sz="4000" spc="-1" strike="noStrike">
                <a:solidFill>
                  <a:srgbClr val="990000"/>
                </a:solidFill>
                <a:latin typeface="Arial Narrow"/>
                <a:ea typeface="永中楷体"/>
              </a:rPr>
              <a:t>表演——王菲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620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04920"/>
            <a:ext cx="86104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自信——成功的第一秘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高一（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）班主题班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5812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cc66ff"/>
                </a:solidFill>
                <a:latin typeface="Arial Narrow"/>
                <a:ea typeface="永中黑体"/>
              </a:rPr>
              <a:t>小组抢答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057400"/>
            <a:ext cx="86104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自信——成功的第一秘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高一（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cc66ff"/>
                </a:solidFill>
                <a:latin typeface="Times New Roman"/>
              </a:rPr>
              <a:t>）班主题班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5:38Z</dcterms:modified>
  <cp:revision>4</cp:revision>
  <dc:subject>主题班会课件(分28大类): http://shop62905894.taobao.com</dc:subject>
  <dc:title>主题班会课件(分28大类): http://shop62905894.taobao.com</dc:title>
</cp:coreProperties>
</file>