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634-70F1-4D3C-B992-68A1AF08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C41-8176-40F5-871E-AEDDCAB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83F-8656-41FF-8D32-EB1C4B98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BD7-1D75-49B6-9330-3AAC05CC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25FD-EDA4-41DA-B2E2-FA06BE4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433D-F357-4F46-A806-D9DFBE2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6FA1-0D9E-456F-A420-AE82082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5DB2-F434-4BA6-A33E-92626B5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8D2-3671-4748-8442-8501637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6F5-0B0A-4A07-A5BD-601D6292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B8D-5E4C-4A47-A522-FE657DB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A6C-3973-4F48-8DF7-1A3D0DC3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BF5-458D-45A7-99ED-F8772A4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021D-3D47-4DB8-A9C8-6682075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D68-1D7F-4C21-880A-E2C1702B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4BE-7F67-46C9-A8A1-9A8ADA30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BAC9-A7EE-4319-968C-051D21CC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6C-49B4-4BE8-911C-4BDBB43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2AB-2C53-484B-8D4B-B9AFDE58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4B9-4CB0-4685-8D7D-577A3D7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3C0-2CFE-47FA-A2AF-71D98662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9E3-49AF-4840-BC90-6A7D355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18E-9ACD-4766-B952-9AC3978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D63-A1D1-4EDA-A1A7-872B495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BE4-F80A-4EC7-9FA2-8857A557B1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9A0-229D-400F-A81D-CDB4083FEE4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readnovel.com/article/htm/tid_51278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3068640"/>
            <a:ext cx="88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编写自己的神话创造自己的奇迹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557360"/>
            <a:ext cx="82087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很多思路敏锐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天资高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在参与讨论是无法发挥他们的长处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这并非他们不想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而是因为他们缺少信心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他们总是认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我的话无足轻重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别人不会采纳的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如果说出来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别人也会觉得太愚蠢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我最好什么也不说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而且其他人可能比我懂得多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我并不想让他们知道我是这么无知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还有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心里总是说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;“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下一个就是我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我要发言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可是当前者发言完毕时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它又不敢马上站出来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于是告诉自己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:”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下一次吧“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白白的将机会让给别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积极发言需要你有自信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一旦你有了机会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就要不惜代价抓住它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该说就说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不用考虑你再说什么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只要你敢说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拿出你的自信来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这样一次又一次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你的自信会不断增长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这是信心的”维他命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692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76280"/>
            <a:ext cx="25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练习当众发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413000"/>
            <a:ext cx="751356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会赞扬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自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自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自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信是保持愉快情绪的重要条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信来自于对自我的正确认识和评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感觉到为别人所赞赏和具有责任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适当的赞美自己也有助于增强自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增添快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如国外流行的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秒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R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法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PRIDE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缩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就是每天用一分钟大声讲述的优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着镜子表扬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增强自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84200" y="457200"/>
            <a:ext cx="1826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观音”之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05880" y="1125360"/>
            <a:ext cx="16426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生命之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99240" y="1341360"/>
            <a:ext cx="10033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央视春晚中，人们熟记了一张美丽的面孔，也记住了一个名字——邰丽华，作为千手观音的领舞，她和她的同伴让世界都为这个舞蹈而动容，更为残疾人的特有精神而赞叹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邰丽华两岁时，因一次高烧失去了听力。没过多久，她甜美的歌喉也关闭了。那以后，她陷入了无声世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邰丽华只身到武汉上中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那年，中国残疾人艺术团的艺术家们挑中了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进团的那会儿，她的舞蹈基本功是最差的，甚至连踢腿都不会。老师考验她的第一个舞就是《雀之灵》。毫无疑问，对于没有专业基础的邰丽华来说，这几乎是一个天堑。压腿不到位，提腿不准确，手位不协调——在老师看来，她关于舞蹈的一切似乎都不尽如人意，尽管邰丽华已付诸努力。最后，老师干脆将她一个人扔在了排练室里，自己拂袖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1440" y="501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管怎样，一切困难在她眼里都是正常的，外面的惊涛骇浪在她心中都只是一汪静水，无法阻止她继续跳舞。起初她只能原地转几个圈，半个月以后就转到二三百圈，这让老师对她重新燃起了希望。一曲《雀之灵》有多少节拍，她没有仔细计算过，但老师作过一次测试，邰丽华凭着感觉舞完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个节拍，竟丝丝入扣。她唯一的方法就是记忆、重复、再记忆，到最后她心里已经有了一支永远随时为她响起的乐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以后她每天都要挤时间练舞蹈，练得身上总是青一块、紫一块，为此，她在夏天总是捂着一条长裤子，有一天，妈妈趁女儿午睡时，悄悄地卷起她的长裤，震惊地发现女儿腿上伤痕累累，母亲心疼得哭了，而邰丽华却笑着指着自己的胸口告诉母亲：“我喜欢跳舞，一点儿不觉疼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是凭着这种执著和天赋，邰丽华在众多的舞者中脱颖而出，创造了她的奇迹，她获得了一个又一个的舞蹈大奖，还获得了著名舞蹈家杨丽萍的赏识与指导。当杨丽萍亲眼看见邰丽华跳《雀之灵》时，感到无比惊讶：“我创编了《雀之灵》这么多年，如果听不见音乐，我都不知道自己还能不能跳出那种味道来，而你竟然跳得这么好，真不简单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她情不自禁地为邰丽华做起示范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生命的价值在于不断追求，舞蹈使邰丽华品尝到无穷的欢乐，但她知道，在现代化的今天，知识对于一个人的重要。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岁那年，她给自己定下新的目标：上大学。于是她又将自己练舞的倔劲放在学习文化课上，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1994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年她又编写了自己的神话，如愿以偿地考取了湖北美术学院装潢设计系，成为了一名大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　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962520" cy="6400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952880" y="1447920"/>
            <a:ext cx="358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每次起舞的时候，我的内心都特别沉静，一种巨大的沉静，没有任何杂念，自己也自然地闭上了嘴去微笑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           ——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邰丽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252360" y="1916280"/>
            <a:ext cx="871200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驾驭好心态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99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95640" y="404640"/>
            <a:ext cx="4321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二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5300640"/>
            <a:ext cx="791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学生现状分析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137160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77080" y="14130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19320" y="403848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latin typeface="宋体"/>
              </a:rPr>
              <a:t>A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9000" y="40384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latin typeface="宋体"/>
              </a:rPr>
              <a:t>B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562720" y="403848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latin typeface="宋体"/>
              </a:rPr>
              <a:t>C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72400" y="40384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latin typeface="宋体"/>
              </a:rPr>
              <a:t>D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5640" y="155736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43640" y="1197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23004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33360"/>
            <a:ext cx="777708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驾驭好自己的心态，首先就要认识好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笑对挫折。人生本来就是成功与失败，痛苦与欢乐的协奏曲；没有挫折的人生是不完美的人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在人生的道路上，我们无法次次都赢，但我们绝不躺下输给自己，我们不为失败找借口，只为成功找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善于调节情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买一个日记本，向自己倾诉，假如没有别人为自己喝彩，那么这个世界上至少还有你。请自己为自己加油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8920" y="2924280"/>
            <a:ext cx="6626160" cy="489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心动不如行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050920" y="54936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_x000b__x000c_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700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413000"/>
            <a:ext cx="914400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梦里走了很多路，醒来却在床上。成功                   始于心动，成于行动，行动的实质就是坚持不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行动不一定会成功，但不行动则一定不会成功。任何好的想法，只有通过脚踏实地的行动，才有可能变成事实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） 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昨天是一张兑现了的支票，明天是一张期票，而只有今天才是可用的现金。 所以，行动贵在抓住今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30268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一片雪花的重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告诉我一片雪花的重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一只知更鸟问一只野鸽，野鸽回答是“微不足道”。那么，让我来给你讲述一个不平常的故事。知更鸟说道：我飞落在一棵冷彬的树枝上，紧紧挨着树干，这时下起下了雪，小瓣，小瓣的雪花缓缓的降落，我无事可做，于是就数起了飘落在我栖息的树枝上的雪花，确切的数字是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141254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。当又一片微不足道的雪花飘落在树枝上时，枝条折断了；说完知更鸟便飞走了，鸽子沉思了一会，自言自语道，也许只差一个人的力量，和平就会来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20500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655640"/>
            <a:ext cx="8161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平时所付出的一点一滴的努力，不正像是一片看似微不足道的雪花吗？它毫无声息的降落，积累，沉淀。急功近利的人看不到切实的功效，会认为所付出的得不到回报而轻易放弃，那么，成功之门永远不会向他敞开，相反，如果坚持不懈，在不知不觉间，一点一滴的积累就会有成果出现，也许就是那一片雪花，便能找到开启胜利之门的钥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每天多做一点点，就是领先的开始。每天进步一点点，就是成功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每天创新一点点，就是卓越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别人放弃，我坚持；别人后退，我前进。眼前没有光明与希望，我依然努力前行，成功就一定会属于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  </a:t>
            </a:r>
            <a:r>
              <a:rPr b="1" lang="zh-CN" sz="28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少一些虚度、多一些充实。少一些吵闹、多一些安静 少一些粗心、多一些细心；少一些懈怠、多一些努力；少一些沮丧、多一些振奋；少一些抱怨，多一些面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15573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四  六六工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五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      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要想成功，首先我们需要一个明确具体的人生目标。目标，对人生有导向作用。有了目标，我们做起事来就有了热情、有了积极感，更会有一种使命感。没有做不到的，只有想不到的，让我们大声说出我们的目标和自己的竞争对手。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我们知道只有热情是不够的，成功离不开努力拼搏，持之以恒。俗话说，世上无难事，只怕有心人，想成就大事业，要有坚忍不拔的意志和百折不挠的精神。一个人之所以成功，不是上天赐予你的，是日积月累自我塑造的。因此，做事不能存在侥幸心理，成功永远属于勤奋刻苦、坚持到底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咱高四的人，有啥不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只因为我们都落榜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咱高四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有啥不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自从离开家乡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就愧见爹娘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说不一样其实也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都是青春的年华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都是热血儿郎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说不一样其实也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一样的足迹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留给山高水长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咱高四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就是不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头顶着日月星光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身披着雪雨风霜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咱高四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就是不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为了我们的未来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我们勇敢往前创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说不一样其实也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都在渴望辉煌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都在赢得荣光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说不一样其实也一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一样的风采在校园里的旗帜上飞扬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咱高四的人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就是这个样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596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408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7400" y="304920"/>
            <a:ext cx="5493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23623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雄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就该展翅高飞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1197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等生的忧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2133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等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忧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068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刚上线学生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860640"/>
            <a:ext cx="54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上下波动的学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479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烦恼，很开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314172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34320" y="3124080"/>
            <a:ext cx="95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4.4%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77080" y="2276640"/>
            <a:ext cx="1143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72.7%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04000" y="1268280"/>
            <a:ext cx="12240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16.4%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6891480" y="42102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400536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948360" y="3933720"/>
            <a:ext cx="95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4.4%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1371600"/>
            <a:ext cx="5715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谢谢大家！</a:t>
            </a:r>
            <a:endParaRPr b="1" lang="en-US" sz="4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在漫漫人生征途中，谁都免不了经历风霜雨雪，走上崎岖不平的道路，在这种时刻，我们首先必须战胜自己，作为一名准大学生，面临又一年的严峻挑战，我们应重新振作，相信自己，刻苦努力，为下一次成功添上坚实而有力的一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989000"/>
            <a:ext cx="727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5084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013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2205000"/>
            <a:ext cx="889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自信是走向成功的第一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60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信是成功的奠基石，是动力的源泉，它促使我们一直到达理想的目的地，并且拥有了战胜困难的勇气。一个人挑战自己，靠的不是投机取巧、耍小聪明，靠的是自信。一个人放弃了自信等于主动承认失败。但过分自信，所谓自我感觉过分良好，同样会导致失败的深渊。因而，每次考验我们都应展现出最佳状态，这就是自信的表现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志者，事竟成，破釜沉舟，百二秦关终属楚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苦心人，天不负，卧薪尝胆，三千越甲可吞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中国古代以少胜多的战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巨鹿之战 项羽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2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万——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40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万 歼灭      楚汉战争</a:t>
            </a:r>
            <a:br>
              <a:rPr sz="2000"/>
            </a:b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赤壁之战 周瑜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5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万——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20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余万 为三国鼎立奠定了基础 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淝水之战 谢玄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8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万——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97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万 苻坚败至洛阳，仅剩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10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余万 </a:t>
            </a:r>
            <a:br>
              <a:rPr sz="2000"/>
            </a:b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虎牢之战 李世民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3500——10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余万 歼灭窦建德 </a:t>
            </a:r>
            <a:br>
              <a:rPr sz="2000"/>
            </a:b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浑河之战 努尔哈赤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4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人——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800 </a:t>
            </a: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奇迹 </a:t>
            </a:r>
            <a:br>
              <a:rPr sz="2000"/>
            </a:br>
            <a:r>
              <a:rPr b="1" i="1" lang="zh-CN" sz="20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88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52000"/>
            <a:ext cx="9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44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种战役的要求有两条：一是沉着，二是智谋超群。 此外，军民同仇敌忾也是非常重 要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63640" y="1844640"/>
            <a:ext cx="61722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新魏"/>
              </a:rPr>
              <a:t>拥抱自信，放飞生命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8400" y="89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47628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拥抱自信放飞理想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10352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如何建立自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534520" cy="37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练习正视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个人的眼神可以透漏出许多有关他的信息。正视会告诉对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很诚实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明正大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话是真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完全可以信任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要让你的眼睛为你工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不但是你增加自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也为你赢的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224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隶书"/>
              </a:rPr>
              <a:t>2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把步速加快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观察人的走路是一种乐事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它比看电影要省钱的多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但却有着比电影还大的启发性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许多心理学家认为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: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懒散的姿势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缓慢的步伐跟随自己和别人的不愉快感受是联系在一起的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但是借助 步速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可以改变这种心理状态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仔细看你会发现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那些受打击的人走路拖拉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没有自信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而胸有成竹的人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走在大街上也是昂首阔步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它告诉人们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:“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我是一个成功者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.”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抬头挺胸走快一点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,</a:t>
            </a:r>
            <a:r>
              <a:rPr b="1" lang="zh-CN" sz="2800" spc="-1" strike="noStrike">
                <a:solidFill>
                  <a:srgbClr val="6767ff"/>
                </a:solidFill>
                <a:latin typeface="Arial Black"/>
                <a:ea typeface="隶书"/>
              </a:rPr>
              <a:t>你就会感到自信心在增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2:23:10Z</dcterms:created>
  <dc:creator>Billgate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0:15Z</dcterms:modified>
  <cp:revision>101</cp:revision>
  <dc:subject>主题班会课件(分28大类): http://shop62905894.taobao.com</dc:subject>
  <dc:title>主题班会课件(分28大类): http://shop62905894.taobao.com</dc:title>
</cp:coreProperties>
</file>