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9E1-A0A8-43F5-BBC2-09FADDEF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249-7FF9-4E4D-A8F9-2792AD7C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1FA-87AF-476B-AB3F-A056A1AE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867-CA53-46D0-BC3A-67B60297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F5BC-9620-4A73-90C1-AD61C2B9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D7BF-7540-4E22-A93F-282717E9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47E6-8D19-4C48-B168-CE6CCEED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3D43-ADF3-4FBC-B368-BBC8A246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9939-97DF-472F-A0D9-4328EAFE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688A-6AA4-461A-AD5A-3FEE15F9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FF4D-9D04-498C-8D26-129EBDC4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6A3-981B-4D06-9467-1BB8A7E6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0BB4-F744-4E48-9F0F-68C01B06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E3AE-5C5A-480F-A525-8B3DD8E9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AAAD-EE55-4E6A-9D3D-733A22BB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06EF-EC02-4D14-972D-388629F1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CC7C-8BBF-435F-B9CC-3E4675EE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8D4-440C-41A1-A8EF-B7C330A4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9FA-1344-44E0-8955-7929CECE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5B3-AC7B-40F0-B82E-06FC8844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F34-91E9-4A1C-9935-7ACFDA36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4DE-CE41-49B1-8B1D-7E850078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01F-7D30-404A-8D3E-3D795DE2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6BE-9ED1-4080-B60B-94E970F6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7ED8-80E5-4B67-80AE-1C9BD99385B3}" type="slidenum">
              <a:rPr b="0" lang="zh-TW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F4FD-38C2-4930-BF88-F9D8C5D5489E}" type="slidenum">
              <a:rPr b="0" lang="zh-TW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ff"/>
                </a:solidFill>
                <a:latin typeface="Times New Roman"/>
              </a:rPr>
              <a:t>細節決定成敗</a:t>
            </a:r>
            <a:br>
              <a:rPr sz="4400"/>
            </a:br>
            <a:r>
              <a:rPr b="0" lang="zh-TW" sz="4400" spc="-1" strike="noStrike">
                <a:solidFill>
                  <a:srgbClr val="ff00ff"/>
                </a:solidFill>
                <a:latin typeface="Times New Roman"/>
              </a:rPr>
              <a:t>Detail is the Key of Success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ff"/>
                </a:solidFill>
                <a:latin typeface="Times New Roman"/>
              </a:rPr>
              <a:t>細節決定成敗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透過小事看人，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成為評價一個人的最重要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的方式之一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ff"/>
                </a:solidFill>
                <a:latin typeface="Times New Roman"/>
              </a:rPr>
              <a:t>細節決定成敗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小事成就大事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細節成就完美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ff"/>
                </a:solidFill>
                <a:latin typeface="Times New Roman"/>
              </a:rPr>
              <a:t>細節決定成敗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差錯發生在細節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成功取決於系統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ff"/>
                </a:solidFill>
                <a:latin typeface="Times New Roman"/>
              </a:rPr>
              <a:t>細節決定成敗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關照小事，成就大事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任何大事都是從小事入手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ff"/>
                </a:solidFill>
                <a:latin typeface="Times New Roman"/>
              </a:rPr>
              <a:t>細節決定成敗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694872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精益求精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盡善盡美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一絲不苟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細緻周到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ff"/>
                </a:solidFill>
                <a:latin typeface="Times New Roman"/>
              </a:rPr>
              <a:t>細節決定成敗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戰略上，舉重若輕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戰術上，舉輕若重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</a:rPr>
              <a:t>再好的戰略，也得落實每個細節的執行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ff"/>
                </a:solidFill>
                <a:latin typeface="Times New Roman"/>
              </a:rPr>
              <a:t>細節決定成敗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從大處著眼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從小處著手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ff"/>
                </a:solidFill>
                <a:latin typeface="Times New Roman"/>
              </a:rPr>
              <a:t>細節決定成敗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認真做事，只是把事情做對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用心做事，才能把事情做好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ff"/>
                </a:solidFill>
                <a:latin typeface="Times New Roman"/>
              </a:rPr>
              <a:t>細節決定成敗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「功虧一簣」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1%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的錯誤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100%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的失敗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</a:rPr>
              <a:t>任何對細節的忽視，</a:t>
            </a:r>
            <a:endParaRPr b="0" lang="en-US" sz="3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</a:rPr>
              <a:t>都可導致決策的失誤</a:t>
            </a:r>
            <a:endParaRPr b="0" lang="en-US" sz="3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276720"/>
            <a:ext cx="838080" cy="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ff"/>
                </a:solidFill>
                <a:latin typeface="Times New Roman"/>
              </a:rPr>
              <a:t>細節決定成敗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一心渴望偉大，追求偉大，偉大卻了無</a:t>
            </a: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宋体"/>
              </a:rPr>
              <a:t>踪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影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;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甘於平淡，認真做好每個細節，偉大卻不期而至。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ff"/>
                </a:solidFill>
                <a:latin typeface="Times New Roman"/>
              </a:rPr>
              <a:t>細節決定成敗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把每一件節單的事做好，就是不簡單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</a:rPr>
              <a:t>把每一件平凡的事做好，就是不平凡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7:21:07Z</dcterms:created>
  <dc:creator>tcss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2004-09-06T08:03:09Z</cp:lastPrinted>
  <dcterms:modified xsi:type="dcterms:W3CDTF">2013-04-13T16:05:54Z</dcterms:modified>
  <cp:revision>21</cp:revision>
  <dc:subject>主题班会课件(分28大类): http://shop62905894.taobao.com</dc:subject>
  <dc:title>主题班会课件(分28大类): http://shop62905894.taobao.com</dc:title>
</cp:coreProperties>
</file>